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5040" cy="12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C8B6-2202-4D2E-9DC8-A0AE3BC19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320" y="391788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B91D-4D02-4EAD-9FBF-402F87A05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320" y="391788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6840" y="391788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1504-F516-4DFB-A47C-AEDFEAA2C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2520" y="17712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19080" y="17712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320" y="391788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2520" y="391788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19080" y="391788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AD5E-36F1-4AFC-AF35-F810545C0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1616C-7238-43C4-9DF8-02FC6CCEA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320" y="177120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88FF1-3172-4948-B3DC-E2E77E45F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44CCB-3D9F-4A0D-8BE9-7A2C2C4C7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00AC2-4754-4202-82F9-506703F9E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C3B79-3AB1-4CBE-9B40-62E670818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320" y="254160"/>
            <a:ext cx="7767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9840" indent="-33984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EFF9A-0346-4EC7-9372-9B1BADD7C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320" y="391788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18982-6BE3-4900-8D3F-DE290E58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320" y="177120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8100-7E3F-42F3-BF68-3BA5A2C29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6840" y="391788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E7B74-7477-415C-AFA4-D43D8DB9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391788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FF973-9D37-4A25-AAB6-4FCCEC2B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320" y="391788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3747C-8C0F-4E3B-9B68-D4E4334DB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320" y="391788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6840" y="391788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33116-B4AF-4784-B093-246504636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2520" y="17712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19080" y="17712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320" y="391788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2520" y="391788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19080" y="391788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A745A-641E-4EA0-8F7B-4CD3E4B04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E980-1EC6-4D3D-A328-A22CCE90E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E1DA-D2B2-41B1-8218-C46112AB2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E80E-35F2-4443-B1C6-190CC538E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320" y="254160"/>
            <a:ext cx="7767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9840" indent="-33984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A762-C5AF-44A4-811F-A4043B9EA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391788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E850-9368-449C-96B3-25846926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6840" y="391788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4273-44EA-4B50-BD89-FA073D32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320" y="391788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D065-110F-4B1A-9CDF-C2290932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4760" cy="6743880"/>
            <a:chOff x="0" y="50760"/>
            <a:chExt cx="8924760" cy="674388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4760" cy="6743880"/>
              <a:chOff x="0" y="50760"/>
              <a:chExt cx="8924760" cy="6743880"/>
            </a:xfrm>
          </p:grpSpPr>
          <p:sp>
            <p:nvSpPr>
              <p:cNvPr id="2" name=""/>
              <p:cNvSpPr/>
              <p:nvPr/>
            </p:nvSpPr>
            <p:spPr>
              <a:xfrm>
                <a:off x="528480" y="201600"/>
                <a:ext cx="8396280" cy="6465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30640"/>
                <a:ext cx="104148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480" y="1542960"/>
              <a:ext cx="7742160" cy="4802400"/>
              <a:chOff x="1149480" y="1542960"/>
              <a:chExt cx="7742160" cy="48024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480" y="1542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480" y="1771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480" y="2000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480" y="2228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480" y="2457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480" y="2685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480" y="2914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480" y="3143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480" y="3371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480" y="3600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480" y="3828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480" y="4057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480" y="4286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480" y="4514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480" y="4743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480" y="4971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480" y="5200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480" y="5429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480" y="5657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480" y="5886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480" y="6114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480" y="6343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320" y="177120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6240" indent="-336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6240" indent="-336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6240" indent="-336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6240" indent="-336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6240" indent="-336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6240" indent="-336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480" y="6156000"/>
            <a:ext cx="190008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5320" y="6156000"/>
            <a:ext cx="2890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4320" y="6156000"/>
            <a:ext cx="190008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7E4704-E44C-4F39-A7C3-B9E1669B935D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911240"/>
            <a:ext cx="7716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080" y="6113160"/>
            <a:ext cx="19256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5720" y="6113160"/>
            <a:ext cx="28400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09920" y="6113160"/>
            <a:ext cx="18241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6F1FDE0-8B59-4D3B-B6D4-337966F833B0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339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840" indent="-339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840" indent="-339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840" indent="-339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840" indent="-339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840" indent="-339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738000"/>
            <a:ext cx="77216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Регулирование отраслевых рынков</a:t>
            </a:r>
            <a:br>
              <a:rPr sz="3600"/>
            </a:b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900000" y="1798560"/>
            <a:ext cx="792504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39840" indent="0" algn="just">
              <a:spcBef>
                <a:spcPts val="799"/>
              </a:spcBef>
              <a:buNone/>
              <a:tabLst>
                <a:tab algn="l" pos="0"/>
                <a:tab algn="l" pos="3398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Цели отраслевой политики государств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just">
              <a:spcBef>
                <a:spcPts val="799"/>
              </a:spcBef>
              <a:buNone/>
              <a:tabLst>
                <a:tab algn="l" pos="0"/>
                <a:tab algn="l" pos="3398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Антимонопольная политика государств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just">
              <a:spcBef>
                <a:spcPts val="799"/>
              </a:spcBef>
              <a:buNone/>
              <a:tabLst>
                <a:tab algn="l" pos="0"/>
                <a:tab algn="l" pos="3398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Особенности антимонопольной политики в различных страна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3398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1.Антимонопольная политика в странах Е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3398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2. Антимонопольная политика в Росс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3398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3. Антимонопольная политика в СШ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0938E-D67B-4E8D-8853-AC15A982D41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Пассивная защитная отраслевая политика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1800360"/>
            <a:ext cx="7772400" cy="43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сновная цель  - борьба с монополиями, деятельность которых приводит к неэффективному размещению ресурсов и создает потери общественного благосостояни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антимонопольное регулирование, контроль над горизонтальными и вертикальными слияниями и поглощениями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9A40-F600-42EC-95F0-AB08CFF4A5C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239760"/>
            <a:ext cx="777240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еобразовательная пассивная отраслевая политика (концепция “благоприятного экономического климата”)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720" y="2340000"/>
            <a:ext cx="77724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Предполагает не просто ограничение и борьбу с монопольной властью, но и содействие конкретным типам экономической активности.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пример, налоговые и финансовые льготы для мелких и средних предприятий не укладываются в рамки собственно антимонопольного регулирования, но безусловно содействуют развитию конкурен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85A6-BA72-4ABA-B298-AD2004646EA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ктивная защитная отраслевая политик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существление мероприятий, имеющих конкретную направленность, но  целях предотвращения тех или иных решений фирм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мером может послужить протекционистская внешнеторговая политика, оказывающая существенное воздействие на развитие отраслевых структу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D270-F987-48DE-8653-78340A6C1DD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Активная преобразовательная политика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существление мероприятий, имеющих как общее, так и конкретное направление, в том числе и воздействующих на решения экономических субъектов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Такова отраслевая политика в любой реформируемой экономике. Данная отраслевая политика оказывает наиболее существенное влияние - как положительное, так и отрицательное, - на развитие экономической системы в целом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4D88-EFB8-4C21-8346-693BDBD7F20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179280"/>
            <a:ext cx="7772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2. Цели антимонопольной политики государства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777240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беспечение эффективности производства и распределения ресурсов в экономик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редотвращение или ликвидация нежелательных рыночных структур и нежелательного поведения экономических агентов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- то есть таких ситуаций, которые рассматриваются как нарушающие общественное благосостояние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омощь одним группам экономических агентов за счёт других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(например, содействие малым фирмам в их конкуренции с крупными, независимо от их эффективности, или фирмам одних отраслей по сравнению с другими сферами деятельности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F21E-25AF-443A-A14D-9022907B47D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7600" y="179280"/>
            <a:ext cx="77724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законные действий фирм согласно традиционной антимонопольной политик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00000" y="1714320"/>
            <a:ext cx="7772400" cy="45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 фиксирование продажных цен, тайное и явное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ограничения покупки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) ограничения продажи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) связанные продажи - продажа одного товара клиенту при условии, что он покупает какой-либо еще продукт данной фирмы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) недобросовестная реклама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) недобросовестная маркировка товар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) вертикальные или горизонтальные ограничения конкуренци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5CF5-9A13-4AB9-B5DB-74F006FB974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271440"/>
            <a:ext cx="777240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3. Особенности антимонопольной политики в различных странах.</a:t>
            </a:r>
            <a:br>
              <a:rPr sz="32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1.Антимонопольная политика в странах ЕС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47600" y="2340000"/>
            <a:ext cx="7772400" cy="52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 запрет монополий в Европе мало распространен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в основном происходит регулирование монополий и доминирующих фир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) при проведении отраслевой политики активно используется концепция “эффективной конкуренции” - конкуренции, которая способствует структурной перестройке национальной экономик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 algn="just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 algn="just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 algn="just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D973-9251-4363-A2CA-B7DC77D33ACF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101520"/>
            <a:ext cx="777240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новой регулирующих мероприятий стран-членов Европейского Сообщества является Римский договор, который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7600" y="2033640"/>
            <a:ext cx="77724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ещает картели и другие ограничительные соглашения между фирмами (ст. 85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уждает злоупотребления доминирующим положением на рынке (ст. 86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усматривает регулирование слияний, запрет слияний, которые могут создать доминирующее положение для данной фирм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ещает государственную помощь фирмам, которая искажает торговлю между странами (ст. 92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3DDB-D779-4D92-9732-099A3D3DEB80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Антимонопольная политика в Латвии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00000" y="1079280"/>
            <a:ext cx="7740720" cy="54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Цель государственной отраслевой политики Латвии - защита, сохранение и развитие свободной, честной и равной конкуренции в интересах общества во всех отраслях народного хозяйства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, ограничивая рыночную концентрацию и не допуская недобросовестной конкуренции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Основной регулирующий орган - Совет по конкуренции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Основные задачи Совета по конкуренции касаются надзора за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лоупотреблениями доминирующим положением на рынк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добросовестной конкуренцией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лияниями и объединениями, запрещенными  законом, другими нормативными актами и международными договорам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граничением рыночной концентрац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7E02-5EA4-4631-98FA-6331F1E94675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15840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Германии  органами проведения отраслевой политики являются:</a:t>
            </a:r>
            <a:endParaRPr b="0" lang="en-US" sz="2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99640" y="1079640"/>
            <a:ext cx="8077320" cy="56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инистерство экономики; федеральный орган по картелям; антимонопольный комитет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тролю подвергаются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обретения активов предприятия полностью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обретение долей акций фирмы, в размерах 25, 50 и более процентов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юбая сделка, в результате которой фирма приобретает прямой или косвенный контроль над предприятием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юбая сделка, включая приобретение менее 25 процентов акций предприятия, если это дает возможность фирме-покупателю влиять на конкурентное поведение другой фирм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ирма (или группа фирм) рассматривается как доминирующая на рынке если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ля одной фирмы 1/3 рынка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ля рынка у трёх фирм не менее 50 процентов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ля рынка у пяти фирм не менее, чем 2/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3A92-8556-415D-8BF9-DC01D7FD413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88800"/>
            <a:ext cx="7772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Основная функция государственной отраслевой политики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79640" y="1800360"/>
            <a:ext cx="7772400" cy="45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сударство определяет правила, по которым совершаются деловые операции экономических агентов, оказывает воздействие на потоки товаров и ресурсов в экономике, поддерживает или препятствует той или иной деятельности индивидов и институтов экономической систем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7055-6BFF-4CFF-AB76-39CFF3B0F43C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2602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В Великобритании органами контроля при проведении антимонопольной политики являются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39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инистерство торговли и промышленности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митет по слияниям и монополиям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митет по свободной торговле (наблюдает за проведением конкурентной политики, проводит предварительное расследование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ритерием доминирования на рынке служит доля фирмы в 25 процентов рынка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83CF-8570-4004-9602-B62FCCC258DA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45600"/>
            <a:ext cx="7772400" cy="10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 Франции органами регулирования отраслевых структур являются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миссия по конкуренции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нистерство экономи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нако, в целом   “антимонопольную” политику Франции скорее можно назвать  “промонопольной”. Политика правительства направлена на стимулирование слияний, поощрение НИОКР, производство на экспорт, поскольку предполагается, что крупные предприятия могут способствовать развитию высоких технологий и повышению конкурентоспособности отечественных товаров как на внутреннем, так и на внешнем рынк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39D4-B7DA-4EAD-BC16-630133E8527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264960"/>
            <a:ext cx="7772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3.1. Антимонопольная политика в России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вый вариант антимонопольного законодательства в России - закон “О конкуренции и ограничении монополистической деятельности на товарных рынках” - был принят в 1991 году.  Он базировался на принципах конкурентной политики, изложенных в Римском договоре ЕС (ст. 85 и 86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тимонопольный орган - Государственный комитет Российской Федерации по антимонопольной политике и поддержке новых экономических структур (ГКАП),  а в настоящее время это Федеральная антимонопольная  служба (ФАС)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56F2-5EE7-492C-9ED7-67D8E2A27885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йствия фирмы, которые запрещаются антимонопольным законодательством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8153280" cy="50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зъятие товаров из обращения с целью создания или поддержания дефицита на рынке либо для повышения цен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вязывание контрагенту условий договора, не выгодных для него или не относящихся к предмету договора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ключение в договор дискриминирующих условий, которые ставят контрагента в неравное положение по сравнению с другими экономическими субъектами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гласие заключить договор лишь при условии внесения в него положений, касающихся товаров, в которых потребитель не заинтересован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FD3D-CB64-4C2F-9BDB-14336CE0C6DD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79640" y="37800"/>
            <a:ext cx="777240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йствия фирмы, которые запрещаются антимонопольным законодательство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00000" y="1246320"/>
            <a:ext cx="77724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здание препятствий доступу на рынок или выходу с рынка другим фирмам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рушение установленного нормативными актами порядка ценообразования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становление монопольно высоких или монопольно низких цен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кращение или прекращение производства товаров, на которые имеется спрос или заказы потребителей при наличии возможности их безубыточного производства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еобоснованный отказ от заключения договора с отдельными покупателями при наличии возможности производства или поставки соответствующего товар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1EC2-F2EC-4144-99A9-C9E37FEF71CC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264960"/>
            <a:ext cx="7772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личественные показатели структуры товарного рынка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79280" y="1619280"/>
            <a:ext cx="7592760" cy="41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 соответствии с различными значениями коэффициентов концентрации и индексов Герфиндаля-Хиршмана в России выделяются три типа рынка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I тип - высококонцентрированные рынки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 70 проц. &lt; CR-3 &lt; 100 проц.; 2000 &lt; HHI &lt; 1000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II тип - умеренно концентрированные рынки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 45 проц. &lt; CR-3 &lt; 70 проц.; 1000 &lt; HHI &lt; 2000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III тип - низкоконцентрированные рынки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 CR-3 &lt; 45 проц.; HHI &lt; 1000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8347-5FC3-4A61-932C-EB8A3DCA03F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8064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Действия антимонопольных органов для высококонцентрированных рынков: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040" y="1440000"/>
            <a:ext cx="8001000" cy="50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разработка отраслевых программ демонополизации, контроль за их реализацией;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контроль за рыночным поведением хозяйствующих субъектов, имеющих на рынке определенного товара долю более 35%;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действия по предупреждению и пресечению монополистической деятельности хозяйствующих субъектов;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действия по снижению барьеров входа на товарные рынки;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увеличение числа хозяйствующих субъектов, действующих на данном товарном рынке;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запреты на слияния и создание объединений юридических лиц ;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пресечение недобросовестной конкуренции.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6955-5570-454D-BC66-FA2B0AF184E3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79640" y="17928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Действия антимонопольных органов для умеренно концентрированных рынков: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90360" y="1619280"/>
            <a:ext cx="784836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блюдение за динамикой показателей концентрации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онтроль за деятельностью хозяйствующих субъектов, имеющих на рынке определенного товара долю более 35%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ействия, направленные на ограничение рыночного потенциала хозяйствующих субъектов, занимающих доминирующее положение на товарных рынках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лияние и создание объединений юридических лиц допускается, но при условии, что рыночный потенциал не увеличится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есечение недобросовестной конкуренции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F9C4-E559-40B6-82EA-EF30316D4D08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45600"/>
            <a:ext cx="7772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Действия антимонопольных органов для низкоконцентрированных рынков: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79640" y="2004840"/>
            <a:ext cx="7772400" cy="39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блюдение за состоянием концентрации производства и товарного рынка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сечение недобросовестной конкуренци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C62B-D7B0-4BFF-BD2A-B6950DC69607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3.3. Антимонопольная политика в США.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Цель антимонопольной политики в США заключается в том, чтобы определять допустимость той или иной практики экономических агентов с точки зрения ее воздействия на конкуренцию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нтимонопольную политику в данной стране проводят федеральные и местные суды; антитрестовский отдел Министерства юстиции; Федеральная торговая комиссия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9280-715C-4092-A958-60D2A1D80766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205920"/>
            <a:ext cx="777240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новная причина необходимости государственной отраслевой и промышленной политики - провалы рынка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90720" y="2362320"/>
            <a:ext cx="7772400" cy="39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 провалам рынка относятс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польная власть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нешние эффекты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возможность производства рыночной системой общественных благ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совершенство системы информаци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27F4-3766-4C4C-BC57-97E17A85F60B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87280" y="189000"/>
            <a:ext cx="77281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Основные законодательные документы, в сфере антимонопольной политики, принятые в США </a:t>
            </a:r>
            <a:r>
              <a:rPr b="0" lang="ru-RU" sz="26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116000" y="1619280"/>
            <a:ext cx="7704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кт Шермана (1890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который предполагает запрет трестов, запрет практики монополизации торговли между штатами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Антиконкурентные действия фирм трактуются в качестве объекта уголовного преступлени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Монополия здесь понимается как доминирующее положение фирмы на рынке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6400" y="1371600"/>
            <a:ext cx="5209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324E-6739-46B8-A087-49D437D4F6FF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042920" y="189000"/>
            <a:ext cx="7872480" cy="14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Основные законодательные документы, в сфере антимонопольной политики, принятые в США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37160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кт Клейтона (1914)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который делает акцент на поддержку конкурентной ситуации в цело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Он запрещает слияния при угрозе конкуренции и направлен главным образом против горизонтальных слияни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D31B-B3C9-4510-BFFE-5592E1F33784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042920" y="189000"/>
            <a:ext cx="7872480" cy="14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Основные законодательные документы, в сфере антимонопольной политики, принятые в США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87280" y="1981080"/>
            <a:ext cx="7804440" cy="45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кт Робинсона-Пэтмана (1936)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который предполагает запрет ценовой дискриминации и уголовную ответственность за политику хищнических (грабительских) цен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установление цены ниже уровня средних/предельных издержек с целью вытеснения конкурента с рын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D716-7BA1-446B-A892-5EA65B614EE8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295280" y="380880"/>
            <a:ext cx="7543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Антиконкурентные действий фирм согласно законодательной классификации СШ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42920" y="1800360"/>
            <a:ext cx="7948800" cy="46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законные как таковые (незаконные по сути, на основании буквы закона)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Эти действия не обладают какими-либо достоинствами, позволяющими компенсировать их антиконкурентное воздействие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законные на основании правила разумности (духа закона)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Решения суда по данным действиям принимаются на основе сравнения и сопоставления положительных и отрицательных последствий антиконкурентного действия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2162-76F8-4C53-B199-3A346920EC35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260360" y="539640"/>
            <a:ext cx="7559640" cy="61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 первому виду (незаконные как таковые) относятся такие  виды взаимодействий фирм как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горизонтальное фиксирование цен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горизонтальный сговор о доле рынка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групповой бойкот (согласованный отказ фирм торговать с третьей фирмой с целью вытеснения ее с рынка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договоренность о взаимных продажах и закупках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вязанные продажи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неправильная информация о товаре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 второму виду (несоответствующие духу закона) могут отнести такие действия, как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регулирование цен в рамках вертикальных контрактов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отказ в поставках со стороны одной отдельной фирмы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исключительное право покупки или продаж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5D16-98D9-4D8C-9D4B-C527F289EE93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2602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обой сферой действия отраслевой политики США является регулирование слияний и поглощений фирм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90720" y="233964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тиконкурентным считается при индексе Герфиндаля-Хиршмана (HHI) от 1000 до 1800 каждая сделка, которая увеличивает индекс на более чем 100 пунктов; при индексе для отрасли более 1800 - сделка, которая может увеличить индекс на 50 и более пунктов. Если индекс Герфиндаля-Хиршмана меньше 1000, такой рынок считается слабо концентрированным и не регулируетс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EF64-6D9E-4D38-8E7F-88FDC8F48B76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066680" y="539640"/>
            <a:ext cx="7804440" cy="57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ругим направлением государственной политики служит регулирование информационного обеспечения рынк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одобная проблема возникает в связи с наличием у фирм стимулов к искажению информации в тех случаях, когда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трудно проверить качество товара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фирмы выпускают экспериментальные товары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роисходят одноразовые продажи издел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овершаются спекулятивные операции краткосрочного характер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CEC1-A6CA-4D95-8C3A-4A80B95A011B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680" y="239760"/>
            <a:ext cx="777240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 всех подобных ситуациях органы регулирования </a:t>
            </a: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оказывают влияние на параметры поведения фирмы 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79640" y="197964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 стандарты качества (обязательное установление, в частности, для пищевых продуктов и лекарств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 стандарты упаковки: требования маркировки товара (обязательное указание ингредиентов изделия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 гарантии срока службы (устанавливаются для товаров длительного пользования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 стандарты использования товара (обязательное приложение инструкции по пользованию товаром повышенной сложности с указанием того, что потребитель может и чего не должен делать с продуктом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2007-B130-44A5-9EAE-15BB07F35115}" type="slidenum">
              <a:t>37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бщая цель государственной отраслевой политик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шение проблем, связанных с провалами рынка, для повышения общественного благосостоя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5D87-9D9E-40ED-882E-B3727BB9A79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новные задачи государственной отраслевой политик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ономическая эффективность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тимизация поведения экономических агентов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учшее функционирование общества в цело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A07F-FB47-4955-8539-25BFA8F7801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Экономическая эффективность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7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стижение экономической эффективности общества возможно при наличии конкуренции, которая является средством создания среды, благоприятствующей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нижению издержек производства, созданию новых продуктов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вых видов деятельност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вых методов производства и организации, развития НИОКР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ического прогресса и инноваци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4B59-921C-4967-ABB5-4D38BB80392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37584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тимизация поведения экономических агентов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33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траслевая политика должна создавать условия благоприятные для конкуренции такие как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вобода выхода и входа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тимулы к инновациям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ддержка определенной степени соперничества между фирмам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713A-62A1-48BF-A3F7-EDF9A86CB9C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7584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Для лучшего функционирования общества необходимы: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79280" y="1793880"/>
            <a:ext cx="7592760" cy="540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щита национальной промышленност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мощь фирмам и отраслям в трудных ситуациях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тие регионов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щита занятост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щита от иностранного капитал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тие малого и среднего бизнес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щита прав потребителей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тановление правил добросовестной конкурен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 algn="just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 algn="just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4934-85F2-4689-98B5-6E3B308D11D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37476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Типы отраслевой политик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924680" cy="525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0F82-93FE-4583-A2C2-33904C4ED97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evgenij</cp:lastModifiedBy>
  <cp:revision>0</cp:revision>
  <dc:subject/>
  <dc:title>Регулирование отраслевых рынков </dc:title>
</cp:coreProperties>
</file>