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6F18-1916-4719-88D7-4759ECEB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6A3-845C-4758-B047-6F18250F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60E-67EA-40BA-B4BA-9FED6878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345B-B9A1-4304-B071-07747077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610C-8469-417D-9368-900308B5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5FC1-D153-45E5-8EBB-40537ADF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FAD8-DFED-4488-AD33-B8C9D04B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49BE-766A-463D-95FC-69333E82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EFDB-177D-498E-946A-D5D00660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4E4F-902F-429C-80A9-FAD1DB1D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59B6-6CA7-4BFD-8A46-2B8A861A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92CA-EEAD-48F8-B3B2-237E8140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F464-26B7-444F-A090-A2AF4935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61A9-32DF-4D95-804B-5DEDB270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CB89-4D39-4A34-99D4-29E198FE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CD46-BE17-4660-B6EA-A6331996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C1F2-7831-4AC9-889C-6D238351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AD9-2623-4998-A655-38B90FCB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08A7-8D3F-49C1-95AF-07793388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04B-6059-46B0-B445-73F2BE60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38DE-E0C5-4895-8AFF-7F28C237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B1F0-8DF1-490A-8A5F-63E1B655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414-7B0B-468F-A614-AC7C5829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D87-DA8C-437C-89A4-9EFD8131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D135-8611-46A4-B359-D85212CAD77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8E10-9299-40AF-849F-16732C4D028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терь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зультате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симизац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никающ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ледств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4.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собы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держ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ас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31520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образуем  выражение предельной выручки (МR) как первой производной совокупной выручки (T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7086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, по условию максимизации прибыли MR=MC, выражение можно преобразоват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19320" y="3627360"/>
            <a:ext cx="76197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Ed &lt; -1 (спрос эластичен), цена монополиста всегда будет больше его предельных издержек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будет действовать только на эластичном участке кривой спрос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дбавка к предельным издержкам в цене будет  тем меньше, чем выше эластичность спроса, т.е. превышение цены над предельными издержками находится в обратной зависимости от эластичности спроса по цене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33920" y="5486400"/>
            <a:ext cx="2539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нное выражение представляет собой индекс Лернер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идно из этого показателя, если спрос чрезвычайно эластичен, то цена будет близка к предельным издержкам, и, следовательно, монополизированный рынок будет похож на рынок совершенной конкурен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благосостояния, возникающие вследствие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условиях свободной конкуренции достигается оптимальное (по Парето) размещение ресурсов между альтернативными возможностями использован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гда же рынок монополизирован, условие равенства цен предельным издержкам не выполняется, так как цена монополии всегда выше предельных издерж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приводит неэффективному распределению ресурс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 сравнению с рынком свободной конкуренции рынок монополии приводит к определенным потерям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1239840"/>
            <a:ext cx="75438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бы в отрасли была совершенная конкуренция, то объем выпуска отрасли достиг бы значения Qc - величины, соответствующей условию равенства цены предельным издержкам. А цена была бы равна Р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объем производства в отрасли соответствует значению Qm - такому, когда предельная выручка монополиста равна его предельным издержкам. А монопольная цена составляет Р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в результате  монополизации отрас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окращаются объёмы выпуска и объе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аж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&lt;Q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вышается рыночная цена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требительский излишек сокращается н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, равную площади фигуры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mРс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афическо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дставлени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щадь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аниченная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в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ние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личины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у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ощадь фигуры РmРсСМ - совокупн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асть потребительского излишка (величина РmРсЕМ) превращается в монопольную прибы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ругая часть (величина МЕС) представляет собой чист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от монополии называют также "омертвленными затратами" или "мертвым грузом" монополии (DWL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 потери, утраченные потребителями, не достаются никому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 - это такой тип рынка, на котором только одна фирма является продавцом товара на который не существует близких замен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условиях чистой монополии отрасль состоит из одной фирмы, то есть понятия «фирма» и «отрасль» совпадаю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еличина чистых потерь от монополии в общем виде при нелинейных функциях спроса и предельной выручки  определяется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4038480"/>
            <a:ext cx="71625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братная функция  спро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функция предельных 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09680" y="1771560"/>
            <a:ext cx="6980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случае линейных функций спроса и предельной выручки величину чистых потерь от монополи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620120" cy="666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3352680"/>
            <a:ext cx="75438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а мертвого груза монополии зависит от того, насколько действия монополиста повышают цену и сокращают объем продаж по сравнению с рынком совершенной конкурен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Чистые потери от монополизации можно выразить также через индекс Лернера (L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определяется по формул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Ed= -(ΔQ/Qm)*(Pm/ΔP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данной формулы получим зависимость сокращения объема продаж от ценовой эластичности спро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= -Ed*Qm*(ΔP/P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огда мертвый груз монополии в зависимости от ценовой эластичноcти спроса  можно выразить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DWL = 0,5*Ed*Qm*(ΔP/Pm)*Δ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Умножив выражение на Pm/Pm, получим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324840" cy="1925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371600" y="4648320"/>
            <a:ext cx="71629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аким образом, мы получим зависимость мертвых потерь от общей выручки монополии и индекса Лернер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 = 0,5 *Ed*TR *L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истые потери от монопольной власти тем выш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м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: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эластичность спроса при цене, которую назначает монополист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общая выручка монополиста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индекс Лернера монопольной власти, отражающий долю прибыли в цен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Эмпирические исследования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личины чистых потерь от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Харбергера, чистые потери от монополизации в обрабатывающей промышленности США в 1954 году составили около 0,1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Камершена в начале 60-х годов чистые потери от монополизации составляли 6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я Коулинга и Мюллера показали, что в 1978 г. чистые потери от монополизации составляли 4% ВНП США и приблизительно 10% ВНП Великобрита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чины заниженных результатов Харбергер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арбергер при вычислениях принимал эластичность спроса равной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 благосостояния вычислялись Харбергером только для обрабатывающей промышленност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ΔР – изменение цены – принималась на уровне отклонения норм доходности исследуемой отрасли от средней по промышленности, которая разумеется выше, чем в конкурентных отрасля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полагалось, что все фирмы продают товар конечным потребителям. Но монопольная власть может возникать благодаря созданию вертикально интегрированных фир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отраслевое взаимодействи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е мертвого груза ограничивается только рынком, где господствует монополия, без учета взаимного влияния отраслей друг на друг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 дохода.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повышении цен монополистом возникает отрицательный эффект дохода для потребителей. Реальные доходы покупателей сокращаю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сновные причины возникновения монополий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тное противоборство приводит к тому что крупные фирмы вытесняют из отрасли или поглощают малые фирмы, в результате отрасль становится более монополизированн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 приводит к монополизации отрасли, поскольку, внедрение новых технологий требует дополнительных затрат, и кроме того, увеличивается минимально эффективный объём производств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ХХ веке стали быстро развиваться типы долевой и общественной собственности (ООО, АО), что позволяет привлечь дополнительные финансовые ресурс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предельной полезности денег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, сокращение потребительского излишка в результате монополизации рынка частично превращается в монопольную прибыль, монополист становится богаче, а потребитель беднее и одинаковая денежная единица приносит монополисту меньшую предельную полезность, чем потребител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 монополист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исследованиях предполагалось, что поведение монополиста в отношении качества продукта, видов продукта и методов ценообразования такое же, что и у фирмы на рынке совершенной конкурен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ст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совершенную дискриминацию по цене. В таком случае потребительский излишек полностью превратится в монопольную прибыл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ратить огромные суммы на рекламу или излишнюю дифференциацию продукции, что следует рассматривать как растрату ресурсов, имеющих альтернативное производственное применени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политику создания стратегических барьеров вход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тественная монопол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отдельных отраслях технология производства такова, что средние издержки убывают с ростом выпуска, так что эффективность обеспечивается только большим масштабом производства. Поэтому в данном случае сопоставление монополии и условий свободной конкуренции не является корректны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тельность монопольной вла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благосостояния существенны для экономики только в том случае, если они продолжительн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общественного благосостояния в зависимости от длительности монопольной власт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кратк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долг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тавка дисконтирования, используемая для капитализации будущих потер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ежегодный процентный разрыв между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показывающий степень ослабления монопольной власти на рынке с течением времен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61976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прибыль также является составляющей общественного благосостоя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монополизации отрасли порождает конкуренцию за будущую экономическую прибыль, что отвлекает ресурсы от других видов использования, так что альтернативную ценность этих ресурсов надо учитывать в качестве издержек от монопол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Затраты на сохранение монопольной пози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держки на создание барьеров входа на рынок для потенциальных конкур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пособы достижения монопольной позиции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картел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ение патента или лиценз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ббирование в целях установления импортных квот или тариф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ятки государственным чиновника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омные затраты на рекламу и продвижение товар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ичие незагруженных мощнос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езультатом достижения монопольной позиции является получение монопольн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едприниматели будут конкурировать за возможность монопольного положения в отрасли до тех пор, пока издержки такой конкуренции не окажутся равными ожидаемым выгодам от монополизации, то есть в долгосрочном периоде монопольная прибыль расходуется на поддержание монопольной пози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кольку, монопольная прибыль расходуется на поддержание монопольной позиции в отрасли она может служить показателем альтернативных издержек монополизации, и поэтому должна быть включена в величину чистых потерь от монопол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 (DWLS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ставляет из себя сумму собственно чистых потерь (0,5*ΔP*ΔQ) и монопольной прибыли (ΔP*Qm), которая является альтернативными издержками монополиза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 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m =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Qc - Δ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иды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тественна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71629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собственно мертвого груза монополии в альтернативных издержках монополизации рав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50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усть E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- ценовая эластичность спроса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словиях совершенной конкуренции (при цене Рс 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ъеме продаж Qc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 = (ΔQ/ΔP)*(Pc/Qc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куда объем продаж на рынке совершенн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ции составляе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1/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*[ΔQ*(Pc/ΔP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гда доля собственно мертвого груза монополии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 издержках монополиз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ави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66680" y="5257800"/>
            <a:ext cx="77724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46784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ΔР/Рс составляет индекс Лернера монопольной власти, полученное выражение можно записать в вид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69519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доля чистых потерь в альтернативных издержках монополизации тем ниж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ценовая эластичность спроса в условиях совершенной конкуренци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коэффициент Лернера монопольной вла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но получить ещё одну формулу для вычисления совокупных потерь от монополи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0,5*ΔP*ΔQ + ΔP*(Qc - ΔQ) = =ΔP*(0,5*ΔQ + Qc – ΔQ) =  ΔP*(Qc - 0,5*ΔQ) = =L*(Pc*Qc - 0,5*Pc*ΔQ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Pc*Qc представляет собой общую выручку производителей в условиях свободной конкуренции (TRc), то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L*TRc - 0,5*L*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ΔP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c*Qc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TR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 - 0,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ким образом, совокупные потери от монополии тем выше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больше общая выручка производителей в конкурентной отрасли (TRc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индекс Лернера монопольной власти (L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ценовая эластичность спроса в условиях совершенной конкуренции (E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днак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ь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гд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е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ч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каза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ек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котор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осредствен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трагиваю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роизводительн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двокато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клам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треч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ставителям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сударствен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ласт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учая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н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ключаютс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от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олж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величе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гу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итель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ньш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е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аемог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титс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тра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бор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ж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уе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си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держка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другой стороны, альтернативные издержк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 нельзя рассматривать только как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гативный фактор экономик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ьная прибыль может возникать за счет более эффективного использования ресурсов данной фирмой по сравнению с мелкими фирмами-конкурент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ия может быть создана за счет инноваций (склонность к инвестированию у крупной фирмы-монополиста выше, чем у мелкой фирмы-конкурент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анных случаях монопольная прибыль будет служить стимулом к динамизму рынка, а конкуренция за достижение монопольной власти на рынке будет способствовать развитию производства в данной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Определение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-неэффективность производства в условиях монополии - представляет собой разницу между минимально возможным для данного выпуска уровнем издержек и реальным уровнем издержек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 может влиять на цену продаваемой продукции, изменяя объём производства в соответствии с убывающей функцией рыночного спроса. Монополии намеренно уменьшают объём предложения, чтобы создать искусственный дефицит товаров. А нехватка рыночных благ ведёт к росту монопольной цен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а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ополия является технически менее эффективной, чем конкуренция, поскольку наличие барьеров для входа защищает фирму-монополиста от конкурентного давлени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этому монополист может использовать ресурсы отрасли неэффективно, а его издержки для производства каждого объема выпуска выше соответствующих издержек фирмы на рынке совершенной конкурен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876920" y="152388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 в условиях совершенной конкуренции равны АСс =МСс, а выпуск составляет величину Qc при цене Рс. В условиях монополии уровень издержек возрастает до величины ACm=MCm. Соответственно, выпуск становится равным Qm, а цена Рm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41893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ребительский излишек сокращается с величины АРсС до величины АРmМ. При этом величина МЕС составляет чистые потери от монополии, а величина ВРсЕК представляет собой потери в результате Х-неэффективности. В условиях свободной конкуренции объем производства Qm мог бы быть произведен при более низких издержках (равных Рс=МСс=АСс), а монополия затрачивает на этот выпуск ACm=MCm&gt;MCc. Ресурсы в размере ВРсЕК используются неэффектив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Другие причины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может не стремится минимизировать издержки вообщ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, целью менеджеров может стать увеличение собственной власти, престижа и безопасности в рамках фирмы. В этом случае фирма-монополист наймет больше персонала и будет производить любой объем выпуска с большими издержками, чем конкурентная фирм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к Х-неэффективности стремятся сами собственники фирмы, это может означать, что они готовы уступить часть прибыли за возможность иметь больше свободного времени и меньше работат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Х-эффективность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а и обратная ситуация: издержки производства в условиях монополии ниже, чем в условиях конкуренции, то есть имеет место         Х-эффективность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е происходит там, где монополизация отрасли позволяет фирме использовать преимущества экономии на масштабах производства, например в случае естественной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оме того, инновационная активность монополиста может быть выше, чем конкурента, что также способствует понижению издержек отрасл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ертвый груз монополии без учета альтернативных издержек монополизации равен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 =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монополизация приносит выгоду экономике, то должно быть верным выражени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*ΔАС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ΔАС - экономия затрат монополистом на единицу выпус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сюд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AC/Pm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чем больше эластичность спроса по цене, тем в большей степени должна проявляться экономия на издержках в условиях монополии по сравнению с условиями конкуренции, чтобы компенсировать потери благосостояния от монопол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пособы создания и поддержания монополии в отрас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ьную власть в отрасли удаётся поддержать благодаря наличию определенных условий и определенных действий фир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здание от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монополия возникает при наличии у фирмы неких уникальных знаний, технологий, позволяющих производить новый продукт или продукт более высокого качества. В случае появления у других фирм технологий для производства такого же продукта, они войдут в отрасль, и монополия в отрасли на этом закончит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естественн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лучае естественной монополии одна фирма способна производить продукт с более низкими издержками, чем при наличии большого количества фирм, т. е. проявляется Х-эффективность монополиз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для увеличения объёма производства монополист вынужден снижать цену, поскольку кривая спроса, с которой он встречается, имеет отрицательный наклон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Чтобы общая выручка монополиста при этом не уменьшалась,  снижение цены должно компенсироваться большим процентным увеличением объема продаж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это возможно только при эластичном спросе, что в определенной мере ограничивает деятельность монополий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за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 монополия предполагает поддержание монопольного положения фирмы на рынке за счет наличия у нее патента, лицензии или других видов законных ограничений на производство данного продукта. Тем самым не допускается или ограничивается доступ конкурентов в отрас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мере роста выпуска растут (или по крайней мере неизменны) предельные издержки (МС)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рма будет расширять выпуск до тех пор, пока дополнительная выручка от продажи дополнительной единицы (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овара превышает или, по крайней мере, не меньше дополнительных издержек (МС), связанных с ее производств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Условие максимизации прибы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ь любой фирмы достигает своего наибольшего значения, при таком объёме производства при котором предельные издержки равны предельной выручке, т. е.       МС = М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цена будет больше предельных издержек, т.е. МС = МR&lt;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тличии от монополии при совершенной конкуренции предельные издержки и предельная выручка равны цене, т.е.                 МС = МR=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аксимизация прибыли монополие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2520" y="18288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ельные издержки (МС) равны предельной выручке (MR) при объёме производства - Q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,  т. е. цена установится на уровне -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2111400"/>
            <a:ext cx="38102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dcterms:modified xsi:type="dcterms:W3CDTF">2007-10-11T07:45:06Z</dcterms:modified>
  <cp:revision>92</cp:revision>
  <dc:subject/>
  <dc:title>Оценка потерь благосостояния в результате деятельности монополии</dc:title>
</cp:coreProperties>
</file>