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0F74F-CC97-420B-A30B-A61D42A584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27D-68B9-49E9-A56E-9566AEFB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46F-D006-4890-9DFE-3EB06D1C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BA9-E31F-407D-A755-DE161C61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291-2D62-4A6D-99FF-D80659F0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879B-4382-4D8D-8823-EE604BF1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7F14-D7B1-4224-A639-C9983A32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07DF-9886-4A89-8E9B-46250DD2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46D0-39F6-46FB-BE02-ECD42510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375A-0206-428B-B937-B01BC0D4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0EAE-8245-4D05-BE48-703477DA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8EC9-7E5B-4AD5-959D-2F94AC4B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481-91C7-4E01-AFA5-162689A1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1FF0-3B05-4090-90AB-386DBD6B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0486-0E00-403A-BCBC-C9D373E1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E65B-B270-41A3-A701-6C8E7088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67DB-D3B2-453E-B960-36823204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D6C6-8B6A-4D15-A678-8A10C14F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3B6-A9E8-4875-B208-BC8DCE5C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736-BA23-413F-AA3C-17C8320A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09B-44DE-4DCA-9BC4-E94B6967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B1C-34C4-4A4F-AC98-95E76257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D22-F5BF-47AE-B292-E3EFC1AB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045-ABC3-4212-B112-118DF905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94F-54FF-4E29-AB64-2C559DA3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805723-E82C-4273-AF7C-12549401CF8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9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60A59F-6A4F-403B-9E75-3AC61441A1FF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нализ отраслевых барьеров в рыночной экономик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раслевые барьеры и их классифик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облемы, связанные со стратегическими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0901-789F-4C13-B6C4-EF3E94CD125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Классификация барьеров в зависимости от  влияния на рыночную структуру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79640" y="1619280"/>
            <a:ext cx="7740360" cy="5041800"/>
            <a:chOff x="1079640" y="1619280"/>
            <a:chExt cx="7740360" cy="5041800"/>
          </a:xfrm>
        </p:grpSpPr>
        <p:sp>
          <p:nvSpPr>
            <p:cNvPr id="157" name=""/>
            <p:cNvSpPr/>
            <p:nvPr/>
          </p:nvSpPr>
          <p:spPr>
            <a:xfrm>
              <a:off x="1252440" y="1706400"/>
              <a:ext cx="7567560" cy="49546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9" idx="0"/>
              <a:endCxn id="160" idx="2"/>
            </p:cNvCxnSpPr>
            <p:nvPr/>
          </p:nvCxnSpPr>
          <p:spPr>
            <a:xfrm rot="10800000">
              <a:off x="6593760" y="5400720"/>
              <a:ext cx="1054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1" name=""/>
            <p:cNvCxnSpPr>
              <a:stCxn id="162" idx="0"/>
              <a:endCxn id="163" idx="2"/>
            </p:cNvCxnSpPr>
            <p:nvPr/>
          </p:nvCxnSpPr>
          <p:spPr>
            <a:xfrm flipV="1">
              <a:off x="4946400" y="5400720"/>
              <a:ext cx="910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4" name=""/>
            <p:cNvCxnSpPr>
              <a:stCxn id="165" idx="0"/>
              <a:endCxn id="166" idx="2"/>
            </p:cNvCxnSpPr>
            <p:nvPr/>
          </p:nvCxnSpPr>
          <p:spPr>
            <a:xfrm rot="10800000">
              <a:off x="8151120" y="3956760"/>
              <a:ext cx="2160" cy="45000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7" name=""/>
            <p:cNvCxnSpPr>
              <a:stCxn id="160" idx="0"/>
              <a:endCxn id="168" idx="2"/>
            </p:cNvCxnSpPr>
            <p:nvPr/>
          </p:nvCxnSpPr>
          <p:spPr>
            <a:xfrm rot="10800000">
              <a:off x="6544440" y="4147560"/>
              <a:ext cx="50040" cy="25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9" name=""/>
            <p:cNvCxnSpPr>
              <a:stCxn id="163" idx="0"/>
              <a:endCxn id="170" idx="2"/>
            </p:cNvCxnSpPr>
            <p:nvPr/>
          </p:nvCxnSpPr>
          <p:spPr>
            <a:xfrm rot="10800000">
              <a:off x="4652280" y="4139640"/>
              <a:ext cx="38484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1" name=""/>
            <p:cNvCxnSpPr>
              <a:stCxn id="172" idx="0"/>
              <a:endCxn id="173" idx="2"/>
            </p:cNvCxnSpPr>
            <p:nvPr/>
          </p:nvCxnSpPr>
          <p:spPr>
            <a:xfrm rot="10800000">
              <a:off x="2567880" y="3956760"/>
              <a:ext cx="907200" cy="45000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4" name=""/>
            <p:cNvCxnSpPr>
              <a:stCxn id="175" idx="0"/>
              <a:endCxn id="173" idx="2"/>
            </p:cNvCxnSpPr>
            <p:nvPr/>
          </p:nvCxnSpPr>
          <p:spPr>
            <a:xfrm flipV="1">
              <a:off x="1833480" y="3957120"/>
              <a:ext cx="735840" cy="4500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6" name=""/>
            <p:cNvCxnSpPr>
              <a:stCxn id="166" idx="0"/>
              <a:endCxn id="177" idx="2"/>
            </p:cNvCxnSpPr>
            <p:nvPr/>
          </p:nvCxnSpPr>
          <p:spPr>
            <a:xfrm rot="10800000">
              <a:off x="5425200" y="2518560"/>
              <a:ext cx="2726640" cy="53748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8" name=""/>
            <p:cNvCxnSpPr>
              <a:stCxn id="168" idx="0"/>
              <a:endCxn id="177" idx="2"/>
            </p:cNvCxnSpPr>
            <p:nvPr/>
          </p:nvCxnSpPr>
          <p:spPr>
            <a:xfrm rot="10800000">
              <a:off x="5425200" y="2518560"/>
              <a:ext cx="1119960" cy="551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9" name=""/>
            <p:cNvCxnSpPr>
              <a:stCxn id="170" idx="0"/>
              <a:endCxn id="177" idx="2"/>
            </p:cNvCxnSpPr>
            <p:nvPr/>
          </p:nvCxnSpPr>
          <p:spPr>
            <a:xfrm flipV="1">
              <a:off x="4653000" y="2518920"/>
              <a:ext cx="775440" cy="54072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0" name=""/>
            <p:cNvCxnSpPr>
              <a:stCxn id="173" idx="0"/>
              <a:endCxn id="177" idx="2"/>
            </p:cNvCxnSpPr>
            <p:nvPr/>
          </p:nvCxnSpPr>
          <p:spPr>
            <a:xfrm flipV="1">
              <a:off x="2568240" y="2518920"/>
              <a:ext cx="2858040" cy="540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4757760" y="1619280"/>
              <a:ext cx="1335240" cy="90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иды отрасле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барьер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0120" y="3060720"/>
              <a:ext cx="1596960" cy="898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 препятствующи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ходу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совершен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060720"/>
              <a:ext cx="1744560" cy="10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эффективно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стическ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071880"/>
              <a:ext cx="15080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Эффективно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доминрироую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щей фирмы ил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лиг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5120" y="3057480"/>
              <a:ext cx="1334880" cy="90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локиру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абсолют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9640" y="4408560"/>
              <a:ext cx="1508040" cy="90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есурса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6560" y="4408560"/>
              <a:ext cx="1338480" cy="90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ынку</a:t>
              </a:r>
              <a:br>
                <a:rPr sz="13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8960" y="4408560"/>
              <a:ext cx="1334880" cy="992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озможность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деятельност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кратк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4408560"/>
              <a:ext cx="1333440" cy="992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ятельность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долг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86560" y="4408560"/>
              <a:ext cx="1333440" cy="900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лающие вход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невозможны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5759280"/>
              <a:ext cx="1514520" cy="900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сутствие реакци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т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7760" y="5759280"/>
              <a:ext cx="1542960" cy="9003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ребуются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ополнительные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E38-91EF-4F38-B543-8D1EE756A9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естратег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барьеры, создаваемые условиями отрасли, факторами объективного характера и по большей части независимые от деятельности фирмы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ратегические барьер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являются в результате стратегических действий самих фирм на рынке или в отрасли и, в силу этого, имеют субъективный характе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F23-7B02-4982-AED5-C0858402A8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984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0720" y="1440000"/>
            <a:ext cx="8099280" cy="4859280"/>
            <a:chOff x="720720" y="1440000"/>
            <a:chExt cx="8099280" cy="4859280"/>
          </a:xfrm>
        </p:grpSpPr>
        <p:sp>
          <p:nvSpPr>
            <p:cNvPr id="185" name=""/>
            <p:cNvSpPr/>
            <p:nvPr/>
          </p:nvSpPr>
          <p:spPr>
            <a:xfrm>
              <a:off x="720720" y="1440000"/>
              <a:ext cx="8099280" cy="48592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8" idx="2"/>
            </p:cNvCxnSpPr>
            <p:nvPr/>
          </p:nvCxnSpPr>
          <p:spPr>
            <a:xfrm rot="10800000">
              <a:off x="7601760" y="3648960"/>
              <a:ext cx="6721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9" name=""/>
            <p:cNvCxnSpPr>
              <a:stCxn id="190" idx="0"/>
              <a:endCxn id="188" idx="2"/>
            </p:cNvCxnSpPr>
            <p:nvPr/>
          </p:nvCxnSpPr>
          <p:spPr>
            <a:xfrm flipV="1">
              <a:off x="7000560" y="3649320"/>
              <a:ext cx="6022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1" name=""/>
            <p:cNvCxnSpPr>
              <a:stCxn id="192" idx="0"/>
              <a:endCxn id="193" idx="2"/>
            </p:cNvCxnSpPr>
            <p:nvPr/>
          </p:nvCxnSpPr>
          <p:spPr>
            <a:xfrm rot="10800000">
              <a:off x="5725440" y="4974480"/>
              <a:ext cx="2289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4" name=""/>
            <p:cNvCxnSpPr>
              <a:stCxn id="195" idx="0"/>
              <a:endCxn id="193" idx="2"/>
            </p:cNvCxnSpPr>
            <p:nvPr/>
          </p:nvCxnSpPr>
          <p:spPr>
            <a:xfrm rot="10800000">
              <a:off x="5725440" y="4974480"/>
              <a:ext cx="9277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6" name=""/>
            <p:cNvCxnSpPr>
              <a:stCxn id="197" idx="0"/>
              <a:endCxn id="193" idx="2"/>
            </p:cNvCxnSpPr>
            <p:nvPr/>
          </p:nvCxnSpPr>
          <p:spPr>
            <a:xfrm flipV="1">
              <a:off x="5219280" y="4974840"/>
              <a:ext cx="506880" cy="44208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8" name=""/>
            <p:cNvCxnSpPr>
              <a:stCxn id="199" idx="0"/>
              <a:endCxn id="193" idx="2"/>
            </p:cNvCxnSpPr>
            <p:nvPr/>
          </p:nvCxnSpPr>
          <p:spPr>
            <a:xfrm flipV="1">
              <a:off x="3814560" y="4974840"/>
              <a:ext cx="1911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0" name=""/>
            <p:cNvCxnSpPr>
              <a:stCxn id="201" idx="0"/>
              <a:endCxn id="202" idx="2"/>
            </p:cNvCxnSpPr>
            <p:nvPr/>
          </p:nvCxnSpPr>
          <p:spPr>
            <a:xfrm rot="10800000">
              <a:off x="1902600" y="4974480"/>
              <a:ext cx="6375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3" name=""/>
            <p:cNvCxnSpPr>
              <a:stCxn id="204" idx="0"/>
              <a:endCxn id="202" idx="2"/>
            </p:cNvCxnSpPr>
            <p:nvPr/>
          </p:nvCxnSpPr>
          <p:spPr>
            <a:xfrm flipV="1">
              <a:off x="1266480" y="4974840"/>
              <a:ext cx="6390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5" name=""/>
            <p:cNvCxnSpPr>
              <a:stCxn id="193" idx="0"/>
              <a:endCxn id="206" idx="2"/>
            </p:cNvCxnSpPr>
            <p:nvPr/>
          </p:nvCxnSpPr>
          <p:spPr>
            <a:xfrm rot="10800000">
              <a:off x="3779280" y="3648960"/>
              <a:ext cx="1946880" cy="442080"/>
            </a:xfrm>
            <a:prstGeom prst="bentConnector3">
              <a:avLst>
                <a:gd name="adj1" fmla="val 4999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7" name=""/>
            <p:cNvCxnSpPr>
              <a:stCxn id="202" idx="0"/>
              <a:endCxn id="206" idx="2"/>
            </p:cNvCxnSpPr>
            <p:nvPr/>
          </p:nvCxnSpPr>
          <p:spPr>
            <a:xfrm flipV="1">
              <a:off x="1902960" y="364932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8" name=""/>
            <p:cNvCxnSpPr>
              <a:stCxn id="188" idx="0"/>
              <a:endCxn id="209" idx="2"/>
            </p:cNvCxnSpPr>
            <p:nvPr/>
          </p:nvCxnSpPr>
          <p:spPr>
            <a:xfrm rot="10800000">
              <a:off x="5723640" y="232344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10" name=""/>
            <p:cNvCxnSpPr>
              <a:stCxn id="206" idx="0"/>
              <a:endCxn id="209" idx="2"/>
            </p:cNvCxnSpPr>
            <p:nvPr/>
          </p:nvCxnSpPr>
          <p:spPr>
            <a:xfrm flipV="1">
              <a:off x="3779640" y="2323800"/>
              <a:ext cx="19450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5178600" y="1440000"/>
              <a:ext cx="1091880" cy="88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арь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765520"/>
              <a:ext cx="1440000" cy="88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обусловленн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ективным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акторам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20000" y="2765520"/>
              <a:ext cx="1163520" cy="882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создаваемы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частникам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200" y="4091040"/>
              <a:ext cx="1092240" cy="88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0040" y="4091040"/>
              <a:ext cx="1092240" cy="88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720" y="5416560"/>
              <a:ext cx="1092240" cy="88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ехнолог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5480" y="5416560"/>
              <a:ext cx="1092240" cy="88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ровень 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68800" y="5416560"/>
              <a:ext cx="1092240" cy="88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ём спро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5416560"/>
              <a:ext cx="1439640" cy="882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азвитость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7040" y="5416560"/>
              <a:ext cx="1092240" cy="882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ностранная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5416560"/>
              <a:ext cx="1271520" cy="882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ип конкурен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4800" y="4091040"/>
              <a:ext cx="1090440" cy="882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ведение 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8120" y="4091040"/>
              <a:ext cx="1090440" cy="8827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оглашения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E95-07EC-4949-8EA1-EDB23D073B1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2. Нестратегические барь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ратегические, или объективные барьеры можно свести в три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хнологические (барьеры, основанные на абсолютном преимуществе в уровне затрат и барьеры, основанные на относительном преимуществе в уровне затра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кономические (ограниченность спроса, барьеры капитальных затрат или объёмы первоначальных инвестиций, состояние инфраструктуры рын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нституциональные (административные барьеры и криминализация эконом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04C-721D-41C8-B549-39380DB2980B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абсолют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бсолютные преимущества в отношении издержек означают, что кривая долгосрочных средних издержек фирм, уже действующих в отрасли, на всём своём протяжении лежит выше кривой издержек потенциальных 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овательно цена, необходимая для возмещения инвестиций потенциальных конкурентов будет выше, чем средняя цена в отрасл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A86-D232-4A06-8D19-FDB0915CFCC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636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чины абсолютных преимуществ в уровне зат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х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760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новых фирм могут быть недоступны наиболее дешевые и наиболее качественные источники ресурсов, которые используются уже действующими в отрасли фи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же преимущества создаются самим процессом функционирования старых фирм в отрасли; накапливания опыта экономии издержек и оптимального распределения ресурс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FCC-25A3-4211-BF12-CC0168EDE51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относитель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19796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ые преимущества в издержках возникают за счёт производства уже существующими в отрасли фирмами большего объёма выпуска, нежели может освоить потенциальный конкур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ключаются в таких особенностях производственного процесса которые проявляются в положительном эффекте масштаба производства и минимально эффективном объеме выпуск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289-4F8B-41FF-B50C-A0F8D796FAD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28600"/>
            <a:ext cx="726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Минимально эффективный выпус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00000"/>
            <a:ext cx="440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838080"/>
            <a:ext cx="3504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1371600"/>
            <a:ext cx="7701120" cy="3412440"/>
            <a:chOff x="1066680" y="1371600"/>
            <a:chExt cx="7701120" cy="3412440"/>
          </a:xfrm>
        </p:grpSpPr>
        <p:sp>
          <p:nvSpPr>
            <p:cNvPr id="223" name=""/>
            <p:cNvSpPr/>
            <p:nvPr/>
          </p:nvSpPr>
          <p:spPr>
            <a:xfrm flipV="1">
              <a:off x="5391000" y="1514160"/>
              <a:ext cx="1800" cy="28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4324320"/>
              <a:ext cx="304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2600" y="2811600"/>
              <a:ext cx="2432160" cy="863640"/>
            </a:xfrm>
            <a:custGeom>
              <a:avLst/>
              <a:gdLst/>
              <a:ahLst/>
              <a:rect l="l" t="t" r="r" b="b"/>
              <a:pathLst>
                <a:path w="1633" h="544">
                  <a:moveTo>
                    <a:pt x="0" y="0"/>
                  </a:moveTo>
                  <a:cubicBezTo>
                    <a:pt x="75" y="102"/>
                    <a:pt x="151" y="204"/>
                    <a:pt x="226" y="272"/>
                  </a:cubicBezTo>
                  <a:cubicBezTo>
                    <a:pt x="301" y="340"/>
                    <a:pt x="370" y="370"/>
                    <a:pt x="453" y="408"/>
                  </a:cubicBezTo>
                  <a:cubicBezTo>
                    <a:pt x="536" y="446"/>
                    <a:pt x="642" y="476"/>
                    <a:pt x="725" y="499"/>
                  </a:cubicBezTo>
                  <a:cubicBezTo>
                    <a:pt x="808" y="522"/>
                    <a:pt x="876" y="544"/>
                    <a:pt x="952" y="544"/>
                  </a:cubicBezTo>
                  <a:cubicBezTo>
                    <a:pt x="1028" y="544"/>
                    <a:pt x="1096" y="529"/>
                    <a:pt x="1179" y="499"/>
                  </a:cubicBezTo>
                  <a:cubicBezTo>
                    <a:pt x="1262" y="469"/>
                    <a:pt x="1376" y="416"/>
                    <a:pt x="1451" y="363"/>
                  </a:cubicBezTo>
                  <a:cubicBezTo>
                    <a:pt x="1526" y="310"/>
                    <a:pt x="1579" y="245"/>
                    <a:pt x="1633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9040" y="2308320"/>
              <a:ext cx="1012680" cy="647640"/>
            </a:xfrm>
            <a:prstGeom prst="wedgeRoundRectCallout">
              <a:avLst>
                <a:gd name="adj1" fmla="val -4560"/>
                <a:gd name="adj2" fmla="val 152939"/>
                <a:gd name="adj3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2080" y="245124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17960" y="1371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62800" y="425124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066680" y="1442880"/>
              <a:ext cx="3781440" cy="3341160"/>
              <a:chOff x="1066680" y="1442880"/>
              <a:chExt cx="3781440" cy="3341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471680" y="1514160"/>
                <a:ext cx="1440" cy="28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1680" y="4324320"/>
                <a:ext cx="3039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1320" y="2595600"/>
                <a:ext cx="2567160" cy="1103400"/>
              </a:xfrm>
              <a:custGeom>
                <a:avLst/>
                <a:gdLst/>
                <a:ahLst/>
                <a:rect l="l" t="t" r="r" b="b"/>
                <a:pathLst>
                  <a:path w="1723" h="695">
                    <a:moveTo>
                      <a:pt x="0" y="0"/>
                    </a:moveTo>
                    <a:cubicBezTo>
                      <a:pt x="18" y="75"/>
                      <a:pt x="37" y="151"/>
                      <a:pt x="90" y="227"/>
                    </a:cubicBezTo>
                    <a:cubicBezTo>
                      <a:pt x="143" y="303"/>
                      <a:pt x="226" y="394"/>
                      <a:pt x="317" y="454"/>
                    </a:cubicBezTo>
                    <a:cubicBezTo>
                      <a:pt x="408" y="514"/>
                      <a:pt x="507" y="552"/>
                      <a:pt x="635" y="590"/>
                    </a:cubicBezTo>
                    <a:cubicBezTo>
                      <a:pt x="763" y="628"/>
                      <a:pt x="907" y="665"/>
                      <a:pt x="1088" y="680"/>
                    </a:cubicBezTo>
                    <a:cubicBezTo>
                      <a:pt x="1269" y="695"/>
                      <a:pt x="1610" y="680"/>
                      <a:pt x="1723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7400" y="2235240"/>
                <a:ext cx="1012680" cy="647640"/>
              </a:xfrm>
              <a:prstGeom prst="wedgeRoundRectCallout">
                <a:avLst>
                  <a:gd name="adj1" fmla="val -15296"/>
                  <a:gd name="adj2" fmla="val 170833"/>
                  <a:gd name="adj3" fmla="val 16667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0440" y="2308320"/>
                <a:ext cx="6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4428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43480" y="43243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3640" y="4324320"/>
                <a:ext cx="2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21360" y="4251240"/>
              <a:ext cx="2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74600" y="474804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мально эффективный выпуск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– это такой объем производства, при котором положительный эффект масштаба сменяется на постоянный эффект масштаба (в случае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, или на отрицательный эффект масштаба (в случае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67C-068B-424F-8ACC-A92AD9E5674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11240" y="228600"/>
            <a:ext cx="767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221304"/>
                </a:solidFill>
                <a:latin typeface="Times New Roman"/>
              </a:rPr>
              <a:t>Количество фирм, действующих в отрас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17720" y="1371600"/>
            <a:ext cx="766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личество фирм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действующих в отрасли в состоянии долгосрочного равновесия, можно определить отношением объема рыночного спроса при цене, равной минимальному значению долгосрочных средних издержек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(P=minLRAC)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к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разумеется, при допущении, что производственная функция и структура издержек у всех фирм в отрасли идентичны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960" y="3214800"/>
            <a:ext cx="8528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81280" y="5486400"/>
                <a:ext cx="355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RA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444-0A35-4890-AF51-CD32131931D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533520"/>
            <a:ext cx="7974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о фирм в отрасли окажется больше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из них будет производить продукцию с издержками, превышающими минимальные значения долгосроч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новая конкуренция приведет к снижению цены до уровня минималь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фирм, оказавшись убыточными, вынуждены будут оставить отрасл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положительный эффект масштаба является барьером входа в отрасль, однако для  определения «высоты» барьеров необходима информация о разнице в уровнях средних издержек у крупных и малых фирм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781-183F-42B6-BF7B-27E0506378EA}" type="slidenum">
              <a:t>1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33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1. Отраслевые барьеры и их классификац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 новых фирм – это существенная характеристика отрасли, влияющая на её развит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экономическая прибыль в равновесии является стимулом к входу в отрасль новых фи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733-9C4E-4254-9299-0A8ACFB3246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граниченность спроса (ёмкость рынк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мкость рынка как барьер входа включает в себя следующие факто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насыщенность рынка товар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ая платёжеспособность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иностранных конкур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061-515E-434A-A436-191D1199813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49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рьеры капитальных затрат или объёмы первоначальных инвестиций, необходимых для входа на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640" y="16714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ёмы первоначальных инвестиций определяют саму возможность или невозможность организации нового производства в отрас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и капитальных затрат следует выдел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траты на освоение выпуска данного товар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имость нового строительства и технического перевооружения действующих мощносте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на НИОК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и найм персонала, организация сбытовой сет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тельность освоения производ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20A-3EA1-402E-A5FD-2E819954899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00240" y="72036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капитальных затрат зависит от таких факторов, как степень развитости, организованности и открытости рынков ресурсов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ру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инвестиционных товаров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ехнологи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капит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EF5-25A7-4434-ACE9-26C306AAB3E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Состояние инфраструктуры рын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 инфраструктуры рынка определяется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м транспортной систем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щностью складской базы, - складов, необходимых на всем пути продвижения товара от производителя до конечного потребител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остаточность инфраструктурных составляющих следует рассматривать как высокие барьеры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069-D01F-4A15-8170-CDF361A8637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1716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Административные барьеры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9478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здаются органами государственной власти различных уровней и включают в себ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вотирование производст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ложнённый порядок регистрации новых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ертификацию продукци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цедуру отвода земельных участков под промышленное строительство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личие неформальных отношений между органами государственной власти и предприятиям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ологические нормы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граничения на использование земель, лесных угодий, недр, запасов полезных ископаемы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58F-8BA4-4AEF-A464-A57DA0F943C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риминализация экономи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для ведения дела предпринимателю требуется “крыша”, некое неофициальное прикрытие со стороны криминальных структур, то расходы на поддержание подобного рода отношений составляют значительные барьеры вх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8EB-FBA6-40A6-903B-A1602113BEC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7600" y="144000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е барьеры сознательно создаются фирмами, действующими в отрасли, что является инструментом их стратегического поведения, препятствующим новым участникам входу в отрасль. К ним можно отнести такие мероприятия фирм, как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сурсосберегающие иннов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поставщиками ресурс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лицензий и патентов на определенный вид 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 незагруженных мощност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затрат на рекламу и НИОК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 по созданию имиджа и фир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2F5-E5D1-4461-B7FC-A0EA0A9156C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е барьеры входа, проявляющиеся в виде стратегического поведения, можно разделить на ценовые и неценовые (дополнительные инвестиции в оборудование, дифференциация продукта, долгосрочные контракты, вертикаль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DC0-79D9-4549-A58A-88BBBB53CF1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78357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07928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ы, уже действующие в отрасли, зная отраслевой спрос и отраслевое предложение могут назначить такую цену, которая ограничит появление новых конкурент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е барьеры получили название “ценообразование, ограничивающее вход” и сводятся к установлению действующими фирмами цен ниже уровня, обеспечивающего им  максимизацию прибыл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ам, которые проводят такую политику, приходится делать выбор между сокращением своей краткосрочной прибыли в результате снижения цен и потерей долгосрочной прибыли в результате входа на рынок новых участник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298-341E-4339-B792-C7C51E4B74E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ценовые стратегии создания барьеров в отрас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уровень монопольной прибыли старой фирмы, действующей в отрасли в условиях отсутствия потенциального конкурента, А – расходы на проведение неценовых стратегий по созданию барьеров,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ожидаемая прибыль новой фирмы в случае её проникновения на рынок, то старая фирма будет делать вложения по созданию неценовых барьеров только тогда, когда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А &gt;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о есть выгода барьеров превышает угрозу снижения прибыли в результате конкуренции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CAC-9939-42BD-94EF-9CFC309F971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Значение входа новых фирм в отрасл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640" y="11980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оявления новых фирм в отрасли уровни прибыльности и цен возвращаются к их долгосрочному конкурентному зна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овых фирм рассматривается как фактор технологических изменений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личие отраслевых барьеров определяет динамику экономического роста и благосостояния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барьеров или их предотвращение становится элементом конкурентн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601-FAF7-4425-8F35-AFC54995C78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полнительное инвестирова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инвестиции в оборудование для новой фирмы можно рассматривать как необратимые издержки. Фирма вынуждена их оплачивать, даже не выпуская проду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ействующая фирма обладает избыточными производственными мощностями, по сравнению с величиной спроса, то при угрозе появления нового конкурента, она может увеличить объем выпуска до уровня, ограничивающего   вход. При этом новая фирма потеряет величину необратимых издер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899-BD16-47D3-9B4C-83A8C11211F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ифференциация проду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рынке фирмы для предотвращения входа новых фирм могут  наполнить рынок значительным количеством товаров-заменителей, чтобы потенциальным конкурентам было труднее в этом изобилии найти свою ниш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ю очередь новая фирма будет вынуждена увеличивать свои расходы на рекламу, тем самым минимальный объем выпуска в отрасли, необходимый для организации эффективного производства возрастает, а ожидаемая прибыль пони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262-750D-4EF2-AD60-7DFA72695B1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лгосрочные контр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третьими лицами, в частности, с поставщиками ресурсов, потребителями товаров, а также с работниками отрасли (например, с отраслевым профсоюзом) ограничивают возможности потенциальных конкурентов найти поставщиков ресурсов, рынки сбыт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27C-7AEE-4C3D-A7C6-9882B6AC01B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ртикальная интеграц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ая интеграция представляет собой процесс объединения в рамках одной фирмы более одной стадии производства конечной продук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о интегрированная фирма, в отличие от неинтегрированной фирмы, избавлена от необходимости заключать контракты с поставщиками и покупателями – представителями смежных производственных стадий. Тем самым, у вертикально интегрированной фирмы снижаются трансакционные издерж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еинтегрированных производителей такие контракты, в которых кроме цен оговариваются вопросы особых условий поставки, особых условий реализации продукции и другие условия,  выступают как вертикальные ограни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A6C-7E59-4F90-8CB4-DCA743C6EDE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облемы, связанные со стратегическими барьерам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9640" y="1439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их барьеров на практике связана с рядом пробл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, при проведении политики ценообразования, ограничивающего вход новых участников на рынок, действующие на рынке фирмы должны правильно оцен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действующих фир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потенциальных конкурент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спроса и, прежде всего, ценовую эластичность  спро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529-D0A8-41B8-BF6D-0D41CC8334C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73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Необходимость поддержания в отрасли определённого объема выпус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 в отрасль будет эффективным только в случае поддержания в отрасли определённого объема выпус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невозможности согласованной деятельности маловероятно обеспечить равенство отраслевого выпуска уровню, ограничивающему в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ирование рыночных долей участников отрасли затруднительно, из-за различий в уровнях издержек производства, и изменениями спроса с течением врем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AC5-E673-4B3A-866E-054D14B66E0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Непредсказуемость конкурен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ение в отрасли новых участников может повлечь сокращение объемов выпуска уже действующих фирм, особенно если в отрасль входит не новичок в предпринимательстве, а крупный диверсифицированный концерн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таком случае исход конкуренции, вплоть до ценовых войн – непредсказу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5D7-F6B3-446D-B34C-3C223784FA7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Ускоряющиеся технологические иннов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коряющиеся технологические инновации позволяют новым фирмам снизить издержки производства. Данный фактор не позволяет действующим фирмам адекватно оценить ценовые ориентиры, то есть возможна переоценка уровня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BAF-BA74-408D-B2A3-C063F1A0E96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Поведение безбилетника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760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успешная реализация стратегических барьеров оказывает положительный эффект на всех участников отрасли, вне зависимости от того чьими усилиями и средствами она была обеспечена, фирмы не свободны от искушения воспользоваться результатами “чужих” барье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696-B70D-4CD5-BE1F-04873E0A35DF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90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входа - все факторы объективного или субъективного характера, которые препятствуют новым фирмам организовать рентабельное производство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формальной возможности организовать производство в большинстве отраслей еще не означает отсутствие барьеров в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6A7-3FD5-4DDD-B2BE-9D691259B9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ы барьеров в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1173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обенности отрасли или рынка (технология производства, стартовые и текущие затраты, объём спроса, зрелость и развитость рынка, тип конкуренции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дение хозяйствующих субъектов (антиконкурентные действий и соглаше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 органов государственной власти (лицензирование, налогообложение, фиксация цен,  государственная помощь отдельным субъектам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причины (сужение географических границ рынка вследствие роста транспортных расходов, возрастание международной конкуренции в условиях ограниченного спроса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E8D-DCB5-4FB6-8D41-15FB33967B7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ы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 объективные или субъективные факторы, которые препятствуют фирме уйти из отрасли без существенных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связаны с, так называемыми, необратимыми издержками, которые делают невозможным уход фирмы из отрасли без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959-62B7-4380-8F38-DA25205CD2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304920"/>
            <a:ext cx="71992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Барьеры выхода связаны со структурными характеристиками того или иного вида хозяйственной деятельности, такими как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квидность актив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версификации производства с использованием имеющегося оборудования, технологий, источников сырь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кнутость и связанность технологических цепоч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DBA-75BD-44EE-ABC6-0939C6D3477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 выхода - составная часть барьеров вход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увеличивают риск хозяйствования в отрасли, а значит создают дополнительные барьеры входа в отрасл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фирма знает, что уйти из отрасли без значительных потерь невозможно, то это может оказать влияние на её решение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им образом, барьеры выхода следует рассматривать как составную часть отраслевых барьеров, препятствующих входу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742-79FA-422C-8299-66435B9B3A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98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Барьеры входа и вы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76400" y="1571760"/>
            <a:ext cx="7466040" cy="4521240"/>
            <a:chOff x="1076400" y="1571760"/>
            <a:chExt cx="7466040" cy="4521240"/>
          </a:xfrm>
        </p:grpSpPr>
        <p:sp>
          <p:nvSpPr>
            <p:cNvPr id="141" name=""/>
            <p:cNvSpPr/>
            <p:nvPr/>
          </p:nvSpPr>
          <p:spPr>
            <a:xfrm>
              <a:off x="1076400" y="1571760"/>
              <a:ext cx="7466040" cy="4521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>
              <a:off x="68194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7" idx="2"/>
            </p:cNvCxnSpPr>
            <p:nvPr/>
          </p:nvCxnSpPr>
          <p:spPr>
            <a:xfrm flipV="1">
              <a:off x="27982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8" name=""/>
            <p:cNvCxnSpPr>
              <a:stCxn id="144" idx="0"/>
              <a:endCxn id="149" idx="2"/>
            </p:cNvCxnSpPr>
            <p:nvPr/>
          </p:nvCxnSpPr>
          <p:spPr>
            <a:xfrm flipV="1">
              <a:off x="68194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0" name=""/>
            <p:cNvCxnSpPr>
              <a:stCxn id="147" idx="0"/>
              <a:endCxn id="151" idx="2"/>
            </p:cNvCxnSpPr>
            <p:nvPr/>
          </p:nvCxnSpPr>
          <p:spPr>
            <a:xfrm flipV="1">
              <a:off x="27982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2" name=""/>
            <p:cNvCxnSpPr>
              <a:stCxn id="149" idx="0"/>
              <a:endCxn id="153" idx="2"/>
            </p:cNvCxnSpPr>
            <p:nvPr/>
          </p:nvCxnSpPr>
          <p:spPr>
            <a:xfrm rot="10800000">
              <a:off x="4809240" y="2393280"/>
              <a:ext cx="201060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4" name=""/>
            <p:cNvCxnSpPr>
              <a:stCxn id="151" idx="0"/>
              <a:endCxn id="153" idx="2"/>
            </p:cNvCxnSpPr>
            <p:nvPr/>
          </p:nvCxnSpPr>
          <p:spPr>
            <a:xfrm flipV="1">
              <a:off x="2798280" y="2393640"/>
              <a:ext cx="201204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086280" y="1571760"/>
              <a:ext cx="3446280" cy="82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барь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6400" y="2805120"/>
              <a:ext cx="3446280" cy="82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а рынок новых фир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5800" y="2805120"/>
              <a:ext cx="3446640" cy="822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ы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з отрасли без потер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4037040"/>
              <a:ext cx="3446280" cy="82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нижают угрозы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тенциальной конкурен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5800" y="4037040"/>
              <a:ext cx="3446640" cy="822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граничивают количество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  в отрас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5270400"/>
              <a:ext cx="3446280" cy="822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5270400"/>
              <a:ext cx="3446640" cy="81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BDB-D664-4EE8-840F-E9D21B129C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cturer</cp:lastModifiedBy>
  <cp:revision>0</cp:revision>
  <dc:subject/>
  <dc:title>Анализ отраслевых барьеров в рыночной экономике</dc:title>
</cp:coreProperties>
</file>