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5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31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14AE-4FCB-45E7-8794-AD796A53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6EF-E670-424B-9E8F-54259702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CA9-8AB7-4A95-ADEF-7B52F555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051E-DCCC-4C24-B53A-90A9354F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EDB3-2021-4ECB-A9C2-9A400034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B5A6-E68D-4CB6-96F4-F9B6BE6D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5428-9E3A-495B-BE0F-71ED93EE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7587-CE7A-4E02-8DB2-AF7B4BF6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C2E7-7D3C-4740-8391-B2A98D67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13F0-4241-453D-BF90-93127BC1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1C24-A176-4963-A8CE-3EAF9C30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653-C7EA-43C1-8C0F-A505EDF9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F79A-E962-4C33-8B9B-7E856654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7043-13AE-4B73-843E-442E2015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C433-67F5-4E22-94C6-FA3C3455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B157-7F4F-43B7-99C5-8B10F62D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32D0-8273-4C00-93D0-4830AD24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D15C-7476-4489-BE05-1198EA51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E1A-668C-45A2-80A0-D37C5580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5408-8666-416D-A2BD-6F0BB52F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0CD-04F9-42EF-844B-86583DBC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CC01-DE4E-4AAF-A3DF-7716AA50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94F-C739-4973-A288-7667BFE9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B02-80E1-40BB-99A0-D799A7A6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DCFE-6694-41A1-93D4-3929AEFB898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94FE-5F62-4E49-8D7D-CB0DA082F27D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721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2.  Методологические вопросы исследования структуры отраслевых рынков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7315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Рынок и рыночные струк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онцентрация продавцов на рынке и ее показате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оказатели монопольной вла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Структура рынка опреде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м и размерами фир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ом продукц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гкостью вход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ю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ычно в экономической литературе рассматривается четыре типа рыночных структур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ршенн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ическ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лигопол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олее детализированная характеристика рыночных структур по Штакельбергу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772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типы структур рынка продавц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772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ундаментальные предпосылки основных моделей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772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рактеристика основных рыночных структур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6964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нцентрация продавцов на рынке и ее показате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ыночная концентрация отражает удельный вес отдельных участников рынка или отрас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очная концентрация определяется двумя основными параметрам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енностью продавцов на рынке (или производителей в отрасли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м между ними рыночных долей (долей  в производств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ень концентрации тем выше, чем меньше количество фирм на рынке (или в отрасли).  При одинаковом количестве фирм уровень концентрации будет тем выше, чем больше неравномерность в распределении между фирмами их до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перв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 показателям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не должен изменяться в зависимости от размера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должен легко рассчитываться и легко интерпретирова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я индекса должны меняться в диапазоне от нуля до единицы, экстремальные значения должны соответствовать случаям совершенной конкуренции (значение близкое нулю) и монополии (значение равное единиц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втор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работаны на основе кривых концентрации, которые построены в координатах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бсцисса - кумулятивное число фирм, предварительно ранжированных по размеру от большей к меньшей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а - нарастающим итогом процент выпуска (или процент реализации) продукции, отражающий размеры фир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я рын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представляет собой систему отношений, в которой связи покупателей и продавцов столь свободны, что цены на один и тот же товар имеют тенденцию быстро выравниватьс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едставляет собой совокупность покупателей и продавцов, взаимодействия которых приводит в итоге к возможности обмен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это механизм передачи прав собствен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овокупность экономических условий, при которых покупатели и продавцы взаимодействуют для осуществления взаимовыгодных торговых сделок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Кривые концентр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772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едположим для дальнейшей характеристики показателей концентрации, что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7724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концентрации - обратная величина к числу фирм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3885840"/>
            <a:ext cx="6095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n - число фирм на рын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244602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эффициент концентрации- это сумма рыночных долей крупнейших фирм,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41148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той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, для которых определяется этот показате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505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ля измерения степени неравенства размеров фирм, действующих на рынке, используется показатель дисперсии рыночных долей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867280" cy="1128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19320" y="4572000"/>
            <a:ext cx="70102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спользуется показатель и дисперсии логарифмов рыночных доле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77724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9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(HHI) определяется как сумма квадратов долей всех фирм.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4114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 на рынке (в отрасли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8102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можно представить и в иной форме, с использованием коэффициента вариации (с) размеров фир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8483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399960"/>
            <a:ext cx="7848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нна и Кей предложили несколько критериев для оценки показателей рыночной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ранжирование рынков (отраслей) с помощью кривых концентр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о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ринцип трансферта объема прода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ти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словие входа и вы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тверт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условие поглощения или слияния фир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Ханна и Кея  аналогичен индексу Герфиндаля и Хиршмана, но позволяет присваивать различные веса фирмам отрасл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4920" y="3885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Ханна и Ке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α – положительная констан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ваемая исследователе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α=2 индекс Ханна и Кея совпадает с индексом Герфиндаля Хиршма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21040" y="2514600"/>
            <a:ext cx="1882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ки можно классифицировать по следующим признака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бъектам торговых сделок - товарные, факторов производства, денежные и т.д.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днородности товара - гомогенные и дифференцированные;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условиям функционирования - закрытые и открытые, организованные и стихийны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й показатель, основанный на кривой Лорен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Кривая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ажает неравномерность распределения какого-либо признак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лучая концентрации продавцов на рынке - взаимосвязь меж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ей рынка, подсчитанной нарастающим итогом (показываемой по ординате),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нтом фирм, обеспечивающих эту долю и ранжированных от мелких до крупных (представлены по абсциссе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иаграмма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9528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 представляет собо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е площади, ограниченной фактической кривой Лоренца и кривой Лоренца для абсолютно равномерного распределения рыночных долей (так называемой “кривой абсолютного равенства”) к площади треугольника, ограниченного кривой Лоренца для абсолютно равномерного распределения долей и осями абсцисс и ордина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ичины того или иного уровн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менение концентрации может быть результатом как изменения числа продавцов, так и изменений в распределении их рыночных долей. Следовательн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акторами изменения структуры рынка – рыночной концентрации являются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а рынок новых участников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 с рынка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яния и поглощения фир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 объемов производства фи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анализе отраслевых рынков важным яв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состояния и изменений структуры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факторов, влияющих на структуру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ление первопричин, влияющих на  повышение или снижение концентрации продавцов на рынке или фирм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ва подхода в выявлении и объяснении причин изменения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ерминистский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етерминистский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ходит из того, что в каждый данный момент должен существовать определенный равновесный уровень концентрации на рынке. Он определяется условиями спроса и предложения и поведением субъектов рынка, для которых наиболее существенными факторами явля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ологические возмож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ффект масштаб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U-образной кривой долгосрочных средних издержек</a:t>
            </a: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5257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D - спрос на продукцию конкурентной отрас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LRAC1 - U-образная кривая долгосрочных средних издерже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4674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ервоначально в соответствии с эффектом масштаба, фирма выбирает объем производства равны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, при котором средние издержки минимальны. Тогд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очная цена в условиях долгосрочного равновесия установится на уров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L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дновременно равной долгосрочным предельным издержка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рыночного спроса составит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D(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онкурентных фирм будут работать при минимальных издержках производства, производить одинаковый объем продукции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каждой фирмы в отрасли будет равна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а уровень концентрации в отрасли будет равен 1/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ипы границ рынк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ов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ажают способность товаров заменять друг друга в потребле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ен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характеризуют исследуемый временной интервал, а также границы эксплуатации продаваемого това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каль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пределяют пространственные границы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ледствия изменени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в отрасли в результате технологических усовершенствований кривая долгосрочных средних издержек перемещается в положени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LR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птимальный масштаб производства возрастет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а рыночная цена снизится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условии, что отношение оптимальных объемов производства до и после технологических изменений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больше, чем отношение соответствующих размеров рынка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, определяемое рыночным спросом, то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уровень концентрации действительно возрастет, а количество фирм в отрасли уменьши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перв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экзогенно заданные условия спроса и издержки производства в реальной действительности могут быть переменны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втор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образование более крупных фирм, в результате изменения минимально эффективного выпуска, при достаточно крупных размерах рынка, могут не повлечь за собой уменьшения общего количества фирм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третьи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U-образную форму кривой долгосрочных средних издержек, хотя в действительности она часто имеет L-образную фор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образной кривой долгосрочных средни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80773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четвер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только условия совершенной конкуренции. В условиях олигополии равновесная цена может быть выше конкурентной цены 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 Если на рынке олигополии установилась цена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о на рынке могут работать фирмы одинакового размера с объемами производства ниже минимально эффективного выпуска: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ак как их издержки окупаются при це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пя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не учитывает распределение фирм по размерам, предполагая их одинаковость, что также далеко от реаль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ходит из того, что влияние на уровень концентрации оказывают множество случайных факторов, действующих разнонаправле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оцесс Жиб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ится при следующих предпосылка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витие каждой фирмы происходит в соответствии заданным вероятностным распределением пропорционального изменения объем выпуска продукци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данная вероятность пропорционального изменения не зависит от размера фирмы в текущий момент времен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ссмотрим процесс Жибра на условном приме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чальный момент времени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=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в отрасли действуют 256 фирм одинакового размера – мощностью 57600 единиц продукции в год каждая. Любая фирма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5 - сохранить свой размер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величить свой размер в 16/15 раз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меньшить свой размер в 15/16 раз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я в распределении размеров фирм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первого этапа  (t=1)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ловина фирм (128 из 256) сохраняют свой размер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твертая часть фирм (64 из 256) уменьшают свой размер до 54000 (57600*15/16)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столько же фирм (64 из 256) увеличивают свой размер до 61440 (57600*16/15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следующего этапа (при t=2) проце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ается в отношении каждой фирмы пр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 же вероятностных распределен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ллюстрация изменения в распределении размеров фирм в несколько этапов процесса Жиб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9246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результате распределение фирм по размерам становится ассиметричным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ие фирмы изменяются на большую абсолютную величину, чем меньш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рост мощностей составил 3840 (61440-57600) и 4096 (65536-614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ение мощностей составило 3600 (57600- 54000) и 3375 (54000-50625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ритерии для определения границ отраслевого рынка, предложенные Дж.Робинсон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границах одного отраслевого рынка рассматриваю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товар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заменителей товар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заменители очередных заменител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так до тех пор пока в цепи товаров-заменителей не обнаружится значительный разры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поставление двух метод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хастический подход придает большее значение распределению рыночных до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ерминистский подход больше акцентирует изменения числа фирм на рын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казатели рыночной вла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Бэйна  (норма экономической прибыли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Лерне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Тобина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бин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Папандре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эффициент (индекс) Бейна (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ывает экономическую прибыль на одну денежную единицу собственного капит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66680" y="2963880"/>
            <a:ext cx="77724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ндекс (коэффициент) Лерне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240" y="29718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онопольная це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едельные издерж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ценовая эластичность спро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лучае монополии значение индекса Лернера приближается к единице, а в случае совершенной конкуренции этот показатель равен нул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8098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399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евышение монопольной цены над предельными издержками 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зависимости от ценовой эластичности спрос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велика, то цена, которая максимизирует прибыль монополиста, будет лишь немного превышать предельные издержки – рис. 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е эластичный рыночный спрос обеспечивает большую монопольную надбавку к конкурентной цене – рис. 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816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рав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20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принимает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.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составляет только 5% от це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же ценовая эластичность спрос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1,6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состави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,62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увеличится до 62,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399960"/>
            <a:ext cx="784872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скольку в долгосрочном периоде в условиях равновесия предельные издержки (МС) равны средним (АС), то индекс Лернера можно определить и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34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99960"/>
            <a:ext cx="762012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Лернера показывает также долю монопольной прибыли (П</a:t>
            </a:r>
            <a:r>
              <a:rPr b="1" lang="ru-RU" sz="3600" spc="-1" strike="noStrike" baseline="-25000">
                <a:solidFill>
                  <a:srgbClr val="221304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) от общей выручки (TR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464832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399600"/>
            <a:ext cx="830556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Модификации индекса Лернера для рынка олигополии ( если рынок описывается моделью Курно)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5280" y="51811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бъем выпус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го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игополис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ыночный спро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960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ожив второе слагаемое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/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затем на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 несложных преобразовани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учим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447920" y="4594320"/>
            <a:ext cx="70102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качестве критериев определения границ отраслевого рынка Э.Чемберлин предложил коэффициенты перекрестной эластичности, а именно оценивается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меняемость товара - с помощью коэффициента перекрестной эластичности спроса на товар по цене товара-заменител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висимость фирм-производителей товара - с помощью коэффициента перекрестной эластичности цены данного товара по объему выпуска товара-заменител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редний для отрасли индекс Лернера можно вычислить, умножив левую и правую части 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и суммированием по всем фирмам отрас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66680" y="2017800"/>
            <a:ext cx="7162920" cy="1469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19320" y="3581280"/>
            <a:ext cx="7619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 результате средний по отрасли индекс Лернера равен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75438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Коэффициент Тобина (q Тобина) связывает рыночную стоимость фирмы (измеряемой рыночной ценой ее акций) с восстановительной стоимостью ее активов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433680" y="2362320"/>
                <a:ext cx="2046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обин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36576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P- рыночная стоимость активов фир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ычно определяется по курсу ак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- восстановительная стоимость актив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, равная сумме расходов, необходимы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иобретения активов фирмы по текущи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qТобина&gt; 1 - свидетельство полученной или ожидаемой положительной экономическ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индекса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азируется на гипотезе эффективного финансового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высоким значением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ычно обладают уникальными факторами производства или выпускают уникальные товары, то есть для этих фирм характерно наличие монопольной рент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небольшими значениями </a:t>
            </a: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действуют в конкурентных или регулируемых отрасля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оэффициент монопольной власти Папандреу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вается на концепции перекрестной эластичности остаточного спроса на товар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 сам по себе показатель перекрестной эластичности остаточного спроса не может служить показателем монопольной власти, так как его величина зависит от двух факторов, оказывающих противоположное влияние на монопольную влас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числа фирм на рынк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уровня заменимости товара рассматриваемого продавца и товаров других фир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ение числа фирм на рынке приводит к снижению их взаимозависимости и соответствующему снижению показателя перекрестной эластичности остаточного спрос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Чем выше значения коэффициентов перекрестной эластичности, те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е близкими заменителями, т.е. более однородными являются рассматриваемые това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взаимозависимость фирм производ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дход антимонопольных комитетов ряда стран -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перекрестная эластичность спроса по цене становится меньше определенной заданной величины, считается, что в цепи товаров-заменителей имеет место разрыв, который является границей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граничение между понятиями «рынок» и «отрасль»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ен удовлетворяемой потребность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яет фирмы, предлагающие товар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окупа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спрос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ена производимыми продук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яет фирмы, производящие продукт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предлож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5:56:02Z</dcterms:created>
  <dc:creator>Jevgenij</dc:creator>
  <dc:description/>
  <dc:language>en-US</dc:language>
  <cp:lastModifiedBy>Евгений</cp:lastModifiedBy>
  <dcterms:modified xsi:type="dcterms:W3CDTF">2008-09-17T10:06:28Z</dcterms:modified>
  <cp:revision>102</cp:revision>
  <dc:subject/>
  <dc:title>Заголовок слайда отсутствует</dc:title>
</cp:coreProperties>
</file>