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30.png" ContentType="image/png"/>
  <Override PartName="/ppt/media/image5.png" ContentType="image/png"/>
  <Override PartName="/ppt/media/image6.png" ContentType="image/png"/>
  <Override PartName="/ppt/media/image14.wmf" ContentType="image/x-wmf"/>
  <Override PartName="/ppt/media/image10.wmf" ContentType="image/x-wmf"/>
  <Override PartName="/ppt/media/image25.png" ContentType="image/png"/>
  <Override PartName="/ppt/media/image11.png" ContentType="image/png"/>
  <Override PartName="/ppt/media/image31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9.wmf" ContentType="image/x-wmf"/>
  <Override PartName="/ppt/media/image1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wmf" ContentType="image/x-wmf"/>
  <Override PartName="/ppt/media/image21.png" ContentType="image/png"/>
  <Override PartName="/ppt/media/image22.wmf" ContentType="image/x-wmf"/>
  <Override PartName="/ppt/media/image23.png" ContentType="image/png"/>
  <Override PartName="/ppt/media/image24.wmf" ContentType="image/x-wmf"/>
  <Override PartName="/ppt/media/image2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ED3F-ED5F-4ACD-B0C3-26629A2DD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515F-549F-451D-A64A-CE44F6A7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7C72-6301-4E74-9487-760DF6D4D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C226-F7E9-455D-BAD6-C85BE3910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1C29-AA39-4511-A1F7-07D3B21B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136E-78AD-4AEA-9FA0-0F67CE55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37F5-0B94-4872-8511-85DE9788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4807-22D8-4943-907A-EBF5F0AC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6D6B-0A15-443D-9EC2-70C941AA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A755-881F-4584-89DC-25C30A00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66C8-68D8-45C6-BA61-FC5CE98B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333C-9B4B-465B-964A-D8511301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A7AD-8713-4C74-AB6E-951EA6A4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F3D1-7C5E-4338-864A-C5570514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4E47-590D-482C-8678-46E2048B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6BC3-6C47-490E-895F-E513964E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D36B-5262-44B1-AD5F-F0642311A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3916-1214-4D50-8C00-B1FEA7D3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92DB-EAEA-42EB-9A66-2A694BCE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AB36-1A89-4107-8E2B-BA826F64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D356-F89D-4D2A-A1FD-3CB3AAD2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2317-2CB5-4089-86DE-31B591D5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AC1C-61FD-4965-BCAF-FC59B478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5DAF-5C29-4B84-9ACB-B3A7DA3F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minispir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minispir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48A4-416A-4B9B-AB4D-6771D1B2D32E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8253-B184-4176-8DFD-716E7CF7140C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721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Тема 2.  Методологические вопросы исследования структуры отраслевых рынков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95280" y="2895120"/>
            <a:ext cx="7315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Рынок и рыночные структур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Концентрация продавцов на рынке и ее показател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Показатели монопольной вла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Структура рынка определяетс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ичеством и размерами фир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арактером продукци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гкостью входа на рынок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упностью информац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ычно в экономической литературе рассматривается четыре типа рыночных структур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ершенная конкуренц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истическая конкуренц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лигопол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Более детализированная характеристика рыночных структур по Штакельбергу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77724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Основные типы структур рынка продавца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77724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Фундаментальные предпосылки основных моделей рын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7724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Характеристика основных рыночных структур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69644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Концентрация продавцов на рынке и ее показател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ыночная концентрация отражает удельный вес отдельных участников рынка или отрас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ыночная концентрация определяется двумя основными параметрами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исленностью продавцов на рынке (или производителей в отрасли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пределением между ними рыночных долей (долей  в производстве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вень концентрации тем выше, чем меньше количество фирм на рынке (или в отрасли).  При одинаковом количестве фирм уровень концентрации будет тем выше, чем больше неравномерность в распределении между фирмами их до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Требования первого порядка </a:t>
            </a:r>
            <a:br>
              <a:rPr sz="3600"/>
            </a:b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к показателям концентрации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екс концентрации не должен изменяться в зависимости от размера рын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екс концентрации должен легко рассчитываться и легко интерпретироватьс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чения индекса должны меняться в диапазоне от нуля до единицы, экстремальные значения должны соответствовать случаям совершенной конкуренции (значение близкое нулю) и монополии (значение равное единице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Требования второго порядка </a:t>
            </a:r>
            <a:br>
              <a:rPr sz="3600"/>
            </a:b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азработаны на основе кривых концентрации, которые построены в координатах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бсцисса - кумулятивное число фирм, предварительно ранжированных по размеру от большей к меньшей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дината - нарастающим итогом процент выпуска (или процент реализации) продукции, отражающий размеры фир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пределения рын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представляет собой систему отношений, в которой связи покупателей и продавцов столь свободны, что цены на один и тот же товар имеют тенденцию быстро выравниватьс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представляет собой совокупность покупателей и продавцов, взаимодействия которых приводит в итоге к возможности обмен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это механизм передачи прав собственност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совокупность экономических условий, при которых покупатели и продавцы взаимодействуют для осуществления взаимовыгодных торговых сделок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Кривые концентра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7724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Предположим для дальнейшей характеристики показателей концентрации, что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77724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концентрации - обратная величина к числу фирм в отрасли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47560" y="3885840"/>
            <a:ext cx="6095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n - число фирм на рын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352680" y="1905120"/>
            <a:ext cx="2446020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Коэффициент концентрации- это сумма рыночных долей крупнейших фирм, действующих на рынке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94920" y="41148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рыночная доля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той фирмы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число фирм, для которых определяется этот показатель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lv-LV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объем продаж фирм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объем рыночных продаж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133720" y="2514600"/>
            <a:ext cx="4505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21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Для измерения степени неравенства размеров фирм, действующих на рынке, используется показатель дисперсии рыночных долей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057400" y="3048120"/>
            <a:ext cx="5867280" cy="1128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219320" y="4572000"/>
            <a:ext cx="701028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399600"/>
            <a:ext cx="784836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спользуется показатель и дисперсии логарифмов рыночных долей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777240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9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Герфиндаля-Хиршмана (HHI) определяется как сумма квадратов долей всех фирм. действующих на рынке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41144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рыночная доля фирмы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число фирм на рынке (в отрасли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lv-LV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объем продаж фирм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объем рыночных продаж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38102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Герфиндаля-Хиршмана можно представить и в иной форме, с использованием коэффициента вариации (с) размеров фирм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78483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360" y="399960"/>
            <a:ext cx="7848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Ханна и Кей предложили несколько критериев для оценки показателей рыночной концентрации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68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ый 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ранжирование рынков (отраслей) с помощью кривых концентр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торой 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принцип трансферта объема продаж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етий 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словие входа и выхо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твертый 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условие поглощения или слияния фирм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Ханна и Кея  аналогичен индексу Герфиндаля и Хиршмана, но позволяет присваивать различные веса фирмам отрасли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94920" y="388584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R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екс Ханна и Ке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α – положительная констант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даваемая исследователе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α=2 индекс Ханна и Кея совпадает с индексом Герфиндаля Хиршма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821040" y="2514600"/>
            <a:ext cx="18828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ынки можно классифицировать по следующим признакам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объектам торговых сделок - товарные, факторов производства, денежные и т.д.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однородности товара - гомогенные и дифференцированные;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условиям функционирования - закрытые и открытые, организованные и стихийные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Индекс Джин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атистический показатель, основанный на кривой Лорен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Кривая Лоренц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ражает неравномерность распределения какого-либо признак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случая концентрации продавцов на рынке - взаимосвязь межд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ей рынка, подсчитанной нарастающим итогом (показываемой по ординате),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нтом фирм, обеспечивающих эту долю и ранжированных от мелких до крупных (представлены по абсциссе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иаграмма Лоренц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495288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Индекс Джини представляет собой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ношение площади, ограниченной фактической кривой Лоренца и кривой Лоренца для абсолютно равномерного распределения рыночных долей (так называемой “кривой абсолютного равенства”) к площади треугольника, ограниченного кривой Лоренца для абсолютно равномерного распределения долей и осями абсцисс и ординат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Причины того или иного уровня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рыночной концентр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менение концентрации может быть результатом как изменения числа продавцов, так и изменений в распределении их рыночных долей. Следовательно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акторами изменения структуры рынка – рыночной концентрации являются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ход на рынок новых участников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ход с рынка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ияния и поглощения фирм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ст объемов производства фир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 анализе отраслевых рынков важным являетс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статация состояния и изменений структуры рынк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статация факторов, влияющих на структуру рын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вление первопричин, влияющих на  повышение или снижение концентрации продавцов на рынке или фирм в отрас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Два подхода в выявлении и объяснении причин изменения рыночной концентр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терминистский;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охастический (вероятностный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Детерминистский подхо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ходит из того, что в каждый данный момент должен существовать определенный равновесный уровень концентрации на рынке. Он определяется условиями спроса и предложения и поведением субъектов рынка, для которых наиболее существенными факторами являю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ехнологические возможности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ффект масштаб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Эффект масштаба и рыночная концентрация при</a:t>
            </a:r>
            <a:br>
              <a:rPr sz="2800"/>
            </a:b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U-образной кривой долгосрочных средних издержек</a:t>
            </a: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5257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D - спрос на продукцию конкурентной отрасл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LRAC1 - U-образная кривая долгосрочных средних издерже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7467480" cy="35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ервоначально в соответствии с эффектом масштаба, фирма выбирает объем производства равный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, при котором средние издержки минимальны. Тогда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8305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очная цена в условиях долгосрочного равновесия установится на уровн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= LAC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одновременно равной долгосрочным предельным издержкам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ровень рыночного спроса составит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= D(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се 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конкурентных фирм будут работать при минимальных издержках производства, производить одинаковый объем продукции 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я каждой фирмы в отрасли будет равна 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а уровень концентрации в отрасли будет равен 1/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n 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Типы границ рынка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дуктовые границ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отражают способность товаров заменять друг друга в потреблен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ременные границ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характеризуют исследуемый временной интервал, а также границы эксплуатации продаваемого това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окальные границ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определяют пространственные границы рын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следствия изменений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в отрасли в результате технологических усовершенствований кривая долгосрочных средних издержек перемещается в положени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LRAC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оптимальный масштаб производства возрастет до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а рыночная цена снизится до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&gt;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&lt;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 условии, что отношение оптимальных объемов производства до и после технологических изменений (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/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 больше, чем отношение соответствующих размеров рынка (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/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, определяемое рыночным спросом, то 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/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&gt;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/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и уровень концентрации действительно возрастет, а количество фирм в отрасли уменьшитс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Существенные допущения, которым реальная ситуация может не соответствовать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о-первы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экзогенно заданные условия спроса и издержки производства в реальной действительности могут быть переменным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о-вторы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образование более крупных фирм, в результате изменения минимально эффективного выпуска, при достаточно крупных размерах рынка, могут не повлечь за собой уменьшения общего количества фирм на рынк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-третьи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модель рассматривает U-образную форму кривой долгосрочных средних издержек, хотя в действительности она часто имеет L-образную фор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ффект масштаба и рыночная концентрация при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образной кривой долгосрочных средних издержек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807732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Существенные допущения, которым реальная ситуация может не соответствовать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-четверты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модель рассматривает только условия совершенной конкуренции. В условиях олигополии равновесная цена может быть выше конкурентной цены (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. Если на рынке олигополии установилась цена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&gt;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то на рынке могут работать фирмы одинакового размера с объемами производства ниже минимально эффективного выпуска: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&lt;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так как их издержки окупаются при цен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-пяты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модель не учитывает распределение фирм по размерам, предполагая их одинаковость, что также далеко от реальност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тохастический (вероятностный) подхо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ходит из того, что влияние на уровень концентрации оказывают множество случайных факторов, действующих разнонаправле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оцесс Жибр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роится при следующих предпосылках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звитие каждой фирмы происходит в соответствии заданным вероятностным распределением пропорционального изменения объем выпуска продукци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данная вероятность пропорционального изменения не зависит от размера фирмы в текущий момент времен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Рассмотрим процесс Жибра на условном пример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467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начальный момент времени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t=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в отрасли действуют 256 фирм одинакового размера – мощностью 57600 единиц продукции в год каждая. Любая фирма може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вероятностью 0,5 - сохранить свой размер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вероятностью 0,25 – увеличить свой размер в 16/15 раза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вероятностью 0,25 – уменьшить свой размер в 15/16 раз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менения в распределении размеров фирм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концу первого этапа  (t=1)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ловина фирм (128 из 256) сохраняют свой размер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етвертая часть фирм (64 из 256) уменьшают свой размер до 54000 (57600*15/16)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 столько же фирм (64 из 256) увеличивают свой размер до 61440 (57600*16/15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концу следующего этапа (при t=2) процес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должается в отношении каждой фирмы пр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 же вероятностных распределен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ллюстрация изменения в распределении размеров фирм в несколько этапов процесса Жиб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92468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 результате распределение фирм по размерам становится ассиметричным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-226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льшие фирмы изменяются на большую абсолютную величину, чем меньши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рост мощностей составил 3840 (61440-57600) и 4096 (65536-6144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нижение мощностей составило 3600 (57600- 54000) и 3375 (54000-50625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399600"/>
            <a:ext cx="7848360" cy="15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Критерии для определения границ отраслевого рынка, предложенные Дж.Робинсон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границах одного отраслевого рынка рассматривают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заменители товар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заменители заменителей товар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лее заменители очередных заменителе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так до тех пор пока в цепи товаров-заменителей не обнаружится значительный разрыв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поставление двух метод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77724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охастический подход придает большее значение распределению рыночных до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терминистский подход больше акцентирует изменения числа фирм на рын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казатели рыночной власт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эффициент Бэйна  (норма экономической прибыли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эффициент Лернер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эффициент Тобина (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обина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эффициент Папандре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эффициент (индекс) Бейна (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54380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зывает экономическую прибыль на одну денежную единицу собственного капита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066680" y="2963880"/>
            <a:ext cx="777240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ндекс (коэффициент) Лерне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240" y="297180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монопольная цен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предельные издержк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ценовая эластичность спро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лучае монополии значение индекса Лернера приближается к единице, а в случае совершенной конкуренции этот показатель равен нул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38098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040" y="3996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ревышение монопольной цены над предельными издержками </a:t>
            </a:r>
            <a:br>
              <a:rPr sz="2800"/>
            </a:b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в зависимости от ценовой эластичности спрос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4952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ценовая эластичность спроса велика, то цена, которая максимизирует прибыль монополиста, будет лишь немного превышать предельные издержки – рис. 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нее эластичный рыночный спрос обеспечивает большую монопольную надбавку к конкурентной цене – рис. 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78168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пример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77156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ценовая эластичность спроса равн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-20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декс Лернера принимает значени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0.0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дбавка составляет только 5% от цен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же ценовая эластичность спрос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-1,6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декс Лернера состави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0,625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дбавка увеличится до 62,5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399960"/>
            <a:ext cx="784872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оскольку в долгосрочном периоде в условиях равновесия предельные издержки (МС) равны средним (АС), то индекс Лернера можно определить и по формуле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5349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399960"/>
            <a:ext cx="7620120" cy="17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Лернера показывает также долю монопольной прибыли (П</a:t>
            </a:r>
            <a:r>
              <a:rPr b="1" lang="ru-RU" sz="3600" spc="-1" strike="noStrike" baseline="-25000">
                <a:solidFill>
                  <a:srgbClr val="221304"/>
                </a:solidFill>
                <a:latin typeface="Times New Roman"/>
              </a:rPr>
              <a:t>m</a:t>
            </a: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) от общей выручки (TR)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438280" y="2895480"/>
            <a:ext cx="464832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160" y="399600"/>
            <a:ext cx="830556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Модификации индекса Лернера для рынка олигополии ( если рынок описывается моделью Курно)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95280" y="5181120"/>
            <a:ext cx="7315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объем выпуск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го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лигополист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рыночный спро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69608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множив второе слагаемое н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/p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затем на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ле несложных преобразований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олучим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7391520" cy="11430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447920" y="4594320"/>
            <a:ext cx="701028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 качестве критериев определения границ отраслевого рынка Э.Чемберлин предложил коэффициенты перекрестной эластичности, а именно оценивается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заимозаменяемость товара - с помощью коэффициента перекрестной эластичности спроса на товар по цене товара-заменителя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заимозависимость фирм-производителей товара - с помощью коэффициента перекрестной эластичности цены данного товара по объему выпуска товара-заменителя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99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Средний для отрасли индекс Лернера можно вычислить, умножив левую и правую части н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 и суммированием по всем фирмам отрасл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066680" y="2017800"/>
            <a:ext cx="7162920" cy="14698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219320" y="3581280"/>
            <a:ext cx="761976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В результате средний по отрасли индекс Лернера равен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75438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Коэффициент Тобина (q Тобина) связывает рыночную стоимость фирмы (измеряемой рыночной ценой ее акций) с восстановительной стоимостью ее активов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433680" y="2362320"/>
                <a:ext cx="20462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обина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680" y="36576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P- рыночная стоимость активов фирмы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обычно определяется по курсу акций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- восстановительная стоимость актив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рмы, равная сумме расходов, необходимых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приобретения активов фирмы по текущим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на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qТобина&gt; 1 - свидетельство полученной или ожидаемой положительной экономической прибыл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ние индекса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Тоби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базируется на гипотезе эффективного финансового рын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рмы с высоким значением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Тоби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бычно обладают уникальными факторами производства или выпускают уникальные товары, то есть для этих фирм характерно наличие монопольной рент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рмы с небольшими значениями </a:t>
            </a:r>
            <a:r>
              <a:rPr b="0" i="1" lang="en-GB" sz="28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Тоби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действуют в конкурентных или регулируемых отрасля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Коэффициент монопольной власти Папандреу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ывается на концепции перекрестной эластичности остаточного спроса на товар фир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ако сам по себе показатель перекрестной эластичности остаточного спроса не может служить показателем монопольной власти, так как его величина зависит от двух факторов, оказывающих противоположное влияние на монопольную власть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55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 числа фирм на рынке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 уровня заменимости товара рассматриваемого продавца и товаров других фирм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величение числа фирм на рынке приводит к снижению их взаимозависимости и соответствующему снижению показателя перекрестной эластичности остаточного спроса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Чем выше значения коэффициентов перекрестной эластичности, тем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лее близкими заменителями, т.е. более однородными являются рассматриваемые товар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ше взаимозависимость фирм производител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Подход антимонопольных комитетов ряда стран -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перекрестная эластичность спроса по цене становится меньше определенной заданной величины, считается, что в цепи товаров-заменителей имеет место разрыв, который является границей рын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азграничение между понятиями «рынок» и «отрасль»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нок объединен удовлетворяемой потребность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нок объединяет фирмы, предлагающие товары, являющиеся близкими заменителям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 точки зрения покупател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со стороны спроса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расль объединена производимыми продукт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расль объединяет фирмы, производящие продукты, являющиеся близкими заменителям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 точки зрения производител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со стороны предлож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1T15:56:02Z</dcterms:created>
  <dc:creator>Jevgenij</dc:creator>
  <dc:description/>
  <dc:language>en-US</dc:language>
  <cp:lastModifiedBy>Евгений</cp:lastModifiedBy>
  <dcterms:modified xsi:type="dcterms:W3CDTF">2008-09-17T10:06:28Z</dcterms:modified>
  <cp:revision>102</cp:revision>
  <dc:subject/>
  <dc:title>Заголовок слайда отсутствует</dc:title>
</cp:coreProperties>
</file>