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6AA7B-7F8D-4AA5-9B02-D7D97AD154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3C88-62C1-4824-8D5F-EF4E54AC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C5D5-CA21-405B-970E-4C2309EB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8478-7B2D-4BB8-8D0F-00B52FB7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20AC-F0BE-44B3-9258-E8309A14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59E0-40D0-4687-ABF6-72DEC596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9DE4-A813-4679-8890-44719EA1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17B1-693E-44E2-ACD4-98069954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3F9C-AD43-4283-BB3F-0372607D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EA25-CB7E-445E-A4A2-2B84C7CB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25416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6AFC-EC75-413F-988F-3ADD1067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5A82-BA30-49CB-888C-5E48F685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1111-8271-4A41-8F60-9F785B91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4F14-BFEA-443F-B337-997EF7EF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A69B-3AD5-4C58-92F0-F3A599F5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6516-4CF4-40DE-B477-AF6CA924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5D61-BC23-4951-BB82-5323C2BB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E3B7-FD51-49DC-863F-6447CB54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052-529C-4C04-B24A-94CD52B5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7D14-4F66-4653-85F7-A6BE18C8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824C-04AA-465E-8841-EF9EF4F5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25416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EB2A-7E6A-4353-A489-126D6FC1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6808-24B5-40CE-948E-45F74FC3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1124-9E19-4427-8F1D-8D186AA4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A514-1953-4BD3-83FB-0750FEEA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B1A8A9-D08C-4C2B-BC92-96B5320E1106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911240"/>
            <a:ext cx="7719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440" y="6113520"/>
            <a:ext cx="19288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3520"/>
            <a:ext cx="28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3520"/>
            <a:ext cx="1827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1D6AF71-426C-4E60-BD44-A07BCFA79628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1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8.png"/><Relationship Id="rId11" Type="http://schemas.openxmlformats.org/officeDocument/2006/relationships/image" Target="../media/image20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нализ отраслевых барьеров в рыночной экономике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Отраслевые барьеры и их классифик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Нестратегические барь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Стратегические барь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Проблемы, связанные со стратегическими барьер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8CA2-232F-440A-BF26-302AC32E3C6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29016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Классификация барьеров в зависимости от  влияния на рыночную структуру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079640" y="1619280"/>
            <a:ext cx="7740360" cy="5041800"/>
            <a:chOff x="1079640" y="1619280"/>
            <a:chExt cx="7740360" cy="5041800"/>
          </a:xfrm>
        </p:grpSpPr>
        <p:sp>
          <p:nvSpPr>
            <p:cNvPr id="157" name=""/>
            <p:cNvSpPr/>
            <p:nvPr/>
          </p:nvSpPr>
          <p:spPr>
            <a:xfrm>
              <a:off x="1252440" y="1706400"/>
              <a:ext cx="7567560" cy="495468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9" idx="0"/>
              <a:endCxn id="160" idx="2"/>
            </p:cNvCxnSpPr>
            <p:nvPr/>
          </p:nvCxnSpPr>
          <p:spPr>
            <a:xfrm rot="10800000">
              <a:off x="6593760" y="5400720"/>
              <a:ext cx="105480" cy="35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1" name=""/>
            <p:cNvCxnSpPr>
              <a:stCxn id="162" idx="0"/>
              <a:endCxn id="163" idx="2"/>
            </p:cNvCxnSpPr>
            <p:nvPr/>
          </p:nvCxnSpPr>
          <p:spPr>
            <a:xfrm flipV="1">
              <a:off x="4946400" y="5400720"/>
              <a:ext cx="91080" cy="35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4" name=""/>
            <p:cNvCxnSpPr>
              <a:stCxn id="165" idx="0"/>
              <a:endCxn id="166" idx="2"/>
            </p:cNvCxnSpPr>
            <p:nvPr/>
          </p:nvCxnSpPr>
          <p:spPr>
            <a:xfrm rot="10800000">
              <a:off x="8151120" y="3956760"/>
              <a:ext cx="2160" cy="45000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7" name=""/>
            <p:cNvCxnSpPr>
              <a:stCxn id="160" idx="0"/>
              <a:endCxn id="168" idx="2"/>
            </p:cNvCxnSpPr>
            <p:nvPr/>
          </p:nvCxnSpPr>
          <p:spPr>
            <a:xfrm rot="10800000">
              <a:off x="6544440" y="4147560"/>
              <a:ext cx="50040" cy="259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9" name=""/>
            <p:cNvCxnSpPr>
              <a:stCxn id="163" idx="0"/>
              <a:endCxn id="170" idx="2"/>
            </p:cNvCxnSpPr>
            <p:nvPr/>
          </p:nvCxnSpPr>
          <p:spPr>
            <a:xfrm rot="10800000">
              <a:off x="4652280" y="4139640"/>
              <a:ext cx="384840" cy="26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1" name=""/>
            <p:cNvCxnSpPr>
              <a:stCxn id="172" idx="0"/>
              <a:endCxn id="173" idx="2"/>
            </p:cNvCxnSpPr>
            <p:nvPr/>
          </p:nvCxnSpPr>
          <p:spPr>
            <a:xfrm rot="10800000">
              <a:off x="2567880" y="3956760"/>
              <a:ext cx="907200" cy="450000"/>
            </a:xfrm>
            <a:prstGeom prst="bentConnector3">
              <a:avLst>
                <a:gd name="adj1" fmla="val 4998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4" name=""/>
            <p:cNvCxnSpPr>
              <a:stCxn id="175" idx="0"/>
              <a:endCxn id="173" idx="2"/>
            </p:cNvCxnSpPr>
            <p:nvPr/>
          </p:nvCxnSpPr>
          <p:spPr>
            <a:xfrm flipV="1">
              <a:off x="1833480" y="3957120"/>
              <a:ext cx="735840" cy="450000"/>
            </a:xfrm>
            <a:prstGeom prst="bentConnector3">
              <a:avLst>
                <a:gd name="adj1" fmla="val 49975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6" name=""/>
            <p:cNvCxnSpPr>
              <a:stCxn id="166" idx="0"/>
              <a:endCxn id="177" idx="2"/>
            </p:cNvCxnSpPr>
            <p:nvPr/>
          </p:nvCxnSpPr>
          <p:spPr>
            <a:xfrm rot="10800000">
              <a:off x="5425200" y="2518560"/>
              <a:ext cx="2726640" cy="537480"/>
            </a:xfrm>
            <a:prstGeom prst="bentConnector3">
              <a:avLst>
                <a:gd name="adj1" fmla="val 49993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8" name=""/>
            <p:cNvCxnSpPr>
              <a:stCxn id="168" idx="0"/>
              <a:endCxn id="177" idx="2"/>
            </p:cNvCxnSpPr>
            <p:nvPr/>
          </p:nvCxnSpPr>
          <p:spPr>
            <a:xfrm rot="10800000">
              <a:off x="5425200" y="2518560"/>
              <a:ext cx="1119960" cy="551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9" name=""/>
            <p:cNvCxnSpPr>
              <a:stCxn id="170" idx="0"/>
              <a:endCxn id="177" idx="2"/>
            </p:cNvCxnSpPr>
            <p:nvPr/>
          </p:nvCxnSpPr>
          <p:spPr>
            <a:xfrm flipV="1">
              <a:off x="4653000" y="2518920"/>
              <a:ext cx="775440" cy="54072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80" name=""/>
            <p:cNvCxnSpPr>
              <a:stCxn id="173" idx="0"/>
              <a:endCxn id="177" idx="2"/>
            </p:cNvCxnSpPr>
            <p:nvPr/>
          </p:nvCxnSpPr>
          <p:spPr>
            <a:xfrm flipV="1">
              <a:off x="2568240" y="2518920"/>
              <a:ext cx="2858040" cy="540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177" name=""/>
            <p:cNvSpPr/>
            <p:nvPr/>
          </p:nvSpPr>
          <p:spPr>
            <a:xfrm>
              <a:off x="4757760" y="1619280"/>
              <a:ext cx="1335240" cy="900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иды отраслевых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барьеров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70120" y="3060720"/>
              <a:ext cx="1596960" cy="898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 препятствующи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ходу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совершенн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80000" y="3060720"/>
              <a:ext cx="1744560" cy="1079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эффективно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монополистическ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3071880"/>
              <a:ext cx="1508040" cy="107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Эффективно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доминрироую-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щей фирмы ил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лигопол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85120" y="3057480"/>
              <a:ext cx="1334880" cy="900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Блокиру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абсолютн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монопол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79640" y="4408560"/>
              <a:ext cx="1508040" cy="900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вободный доступ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 ресурсам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06560" y="4408560"/>
              <a:ext cx="1338480" cy="900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вободный доступ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 рынку</a:t>
              </a:r>
              <a:br>
                <a:rPr sz="1300"/>
              </a:b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68960" y="4408560"/>
              <a:ext cx="1334880" cy="9921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озможность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деятельности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 краткосрочном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ериоде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27760" y="4408560"/>
              <a:ext cx="1333440" cy="9921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еятельность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 долгосрочном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ериоде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86560" y="4408560"/>
              <a:ext cx="1333440" cy="900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елающие вход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невозможным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89320" y="5759280"/>
              <a:ext cx="1514520" cy="90036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сутствие реакции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тов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27760" y="5759280"/>
              <a:ext cx="1542960" cy="9003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ребуются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ополнительные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аты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86C1-C053-4C5D-87CD-3CCD109DB3E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Нестратегические и стратегические барьеры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9640" y="161928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Нестратегическ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барьеры, создаваемые условиями отрасли, факторами объективного характера и по большей части независимые от деятельности фирмы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Стратегические барьер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появляются в результате стратегических действий самих фирм на рынке или в отрасли и, в силу этого, имеют субъективный характер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D756-FB1F-4B80-A755-BC90919B04E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29844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Нестратегические и стратегические барьеры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20720" y="1440000"/>
            <a:ext cx="8099280" cy="4859280"/>
            <a:chOff x="720720" y="1440000"/>
            <a:chExt cx="8099280" cy="4859280"/>
          </a:xfrm>
        </p:grpSpPr>
        <p:sp>
          <p:nvSpPr>
            <p:cNvPr id="185" name=""/>
            <p:cNvSpPr/>
            <p:nvPr/>
          </p:nvSpPr>
          <p:spPr>
            <a:xfrm>
              <a:off x="720720" y="1440000"/>
              <a:ext cx="8099280" cy="485928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6" name=""/>
            <p:cNvCxnSpPr>
              <a:stCxn id="187" idx="0"/>
              <a:endCxn id="188" idx="2"/>
            </p:cNvCxnSpPr>
            <p:nvPr/>
          </p:nvCxnSpPr>
          <p:spPr>
            <a:xfrm rot="10800000">
              <a:off x="7601760" y="3648960"/>
              <a:ext cx="67212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89" name=""/>
            <p:cNvCxnSpPr>
              <a:stCxn id="190" idx="0"/>
              <a:endCxn id="188" idx="2"/>
            </p:cNvCxnSpPr>
            <p:nvPr/>
          </p:nvCxnSpPr>
          <p:spPr>
            <a:xfrm flipV="1">
              <a:off x="7000560" y="3649320"/>
              <a:ext cx="60228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1" name=""/>
            <p:cNvCxnSpPr>
              <a:stCxn id="192" idx="0"/>
              <a:endCxn id="193" idx="2"/>
            </p:cNvCxnSpPr>
            <p:nvPr/>
          </p:nvCxnSpPr>
          <p:spPr>
            <a:xfrm rot="10800000">
              <a:off x="5725440" y="4974480"/>
              <a:ext cx="22899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4" name=""/>
            <p:cNvCxnSpPr>
              <a:stCxn id="195" idx="0"/>
              <a:endCxn id="193" idx="2"/>
            </p:cNvCxnSpPr>
            <p:nvPr/>
          </p:nvCxnSpPr>
          <p:spPr>
            <a:xfrm rot="10800000">
              <a:off x="5725440" y="4974480"/>
              <a:ext cx="92772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6" name=""/>
            <p:cNvCxnSpPr>
              <a:stCxn id="197" idx="0"/>
              <a:endCxn id="193" idx="2"/>
            </p:cNvCxnSpPr>
            <p:nvPr/>
          </p:nvCxnSpPr>
          <p:spPr>
            <a:xfrm flipV="1">
              <a:off x="5219280" y="4974840"/>
              <a:ext cx="506880" cy="442080"/>
            </a:xfrm>
            <a:prstGeom prst="bentConnector3">
              <a:avLst>
                <a:gd name="adj1" fmla="val 49964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8" name=""/>
            <p:cNvCxnSpPr>
              <a:stCxn id="199" idx="0"/>
              <a:endCxn id="193" idx="2"/>
            </p:cNvCxnSpPr>
            <p:nvPr/>
          </p:nvCxnSpPr>
          <p:spPr>
            <a:xfrm flipV="1">
              <a:off x="3814560" y="4974840"/>
              <a:ext cx="19119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0" name=""/>
            <p:cNvCxnSpPr>
              <a:stCxn id="201" idx="0"/>
              <a:endCxn id="202" idx="2"/>
            </p:cNvCxnSpPr>
            <p:nvPr/>
          </p:nvCxnSpPr>
          <p:spPr>
            <a:xfrm rot="10800000">
              <a:off x="1902600" y="4974480"/>
              <a:ext cx="6375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3" name=""/>
            <p:cNvCxnSpPr>
              <a:stCxn id="204" idx="0"/>
              <a:endCxn id="202" idx="2"/>
            </p:cNvCxnSpPr>
            <p:nvPr/>
          </p:nvCxnSpPr>
          <p:spPr>
            <a:xfrm flipV="1">
              <a:off x="1266480" y="4974840"/>
              <a:ext cx="6390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5" name=""/>
            <p:cNvCxnSpPr>
              <a:stCxn id="193" idx="0"/>
              <a:endCxn id="206" idx="2"/>
            </p:cNvCxnSpPr>
            <p:nvPr/>
          </p:nvCxnSpPr>
          <p:spPr>
            <a:xfrm rot="10800000">
              <a:off x="3779280" y="3648960"/>
              <a:ext cx="1946880" cy="442080"/>
            </a:xfrm>
            <a:prstGeom prst="bentConnector3">
              <a:avLst>
                <a:gd name="adj1" fmla="val 4999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7" name=""/>
            <p:cNvCxnSpPr>
              <a:stCxn id="202" idx="0"/>
              <a:endCxn id="206" idx="2"/>
            </p:cNvCxnSpPr>
            <p:nvPr/>
          </p:nvCxnSpPr>
          <p:spPr>
            <a:xfrm flipV="1">
              <a:off x="1902960" y="3649320"/>
              <a:ext cx="18774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8" name=""/>
            <p:cNvCxnSpPr>
              <a:stCxn id="188" idx="0"/>
              <a:endCxn id="209" idx="2"/>
            </p:cNvCxnSpPr>
            <p:nvPr/>
          </p:nvCxnSpPr>
          <p:spPr>
            <a:xfrm rot="10800000">
              <a:off x="5723640" y="2323440"/>
              <a:ext cx="18774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10" name=""/>
            <p:cNvCxnSpPr>
              <a:stCxn id="206" idx="0"/>
              <a:endCxn id="209" idx="2"/>
            </p:cNvCxnSpPr>
            <p:nvPr/>
          </p:nvCxnSpPr>
          <p:spPr>
            <a:xfrm flipV="1">
              <a:off x="3779640" y="2323800"/>
              <a:ext cx="194508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209" name=""/>
            <p:cNvSpPr/>
            <p:nvPr/>
          </p:nvSpPr>
          <p:spPr>
            <a:xfrm>
              <a:off x="5178600" y="1440000"/>
              <a:ext cx="1091880" cy="882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барьер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60720" y="2765520"/>
              <a:ext cx="1440000" cy="88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стратегически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обусловленн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бъективными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акторам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20000" y="2765520"/>
              <a:ext cx="1163520" cy="882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тратегически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создаваемы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участникам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рынка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57200" y="4091040"/>
              <a:ext cx="1092240" cy="88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собенност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80040" y="4091040"/>
              <a:ext cx="1092240" cy="882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собенност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рын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0720" y="5416560"/>
              <a:ext cx="1092240" cy="8827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ехнолог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95480" y="5416560"/>
              <a:ext cx="1092240" cy="8827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Уровень 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а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68800" y="5416560"/>
              <a:ext cx="1092240" cy="88272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бъём спро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00720" y="5416560"/>
              <a:ext cx="1439640" cy="882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азвитость рын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07040" y="5416560"/>
              <a:ext cx="1092240" cy="8827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Иностранная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80360" y="5416560"/>
              <a:ext cx="1271520" cy="88272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ип конкуренци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54800" y="4091040"/>
              <a:ext cx="1090440" cy="88272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оведение фир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28120" y="4091040"/>
              <a:ext cx="1090440" cy="88272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оглашения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ир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34A4-2313-4A7E-B9C4-31BB87EF271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21932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2. Нестратегические барье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1143000"/>
            <a:ext cx="76960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тратегические, или объективные барьеры можно свести в три групп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ехнологические (барьеры, основанные на абсолютном преимуществе в уровне затрат и барьеры, основанные на относительном преимуществе в уровне затрат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кономические (ограниченность спроса, барьеры капитальных затрат или объёмы первоначальных инвестиций, состояние инфраструктуры рынк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нституциональные (административные барьеры и криминализация экономик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956A-31B4-4E04-B90D-339BD237A385}" type="slidenum">
              <a:t>1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567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, основанные на абсолютном преимуществе в уровне затрат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бсолютные преимущества в отношении издержек означают, что кривая долгосрочных средних издержек фирм, уже действующих в отрасли, на всём своём протяжении лежит выше кривой издержек потенциальных конкурентов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ледовательно цена, необходимая для возмещения инвестиций потенциальных конкурентов будет выше, чем средняя цена в отрасл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7CCB-CF7F-40B5-B38D-4D378889B55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636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ичины абсолютных преимуществ в уровне затра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ующих фир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7600" y="16192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ля новых фирм могут быть недоступны наиболее дешевые и наиболее качественные источники ресурсов, которые используются уже действующими в отрасли фирма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акже преимущества создаются самим процессом функционирования старых фирм в отрасли; накапливания опыта экономии издержек и оптимального распределения ресурсов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52DA-051E-4A3C-B46A-8D42AAF22F7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, основанные на относительном преимуществе в уровне затрат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7600" y="1979640"/>
            <a:ext cx="77724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сительные преимущества в издержках возникают за счёт производства уже существующими в отрасли фирмами большего объёма выпуска, нежели может освоить потенциальный конкурен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заключаются в таких особенностях производственного процесса которые проявляются в положительном эффекте масштаба производства и минимально эффективном объеме выпуска проду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D4FC-2139-40A0-AC17-577DF5F1749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71600" y="228600"/>
            <a:ext cx="7264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Минимально эффективный выпус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900000"/>
            <a:ext cx="44082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разная функция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R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4120" y="838080"/>
            <a:ext cx="35049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разная функция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R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066680" y="1371600"/>
            <a:ext cx="7701120" cy="3412440"/>
            <a:chOff x="1066680" y="1371600"/>
            <a:chExt cx="7701120" cy="3412440"/>
          </a:xfrm>
        </p:grpSpPr>
        <p:sp>
          <p:nvSpPr>
            <p:cNvPr id="223" name=""/>
            <p:cNvSpPr/>
            <p:nvPr/>
          </p:nvSpPr>
          <p:spPr>
            <a:xfrm flipV="1">
              <a:off x="5391000" y="1514160"/>
              <a:ext cx="1800" cy="28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91000" y="4324320"/>
              <a:ext cx="3040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92600" y="2811600"/>
              <a:ext cx="2432160" cy="863640"/>
            </a:xfrm>
            <a:custGeom>
              <a:avLst/>
              <a:gdLst/>
              <a:ahLst/>
              <a:rect l="l" t="t" r="r" b="b"/>
              <a:pathLst>
                <a:path w="1633" h="544">
                  <a:moveTo>
                    <a:pt x="0" y="0"/>
                  </a:moveTo>
                  <a:cubicBezTo>
                    <a:pt x="75" y="102"/>
                    <a:pt x="151" y="204"/>
                    <a:pt x="226" y="272"/>
                  </a:cubicBezTo>
                  <a:cubicBezTo>
                    <a:pt x="301" y="340"/>
                    <a:pt x="370" y="370"/>
                    <a:pt x="453" y="408"/>
                  </a:cubicBezTo>
                  <a:cubicBezTo>
                    <a:pt x="536" y="446"/>
                    <a:pt x="642" y="476"/>
                    <a:pt x="725" y="499"/>
                  </a:cubicBezTo>
                  <a:cubicBezTo>
                    <a:pt x="808" y="522"/>
                    <a:pt x="876" y="544"/>
                    <a:pt x="952" y="544"/>
                  </a:cubicBezTo>
                  <a:cubicBezTo>
                    <a:pt x="1028" y="544"/>
                    <a:pt x="1096" y="529"/>
                    <a:pt x="1179" y="499"/>
                  </a:cubicBezTo>
                  <a:cubicBezTo>
                    <a:pt x="1262" y="469"/>
                    <a:pt x="1376" y="416"/>
                    <a:pt x="1451" y="363"/>
                  </a:cubicBezTo>
                  <a:cubicBezTo>
                    <a:pt x="1526" y="310"/>
                    <a:pt x="1579" y="245"/>
                    <a:pt x="1633" y="18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39040" y="2308320"/>
              <a:ext cx="1012680" cy="647640"/>
            </a:xfrm>
            <a:prstGeom prst="wedgeRoundRectCallout">
              <a:avLst>
                <a:gd name="adj1" fmla="val -4560"/>
                <a:gd name="adj2" fmla="val 152939"/>
                <a:gd name="adj3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42080" y="2451240"/>
              <a:ext cx="7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Times New Roman"/>
                </a:rPr>
                <a:t>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17960" y="137160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62800" y="4251240"/>
              <a:ext cx="4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1066680" y="1442880"/>
              <a:ext cx="3781440" cy="3341160"/>
              <a:chOff x="1066680" y="1442880"/>
              <a:chExt cx="3781440" cy="334116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1471680" y="1514160"/>
                <a:ext cx="1440" cy="28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71680" y="4324320"/>
                <a:ext cx="30398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741320" y="2595600"/>
                <a:ext cx="2567160" cy="1103400"/>
              </a:xfrm>
              <a:custGeom>
                <a:avLst/>
                <a:gdLst/>
                <a:ahLst/>
                <a:rect l="l" t="t" r="r" b="b"/>
                <a:pathLst>
                  <a:path w="1723" h="695">
                    <a:moveTo>
                      <a:pt x="0" y="0"/>
                    </a:moveTo>
                    <a:cubicBezTo>
                      <a:pt x="18" y="75"/>
                      <a:pt x="37" y="151"/>
                      <a:pt x="90" y="227"/>
                    </a:cubicBezTo>
                    <a:cubicBezTo>
                      <a:pt x="143" y="303"/>
                      <a:pt x="226" y="394"/>
                      <a:pt x="317" y="454"/>
                    </a:cubicBezTo>
                    <a:cubicBezTo>
                      <a:pt x="408" y="514"/>
                      <a:pt x="507" y="552"/>
                      <a:pt x="635" y="590"/>
                    </a:cubicBezTo>
                    <a:cubicBezTo>
                      <a:pt x="763" y="628"/>
                      <a:pt x="907" y="665"/>
                      <a:pt x="1088" y="680"/>
                    </a:cubicBezTo>
                    <a:cubicBezTo>
                      <a:pt x="1269" y="695"/>
                      <a:pt x="1610" y="680"/>
                      <a:pt x="1723" y="68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227400" y="2235240"/>
                <a:ext cx="1012680" cy="647640"/>
              </a:xfrm>
              <a:prstGeom prst="wedgeRoundRectCallout">
                <a:avLst>
                  <a:gd name="adj1" fmla="val -15296"/>
                  <a:gd name="adj2" fmla="val 170833"/>
                  <a:gd name="adj3" fmla="val 16667"/>
                </a:avLst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430440" y="2308320"/>
                <a:ext cx="676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M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6680" y="1442880"/>
                <a:ext cx="4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443480" y="432432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133640" y="4324320"/>
                <a:ext cx="26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121360" y="4251240"/>
              <a:ext cx="26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074600" y="4748040"/>
            <a:ext cx="774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нимально эффективный выпуск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– это такой объем производства, при котором положительный эффект масштаба сменяется на постоянный эффект масштаба (в случае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ной функции издержек), или на отрицательный эффект масштаба (в случае </a:t>
            </a:r>
            <a:r>
              <a:rPr b="0" i="1" lang="lv-LV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ной функции издержек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27A-CA47-475F-826D-E246D79B347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11240" y="228600"/>
            <a:ext cx="767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221304"/>
                </a:solidFill>
                <a:latin typeface="Times New Roman"/>
              </a:rPr>
              <a:t>Количество фирм, действующих в отрасл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17720" y="1371600"/>
            <a:ext cx="7669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личество фирм (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действующих в отрасли в состоянии долгосрочного равновесия, можно определить отношением объема рыночного спроса при цене, равной минимальному значению долгосрочных средних издержек (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(P=minLRAC)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к 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MES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разумеется, при допущении, что производственная функция и структура издержек у всех фирм в отрасли идентичны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5960" y="3214800"/>
            <a:ext cx="85280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581280" y="5486400"/>
                <a:ext cx="35593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RA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EADF-93C0-4D41-914B-BAA7DCCD71B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14400" y="533520"/>
            <a:ext cx="797400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число фирм в отрасли окажется больше </a:t>
            </a:r>
            <a:r>
              <a:rPr b="0" i="1" lang="lv-LV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асть из них будет производить продукцию с издержками, превышающими минимальные значения долгосрочных средних издержек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ценовая конкуренция приведет к снижению цены до уровня минимальных средних издержек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асть фирм, оказавшись убыточными, вынуждены будут оставить отрасль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положительный эффект масштаба является барьером входа в отрасль, однако для  определения «высоты» барьеров необходима информация о разнице в уровнях средних издержек у крупных и малых фирм в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2AA2-4DFE-4EE4-A113-8A26F9452ED8}" type="slidenum">
              <a:t>19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33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1. Отраслевые барьеры и их классификация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ход новых фирм – это существенная характеристика отрасли, влияющая на её развит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ожительная экономическая прибыль в равновесии является стимулом к входу в отрасль новых фир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B187-D5EF-4A0F-9519-F886C62F4CC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граниченность спроса (ёмкость рынка)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Ёмкость рынка как барьер входа включает в себя следующие факто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кая насыщенность рынка товара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изкая платёжеспособность насел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иностранных конкурен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8E62-D222-4DC0-A509-1E750D32938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9640" y="24912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рьеры капитальных затрат или объёмы первоначальных инвестиций, необходимых для входа на рынок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79640" y="1671480"/>
            <a:ext cx="77724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ъёмы первоначальных инвестиций определяют саму возможность или невозможность организации нового производства в отрасл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реди капитальных затрат следует выделить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траты на освоение выпуска данного товара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оимость нового строительства и технического перевооружения действующих мощностей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ходы на НИОКР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готовка и найм персонала, организация сбытовой сети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лительность освоения производств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D2FC-9974-402B-9461-08B6C4C7E4B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200240" y="72036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 капитальных затрат зависит от таких факторов, как степень развитости, организованности и открытости рынков ресурсов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труда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инвестиционных товаров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технологий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капитал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0DA3-63B4-4A3C-9864-B1FAA868A35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Состояние инфраструктуры рынка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ояние инфраструктуры рынка определяется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оянием транспортной системы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щностью складской базы, - складов, необходимых на всем пути продвижения товара от производителя до конечного потребител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достаточность инфраструктурных составляющих следует рассматривать как высокие барьеры входа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200-E1B3-46E4-ABFB-E3CF6EBC3AD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317160"/>
            <a:ext cx="7772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Административные барьеры</a:t>
            </a: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79280" y="947880"/>
            <a:ext cx="784836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оздаются органами государственной власти различных уровней и включают в себя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лицензирование деятельности предприятий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вотирование производства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усложнённый порядок регистрации новых предприятий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ертификацию продукции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роцедуру отвода земельных участков под промышленное строительство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аличие неформальных отношений между органами государственной власти и предприятиями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экологические нормы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ограничения на использование земель, лесных угодий, недр, запасов полезных ископаемы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FDEC-232E-4C2A-833E-26AB479D5DA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Криминализация экономик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Если для ведения дела предпринимателю требуется “крыша”, некое неофициальное прикрытие со стороны криминальных структур, то расходы на поддержание подобного рода отношений составляют значительные барьеры вход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E369-1800-4274-AB6A-A76B3408B4A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50004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3. Стратегические барьеры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7600" y="1440000"/>
            <a:ext cx="77724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атегические барьеры сознательно создаются фирмами, действующими в отрасли, что является инструментом их стратегического поведения, препятствующим новым участникам входу в отрасль. К ним можно отнести такие мероприятия фирм, как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сурсосберегающие инновац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госрочные контракты с поставщиками ресурсов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чение лицензий и патентов на определенный вид деятельност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хранение незагруженных мощносте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величение затрат на рекламу и НИОКР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держки по созданию имиджа и фир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B76E-1ADB-4A5A-8FA2-A2CBBE8E123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атегические барьеры входа, проявляющиеся в виде стратегического поведения, можно разделить на ценовые и неценовые (дополнительные инвестиции в оборудование, дифференциация продукта, долгосрочные контракты, вертикальна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граци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C689-E48C-41C0-81A6-FF5046E5A91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9640" y="304920"/>
            <a:ext cx="783576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Ценообразование, ограничивающее вход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680" y="1079280"/>
            <a:ext cx="77724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Фирмы, уже действующие в отрасли, зная отраслевой спрос и отраслевое предложение могут назначить такую цену, которая ограничит появление новых конкурентов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акие барьеры получили название “ценообразование, ограничивающее вход” и сводятся к установлению действующими фирмами цен ниже уровня, обеспечивающего им  максимизацию прибыл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Фирмам, которые проводят такую политику, приходится делать выбор между сокращением своей краткосрочной прибыли в результате снижения цен и потерей долгосрочной прибыли в результате входа на рынок новых участников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F1AD-6DA4-4131-90D0-8191F7FDEA8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3567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ценовые стратегии создания барьеров в отрасл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47600" y="1465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Если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уровень монопольной прибыли старой фирмы, действующей в отрасли в условиях отсутствия потенциального конкурента, А – расходы на проведение неценовых стратегий по созданию барьеров,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ожидаемая прибыль новой фирмы в случае её проникновения на рынок, то старая фирма будет делать вложения по созданию неценовых барьеров только тогда, когда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А &gt;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то есть выгода барьеров превышает угрозу снижения прибыли в результате конкуренции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644E-C3B8-4DA0-BC5F-F7699E35F33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3603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Значение входа новых фирм в отрасл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9640" y="119808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появления новых фирм в отрасли уровни прибыльности и цен возвращаются к их долгосрочному конкурентному значен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ход новых фирм рассматривается как фактор технологических изменений в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наличие отраслевых барьеров определяет динамику экономического роста и благосостояния насе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е барьеров или их предотвращение становится элементом конкурентной политики государ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A073-65EA-49F1-887F-D19969819C9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ополнительное инвестирование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полнительные инвестиции в оборудование для новой фирмы можно рассматривать как необратимые издержки. Фирма вынуждена их оплачивать, даже не выпуская проду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действующая фирма обладает избыточными производственными мощностями, по сравнению с величиной спроса, то при угрозе появления нового конкурента, она может увеличить объем выпуска до уровня, ограничивающего   вход. При этом новая фирма потеряет величину необратимых издерж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5D4E-82C9-4494-BEDF-3A102C44666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ифференциация продукт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ующие на рынке фирмы для предотвращения входа новых фирм могут  наполнить рынок значительным количеством товаров-заменителей, чтобы потенциальным конкурентам было труднее в этом изобилии найти свою ниш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вою очередь новая фирма будет вынуждена увеличивать свои расходы на рекламу, тем самым минимальный объем выпуска в отрасли, необходимый для организации эффективного производства возрастает, а ожидаемая прибыль понижае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EAC2-038F-4ED5-8042-6867BC41AF7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2286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олгосрочные контрак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госрочные контракты с третьими лицами, в частности, с поставщиками ресурсов, потребителями товаров, а также с работниками отрасли (например, с отраслевым профсоюзом) ограничивают возможности потенциальных конкурентов найти поставщиков ресурсов, рынки сбыта и т.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DCD7-AC23-4D59-B37D-C76CCAC0300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ертикальная интеграция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7600" y="143964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тикальная интеграция представляет собой процесс объединения в рамках одной фирмы более одной стадии производства конечной продукц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тикально интегрированная фирма, в отличие от неинтегрированной фирмы, избавлена от необходимости заключать контракты с поставщиками и покупателями – представителями смежных производственных стадий. Тем самым, у вертикально интегрированной фирмы снижаются трансакционные издержк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неинтегрированных производителей такие контракты, в которых кроме цен оговариваются вопросы особых условий поставки, особых условий реализации продукции и другие условия,  выступают как вертикальные огранич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979B-65A7-49EA-9306-B6BFB0F85FA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3556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облемы, связанные со стратегическими барьерам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79640" y="1439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еализация стратегических барьеров на практике связана с рядом пробле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ак, при проведении политики ценообразования, ограничивающего вход новых участников на рынок, действующие на рынке фирмы должны правильно оценить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держки производства в отношении действующих фирм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держки производства в отношении потенциальных конкурентов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словия спроса и, прежде всего, ценовую эластичность  спрос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FC52-9CF9-4C20-A116-F05D2CAB2EF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1731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Необходимость поддержания в отрасли определённого объема выпуска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47600" y="1439640"/>
            <a:ext cx="77724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Ценообразование, ограничивающее вход в отрасль будет эффективным только в случае поддержания в отрасли определённого объема выпуск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условиях невозможности согласованной деятельности маловероятно обеспечить равенство отраслевого выпуска уровню, ограничивающему вхо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иксирование рыночных долей участников отрасли затруднительно, из-за различий в уровнях издержек производства, и изменениями спроса с течением времен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9D99-F951-4E4C-9F06-3A669AA5239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Непредсказуемость конкурен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68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явление в отрасли новых участников может повлечь сокращение объемов выпуска уже действующих фирм, особенно если в отрасль входит не новичок в предпринимательстве, а крупный диверсифицированный концерн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таком случае исход конкуренции, вплоть до ценовых войн – непредсказуе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2463-7BFA-4C27-BD31-48AF60D784D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Ускоряющиеся технологические иннов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коряющиеся технологические инновации позволяют новым фирмам снизить издержки производства. Данный фактор не позволяет действующим фирмам адекватно оценить ценовые ориентиры, то есть возможна переоценка уровня издерж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FB3F-F883-426E-8894-B776BD12595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9640" y="3603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«Поведение безбилетника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7600" y="1800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 успешная реализация стратегических барьеров оказывает положительный эффект на всех участников отрасли, вне зависимости от того чьими усилиями и средствами она была обеспечена, фирмы не свободны от искушения воспользоваться результатами “чужих” барьер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3BCA-A220-46F2-BAD1-28343CA86DB6}" type="slidenum">
              <a:t>38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арьеры вход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7600" y="1290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рьеры входа - все факторы объективного или субъективного характера, которые препятствуют новым фирмам организовать рентабельное производство в отрас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формальной возможности организовать производство в большинстве отраслей еще не означает отсутствие барьеров вх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0FB5-E54D-4482-B7F3-67CB25814A9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31896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чины барьеров вход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7600" y="117324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собенности отрасли или рынка (технология производства, стартовые и текущие затраты, объём спроса, зрелость и развитость рынка, тип конкуренции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ведение хозяйствующих субъектов (антиконкурентные действий и соглашен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йствия органов государственной власти (лицензирование, налогообложение, фиксация цен,  государственная помощь отдельным субъектам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ругие причины (сужение географических границ рынка вследствие роста транспортных расходов, возрастание международной конкуренции в условиях ограниченного спроса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C3AC-A294-4C32-BD26-321F71F9D49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арьеры выход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 объективные или субъективные факторы, которые препятствуют фирме уйти из отрасли без существенных потер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связаны с, так называемыми, необратимыми издержками, которые делают невозможным уход фирмы из отрасли без потер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5199-F796-46CD-858E-C91C280C026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0360" y="304920"/>
            <a:ext cx="71992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Барьеры выхода связаны со структурными характеристиками того или иного вида хозяйственной деятельности, такими как: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иквидность активов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озможность диверсификации производства с использованием имеющегося оборудования, технологий, источников сырья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мкнутость и связанность технологических цепочек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76F8-789D-4460-95FF-FA06289DABA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 выхода - составная часть барьеров вход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увеличивают риск хозяйствования в отрасли, а значит создают дополнительные барьеры входа в отрасл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фирма знает, что уйти из отрасли без значительных потерь невозможно, то это может оказать влияние на её решение входа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аким образом, барьеры выхода следует рассматривать как составную часть отраслевых барьеров, препятствующих входу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B856-CA82-4B7F-9A4F-09E8969AD7C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9808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Барьеры входа и выход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76400" y="1571760"/>
            <a:ext cx="7466040" cy="4521240"/>
            <a:chOff x="1076400" y="1571760"/>
            <a:chExt cx="7466040" cy="4521240"/>
          </a:xfrm>
        </p:grpSpPr>
        <p:sp>
          <p:nvSpPr>
            <p:cNvPr id="141" name=""/>
            <p:cNvSpPr/>
            <p:nvPr/>
          </p:nvSpPr>
          <p:spPr>
            <a:xfrm>
              <a:off x="1076400" y="1571760"/>
              <a:ext cx="7466040" cy="452124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>
              <a:stCxn id="143" idx="0"/>
              <a:endCxn id="144" idx="2"/>
            </p:cNvCxnSpPr>
            <p:nvPr/>
          </p:nvCxnSpPr>
          <p:spPr>
            <a:xfrm flipV="1">
              <a:off x="6819480" y="485892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45" name=""/>
            <p:cNvCxnSpPr>
              <a:stCxn id="146" idx="0"/>
              <a:endCxn id="147" idx="2"/>
            </p:cNvCxnSpPr>
            <p:nvPr/>
          </p:nvCxnSpPr>
          <p:spPr>
            <a:xfrm flipV="1">
              <a:off x="2798280" y="485892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48" name=""/>
            <p:cNvCxnSpPr>
              <a:stCxn id="144" idx="0"/>
              <a:endCxn id="149" idx="2"/>
            </p:cNvCxnSpPr>
            <p:nvPr/>
          </p:nvCxnSpPr>
          <p:spPr>
            <a:xfrm flipV="1">
              <a:off x="6819480" y="362556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0" name=""/>
            <p:cNvCxnSpPr>
              <a:stCxn id="147" idx="0"/>
              <a:endCxn id="151" idx="2"/>
            </p:cNvCxnSpPr>
            <p:nvPr/>
          </p:nvCxnSpPr>
          <p:spPr>
            <a:xfrm flipV="1">
              <a:off x="2798280" y="362556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2" name=""/>
            <p:cNvCxnSpPr>
              <a:stCxn id="149" idx="0"/>
              <a:endCxn id="153" idx="2"/>
            </p:cNvCxnSpPr>
            <p:nvPr/>
          </p:nvCxnSpPr>
          <p:spPr>
            <a:xfrm rot="10800000">
              <a:off x="4809240" y="2393280"/>
              <a:ext cx="201060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4" name=""/>
            <p:cNvCxnSpPr>
              <a:stCxn id="151" idx="0"/>
              <a:endCxn id="153" idx="2"/>
            </p:cNvCxnSpPr>
            <p:nvPr/>
          </p:nvCxnSpPr>
          <p:spPr>
            <a:xfrm flipV="1">
              <a:off x="2798280" y="2393640"/>
              <a:ext cx="201204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153" name=""/>
            <p:cNvSpPr/>
            <p:nvPr/>
          </p:nvSpPr>
          <p:spPr>
            <a:xfrm>
              <a:off x="3086280" y="1571760"/>
              <a:ext cx="3446280" cy="822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барье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76400" y="2805120"/>
              <a:ext cx="3446280" cy="82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репятствуют входу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а рынок новых фир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95800" y="2805120"/>
              <a:ext cx="3446640" cy="822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репятствуют выходу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из отрасли без потер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76400" y="4037040"/>
              <a:ext cx="3446280" cy="82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нижают угрозы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отенциальной конкуренци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95800" y="4037040"/>
              <a:ext cx="3446640" cy="8222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граничивают количество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ирм  в отрасл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76400" y="5270400"/>
              <a:ext cx="3446280" cy="8226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ост рыночной вла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95800" y="5270400"/>
              <a:ext cx="3446640" cy="819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ост рыночной вла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6129-1509-4CA0-B217-C20133DAE44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cturer</cp:lastModifiedBy>
  <cp:revision>0</cp:revision>
  <dc:subject/>
  <dc:title>Анализ отраслевых барьеров в рыночной экономике</dc:title>
</cp:coreProperties>
</file>