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16.png" ContentType="image/png"/>
  <Override PartName="/ppt/media/image15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11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13.wmf" ContentType="image/x-wmf"/>
  <Override PartName="/ppt/media/image9.wmf" ContentType="image/x-wmf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6A53-F1ED-4B91-9545-BD6D274D0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983D-FC1D-4535-8CCC-84FF53F92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07DC-54B5-4817-AAC8-E95300266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33B3-539A-4EAA-8A27-BA2454DDD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6A3C6-41B1-4E51-9799-BC06DDCF1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9DD08-F861-479D-9AFC-7582C5BD2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469E7-BD95-4FFF-B870-33CDBCB50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AC99D-B7A0-4207-A20B-DA167CD79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F9993-A364-473F-A272-D25300543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972C1-19AE-408F-B5DE-FA03BE190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AFC4A-F075-441B-9349-042C6D7DE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A86B-34E7-4DC1-BA93-C467EE606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706AF-EB6D-4B71-9200-9B2C40041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C153F-CB3F-432C-8ECB-0B07497E4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2C540-BB46-4B45-AEEC-CA0707AB5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340F7-D726-405F-89F8-DCE14574A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A811A-0F9F-4289-A706-E19F75626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1EF4-893D-4A64-994C-0247CD864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2A1B-842D-4397-95CB-0B1DF8295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FEDD-152D-44CD-AC9B-8F3E4DE5F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E3DA-AC56-45BE-8FF7-4C7FE3198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CE44-7105-4016-89A5-F8B527C41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A42A-B2CF-4828-8AEF-455B543C8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6F08-317F-4760-A843-FE7145884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"/>
              <p:cNvSpPr/>
              <p:nvPr/>
            </p:nvSpPr>
            <p:spPr>
              <a:xfrm>
                <a:off x="528840" y="201960"/>
                <a:ext cx="8397000" cy="646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minispir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96880" y="4129920"/>
                <a:ext cx="1041120" cy="45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minispir" descr="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149120" y="2000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149120" y="2686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149120" y="33721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149120" y="4057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149120" y="4743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149120" y="5429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149120" y="6115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EE6CA-957F-4FA9-81C3-B1EF91AF7DAA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FE1EF-28B7-493F-9D54-2D0D59FBC740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7216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ценка</a:t>
            </a:r>
            <a:r>
              <a:rPr b="1" lang="lv-LV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отерь</a:t>
            </a:r>
            <a:r>
              <a:rPr b="1" lang="lv-LV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благосостояния</a:t>
            </a:r>
            <a:r>
              <a:rPr b="1" lang="lv-LV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lv-LV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результате</a:t>
            </a:r>
            <a:r>
              <a:rPr b="1" lang="lv-LV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еятельности</a:t>
            </a:r>
            <a:r>
              <a:rPr b="1" lang="lv-LV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онополи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9144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аксимизация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были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онополис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тери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лагосостояния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зникающие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следствие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онополиз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льтернативные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здержки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онополиз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4. X-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эффективность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X-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ффективность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онопол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пособы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здания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ддержания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онополии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трасли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Взаимосвязь предельного дохода и цены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7315200" cy="15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образуем  выражение предельной выручки (МR) как первой производной совокупной выручки (TR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219320" y="3200400"/>
            <a:ext cx="708660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Взаимосвязь предельного дохода и цены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6400800" cy="15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скольку, по условию максимизации прибыли MR=MC, выражение можно преобразовать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219320" y="3627360"/>
            <a:ext cx="7619760" cy="21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92468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221304"/>
                </a:solidFill>
                <a:latin typeface="Times New Roman"/>
              </a:rPr>
              <a:t>Взаимосвязь предельного дохода и цены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скольку Ed &lt; -1 (спрос эластичен), цена монополиста всегда будет больше его предельных издержек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нополист будет действовать только на эластичном участке кривой спроса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адбавка к предельным издержкам в цене будет  тем меньше, чем выше эластичность спроса, т.е. превышение цены над предельными издержками находится в обратной зависимости от эластичности спроса по цене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733920" y="5486400"/>
            <a:ext cx="25398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221304"/>
                </a:solidFill>
                <a:latin typeface="Times New Roman"/>
              </a:rPr>
              <a:t>Взаимосвязь предельного дохода и цены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анное выражение представляет собой индекс Лернер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 видно из этого показателя, если спрос чрезвычайно эластичен, то цена будет близка к предельным издержкам, и, следовательно, монополизированный рынок будет похож на рынок совершенной конкуренц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Потери благосостояния, возникающие вследствие монополизации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 условиях свободной конкуренции достигается оптимальное (по Парето) размещение ресурсов между альтернативными возможностями использования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огда же рынок монополизирован, условие равенства цен предельным издержкам не выполняется, так как цена монополии всегда выше предельных издержек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Это приводит неэффективному распределению ресурсов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 сравнению с рынком свободной конкуренции рынок монополии приводит к определенным потерям благосостояния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773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Потери благосостояния от монополизаци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1239840"/>
            <a:ext cx="7543800" cy="55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Потери благосостояния от монополизаци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бы в отрасли была совершенная конкуренция, то объем выпуска отрасли достиг бы значения Qc - величины, соответствующей условию равенства цены предельным издержкам. А цена была бы равна Рc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условиях монополии объем производства в отрасли соответствует значению Qm - такому, когда предельная выручка монополиста равна его предельным издержкам. А монопольная цена составляет Р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Потери благосостояния от монополизаци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ким образом, в результате  монополизации отрасли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сокращаются объёмы выпуска и объемы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даж (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Qm&lt;Qc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повышается рыночная цена (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&gt;P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потребительский излишек сокращается на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еличину, равную площади фигуры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РmРсС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Графическое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едставление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требительского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злишка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лощадь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граниченная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ривой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проса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рдинатой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инией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екции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еличины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проса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рдинату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тери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требительского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злишка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лощадь фигуры РmРсСМ - совокупные потери потребителей от монополии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Часть потребительского излишка (величина РmРсЕМ) превращается в монопольную прибыль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Другая часть (величина МЕС) представляет собой чистые потери потребителей от монополии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Чистые потери от монополии называют также "омертвленными затратами" или "мертвым грузом" монополии (DWL)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Эти потери, утраченные потребителями, не достаются никому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Определение монополи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нополия - это такой тип рынка, на котором только одна фирма является продавцом товара на который не существует близких заменителей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условиях чистой монополии отрасль состоит из одной фирмы, то есть понятия «фирма» и «отрасль» совпадаю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Величина чистых потерь от монополии в общем виде при нелинейных функциях спроса и предельной выручки  определяется как: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4038480"/>
            <a:ext cx="71625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д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обратная функция  спрос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C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функция предельных  издержек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309680" y="1771560"/>
            <a:ext cx="698040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В случае линейных функций спроса и предельной выручки величину чистых потерь от монополии можно определить по формуле: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7620120" cy="66672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320" y="3352680"/>
            <a:ext cx="7543800" cy="26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еличина мертвого груза монополии зависит от того, насколько действия монополиста повышают цену и сокращают объем продаж по сравнению с рынком совершенной конкуренц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Чистые потери от монополизации можно выразить также через индекс Лернера (L)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ластичность спроса по цене определяется по формул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Ed= -(ΔQ/Qm)*(Pm/ΔP),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 данной формулы получим зависимость сокращения объема продаж от ценовой эластичности спрос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ΔQ= -Ed*Qm*(ΔP/P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Тогда мертвый груз монополии в зависимости от ценовой эластичноcти спроса  можно выразить как: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39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DWL = 0,5*Ed*Qm*(ΔP/Pm)*Δ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Умножив выражение на Pm/Pm, получим: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6324840" cy="19256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1371600" y="4648320"/>
            <a:ext cx="716292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Таким образом, мы получим зависимость мертвых потерь от общей выручки монополии и индекса Лернера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25142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DWL = 0,5 *Ed*TR *L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Чистые потери от монопольной власти тем выше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чем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: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ше эластичность спроса при цене, которую назначает монополист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ше общая выручка монополиста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ше индекс Лернера монопольной власти, отражающий долю прибыли в цене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Эмпирические исследования</a:t>
            </a:r>
            <a:br>
              <a:rPr sz="3200"/>
            </a:b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величины чистых потерь от монополизации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 оценкам Харбергера, чистые потери от монополизации в обрабатывающей промышленности США в 1954 году составили около 0,1% ВНП СШ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 оценкам Камершена в начале 60-х годов чистые потери от монополизации составляли 6% ВНП СШ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следования Коулинга и Мюллера показали, что в 1978 г. чистые потери от монополизации составляли 4% ВНП США и приблизительно 10% ВНП Великобритан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чины заниженных результатов Харбергера: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90360" y="1371600"/>
            <a:ext cx="78483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Харбергер при вычислениях принимал эластичность спроса равной 1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тери благосостояния вычислялись Харбергером только для обрабатывающей промышленности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еличина ΔР – изменение цены – принималась на уровне отклонения норм доходности исследуемой отрасли от средней по промышленности, которая разумеется выше, чем в конкурентных отраслях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едполагалось, что все фирмы продают товар конечным потребителям. Но монопольная власть может возникать благодаря созданию вертикально интегрированных фирм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Факторы, неучтённые в исследованиях величины чистых потерь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848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жотраслевое взаимодействие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сследование мертвого груза ограничивается только рынком, где господствует монополия, без учета взаимного влияния отраслей друг на друга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ффект дохода.                   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и повышении цен монополистом возникает отрицательный эффект дохода для потребителей. Реальные доходы покупателей сокращаются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Основные причины возникновения монополий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онкурентное противоборство приводит к тому что крупные фирмы вытесняют из отрасли или поглощают малые фирмы, в результате отрасль становится более монополизированной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аучно-технический прогресс приводит к монополизации отрасли, поскольку, внедрение новых технологий требует дополнительных затрат, и кроме того, увеличивается минимально эффективный объём производства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 ХХ веке стали быстро развиваться типы долевой и общественной собственности (ООО, АО), что позволяет привлечь дополнительные финансовые ресурсы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221304"/>
                </a:solidFill>
                <a:latin typeface="Times New Roman"/>
              </a:rPr>
              <a:t>Факторы, неучтённые в исследованиях величины чистых потерь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менение предельной полезности денег.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скольку, сокращение потребительского излишка в результате монополизации рынка частично превращается в монопольную прибыль, монополист становится богаче, а потребитель беднее и одинаковая денежная единица приносит монополисту меньшую предельную полезность, чем потребителю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ведение монополиста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 исследованиях предполагалось, что поведение монополиста в отношении качества продукта, видов продукта и методов ценообразования такое же, что и у фирмы на рынке совершенной конкуренции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Поведение монополиста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2640" y="13716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нополист може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оводить совершенную дискриминацию по цене. В таком случае потребительский излишек полностью превратится в монопольную прибыль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тратить огромные суммы на рекламу или излишнюю дифференциацию продукции, что следует рассматривать как растрату ресурсов, имеющих альтернативное производственное применение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оводить политику создания стратегических барьеров входа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221304"/>
                </a:solidFill>
                <a:latin typeface="Times New Roman"/>
              </a:rPr>
              <a:t>Факторы, неучтённые в исследованиях величины чистых потерь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тественная монополия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 отдельных отраслях технология производства такова, что средние издержки убывают с ростом выпуска, так что эффективность обеспечивается только большим масштабом производства. Поэтому в данном случае сопоставление монополии и условий свободной конкуренции не является корректным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ительность монопольной власти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Чистые потери благосостояния существенны для экономики только в том случае, если они продолжительны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Потери общественного благосостояния в зависимости от длительности монопольной власти можно определить по формуле: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90360" y="2286000"/>
            <a:ext cx="7848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где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DWL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SR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чистые потери благосостояния в краткосрочном периоде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DWL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LR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чистые потери благосостояния в долгосрочном периоде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ставка дисконтирования, используемая для капитализации будущих потерь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ежегодный процентный разрыв между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DWL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SR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DWL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LR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 показывающий степень ослабления монопольной власти на рынке с течением времени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7619760" cy="91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Альтернативные издержки монополизации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нопольная прибыль также является составляющей общественного благосостоя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зможность монополизации отрасли порождает конкуренцию за будущую экономическую прибыль, что отвлекает ресурсы от других видов использования, так что альтернативную ценность этих ресурсов надо учитывать в качестве издержек от монополизац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Затраты на сохранение монопольной позици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держки на создание барьеров входа на рынок для потенциальных конкурент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Способы достижения монопольной позиции в отрасли: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ормирование картеля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лучение патента или лицензии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оббирование в целях установления импортных квот или тарифов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зятки государственным чиновникам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громные затраты на рекламу и продвижение товара на рынок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личие незагруженных мощност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Результатом достижения монопольной позиции является получение монопольной прибыл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38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Предприниматели будут конкурировать за возможность монопольного положения в отрасли до тех пор, пока издержки такой конкуренции не окажутся равными ожидаемым выгодам от монополизации, то есть в долгосрочном периоде монопольная прибыль расходуется на поддержание монопольной позици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Альтернативные издержки монополизации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скольку, монопольная прибыль расходуется на поддержание монопольной позиции в отрасли она может служить показателем альтернативных издержек монополизации, и поэтому должна быть включена в величину чистых потерь от монопол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Мертвый груз монополии с учетом альтернативных издержек (DWLS)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дставляет из себя сумму собственно чистых потерь (0,5*ΔP*ΔQ) и монопольной прибыли (ΔP*Qm), которая является альтернативными издержками монополизаци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DWLS</a:t>
            </a:r>
            <a:r>
              <a:rPr b="0" i="1" lang="ru-RU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= 0,5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ΔP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ΔQ + ΔP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Qm =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=0,5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ΔP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ΔQ + ΔP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(Qc - ΔQ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Виды монополии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1629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тественна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крыта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крыта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Мертвый груз монополии с учетом альтернативных издержек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66320" y="1771560"/>
            <a:ext cx="71629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ля собственно мертвого груза монополии в альтернативных издержках монополизации равн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2362320" y="3657600"/>
            <a:ext cx="50860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Мертвый груз монополии с учетом альтернативных издержек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90360" y="1143000"/>
            <a:ext cx="78483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усть E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) - ценовая эластичность спроса в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словиях совершенной конкуренции (при цене Рс 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бъеме продаж Qc)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) = (ΔQ/ΔP)*(Pc/Qc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ткуда объем продаж на рынке совершенно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онкуренции составляет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= 1/E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)*[ΔQ*(Pc/ΔP)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Тогда доля собственно мертвого груза монополии в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льтернативных издержках монополизаци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оставит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066680" y="5257800"/>
            <a:ext cx="777240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Мертвый груз монополии с учетом альтернативных издержек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467840" cy="17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скольку ΔР/Рс составляет индекс Лернера монопольной власти, полученное выражение можно записать в виде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523880" y="3962520"/>
            <a:ext cx="695196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Мертвый груз монополии с учетом альтернативных издержек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едовательно, доля чистых потерь в альтернативных издержках монополизации тем ниж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ем ниже ценовая эластичность спроса в условиях совершенной конкуренции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ем ниже коэффициент Лернера монопольной власт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Мертвый груз монополии с учетом альтернативных издержек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4040" y="9903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жно получить ещё одну формулу для вычисления совокупных потерь от монополии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DWLS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= 0,5*ΔP*ΔQ + ΔP*(Qc - ΔQ) = =ΔP*(0,5*ΔQ + Qc – ΔQ) =  ΔP*(Qc - 0,5*ΔQ) = =L*(Pc*Qc - 0,5*Pc*ΔQ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скольку Pc*Qc представляет собой общую выручку производителей в условиях свободной конкуренции (TRc), то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DWLS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= L*TRc - 0,5*L*P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*ΔQ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=L*TRc - 0,5*ΔP*ΔQ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=L*TRc - 0,5*E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d(c)*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Pc*Qc*L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=TRc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*(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L - 0,5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Times New Roman"/>
              </a:rPr>
              <a:t>d(c)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Мертвый груз монополии с учетом альтернативных издержек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Таким образом, совокупные потери от монополии тем выше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чем больше общая выручка производителей в конкурентной отрасли (TRc);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чем выше индекс Лернера монопольной власти (L);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чем выше ценовая эластичность спроса в условиях совершенной конкуренции (E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Times New Roman"/>
              </a:rPr>
              <a:t>d(c)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Альтернативные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здержки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онополизации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днако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еличина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нопольной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ибыл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е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сегда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жет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точно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казать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еличину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льтернативных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здержек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нополизаци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екоторые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здержк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нополизаци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епосредственно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затрагивают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епроизводительные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здержк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нополи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апример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асходы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двокатов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л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екламу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стреч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едставителям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государственной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ласт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этих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лучаях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н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ключаются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е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ибыль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нополи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ее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здержк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хотя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х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еличину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должны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быть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величены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чистые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тер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т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нополи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Альтернативные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здержки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онополизации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были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гулируемой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нополии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гут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ыть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начительно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ньше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былей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регулируемой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о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скольку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асть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лучаемого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сударством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нополии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лога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ратится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гулирование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ой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амой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нополии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о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еличину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трат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ведение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гулирования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троль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ведением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нополии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бор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лога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.)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кже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ледует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носить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льтернативным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держкам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нополизации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льтернативные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здержки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онополизации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90360" y="114300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 другой стороны, альтернативные издержки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нополизации нельзя рассматривать только как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егативный фактор экономики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нопольная прибыль может возникать за счет более эффективного использования ресурсов данной фирмой по сравнению с мелкими фирмами-конкурентам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нополия может быть создана за счет инноваций (склонность к инвестированию у крупной фирмы-монополиста выше, чем у мелкой фирмы-конкурента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данных случаях монопольная прибыль будет служить стимулом к динамизму рынка, а конкуренция за достижение монопольной власти на рынке будет способствовать развитию производства в данной отрасл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996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Определение Х-неэффективности монополии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-неэффективность производства в условиях монополии - представляет собой разницу между минимально возможным для данного выпуска уровнем издержек и реальным уровнем издержек монополист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Поведение монополист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нополист может влиять на цену продаваемой продукции, изменяя объём производства в соответствии с убывающей функцией рыночного спроса. Монополии намеренно уменьшают объём предложения, чтобы создать искусственный дефицит товаров. А нехватка рыночных благ ведёт к росту монопольной цены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996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Причина Х-неэффективности монополии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Монополия является технически менее эффективной, чем конкуренция, поскольку наличие барьеров для входа защищает фирму-монополиста от конкурентного давления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Поэтому монополист может использовать ресурсы отрасли неэффективно, а его издержки для производства каждого объема выпуска выше соответствующих издержек фирмы на рынке совершенной конкуренции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Иллюстрация Х-неэффективности монополии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876920" y="1523880"/>
            <a:ext cx="3962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здержки в условиях совершенной конкуренции равны АСс =МСс, а выпуск составляет величину Qc при цене Рс. В условиях монополии уровень издержек возрастает до величины ACm=MCm. Соответственно, выпуск становится равным Qm, а цена Рm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418932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Иллюстрация Х-неэффективности монополи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требительский излишек сокращается с величины АРсС до величины АРmМ. При этом величина МЕС составляет чистые потери от монополии, а величина ВРсЕК представляет собой потери в результате Х-неэффективности. В условиях свободной конкуренции объем производства Qm мог бы быть произведен при более низких издержках (равных Рс=МСс=АСс), а монополия затрачивает на этот выпуск ACm=MCm&gt;MCc. Ресурсы в размере ВРсЕК используются неэффективн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92468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Другие причины Х-неэффективности монополии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нополист может не стремится минимизировать издержки вообще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апример, целью менеджеров может стать увеличение собственной власти, престижа и безопасности в рамках фирмы. В этом случае фирма-монополист наймет больше персонала и будет производить любой объем выпуска с большими издержками, чем конкурентная фирма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Если к Х-неэффективности стремятся сами собственники фирмы, это может означать, что они готовы уступить часть прибыли за возможность иметь больше свободного времени и меньше работать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Х-эффективность монополи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66680" y="8377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зможна и обратная ситуация: издержки производства в условиях монополии ниже, чем в условиях конкуренции, то есть имеет место         Х-эффективность монопол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кое происходит там, где монополизация отрасли позволяет фирме использовать преимущества экономии на масштабах производства, например в случае естественной монопол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роме того, инновационная активность монополиста может быть выше, чем конкурента, что также способствует понижению издержек отрасли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Иллюстрация Х-эффективности монополи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ертвый груз монополии без учета альтернативных издержек монополизации равен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DWL = 0,5*E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d*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TR*L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Если монополизация приносит выгоду экономике, то должно быть верным выражение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Qm*ΔАС &gt; 0,5*E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d*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TR*L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где ΔАС - экономия затрат монополистом на единицу выпуска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тсюда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ΔAC/Pm &gt; 0,5*E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d*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Иллюстрация Х-эффективности монополи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едовательно, чем больше эластичность спроса по цене, тем в большей степени должна проявляться экономия на издержках в условиях монополии по сравнению с условиями конкуренции, чтобы компенсировать потери благосостояния от монополи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пособы создания и поддержания монополии в отрасли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нопольную власть в отрасли удаётся поддержать благодаря наличию определенных условий и определенных действий фирм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оздание открытой монополии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крытая монополия возникает при наличии у фирмы неких уникальных знаний, технологий, позволяющих производить новый продукт или продукт более высокого качества. В случае появления у других фирм технологий для производства такого же продукта, они войдут в отрасль, и монополия в отрасли на этом закончится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Создание естественной монополии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случае естественной монополии одна фирма способна производить продукт с более низкими издержками, чем при наличии большого количества фирм, т. е. проявляется Х-эффективность монополизац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Поведение монополист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В свою очередь, для увеличения объёма производства монополист вынужден снижать цену, поскольку кривая спроса, с которой он встречается, имеет отрицательный наклон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Чтобы общая выручка монополиста при этом не уменьшалась,  снижение цены должно компенсироваться большим процентным увеличением объема продаж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В свою очередь, это возможно только при эластичном спросе, что в определенной мере ограничивает деятельность монополий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Создание закрытой монополии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крытая монополия предполагает поддержание монопольного положения фирмы на рынке за счет наличия у нее патента, лицензии или других видов законных ограничений на производство данного продукта. Тем самым не допускается или ограничивается доступ конкурентов в отрасл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Поведение монополист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 мере роста выпуска растут (или по крайней мере неизменны) предельные издержки (МС) монополист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ирма будет расширять выпуск до тех пор, пока дополнительная выручка от продажи дополнительной единицы (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товара превышает или, по крайней мере, не меньше дополнительных издержек (МС), связанных с ее производств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Условие максимизации прибыли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78483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быль любой фирмы достигает своего наибольшего значения, при таком объёме производства при котором предельные издержки равны предельной выручке, т. е.       МС = М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условиях монополии цена будет больше предельных издержек, т.е. МС = МR&lt;Р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отличии от монополии при совершенной конкуренции предельные издержки и предельная выручка равны цене, т.е.                 МС = МR=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Максимизация прибыли монополией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952520" y="182880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дельные издержки (МС) равны предельной выручке (MR) при объёме производства - Q</a:t>
            </a:r>
            <a:r>
              <a:rPr b="0" lang="lv-LV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,  т. е. цена установится на уровне - 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lv-LV" sz="28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066680" y="2111400"/>
            <a:ext cx="381024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evgenij</cp:lastModifiedBy>
  <dcterms:modified xsi:type="dcterms:W3CDTF">2007-10-11T07:45:06Z</dcterms:modified>
  <cp:revision>92</cp:revision>
  <dc:subject/>
  <dc:title>Оценка потерь благосостояния в результате деятельности монополии</dc:title>
</cp:coreProperties>
</file>