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B02-43E7-4DEE-9384-7C34932B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0F0-2CBB-4385-9CAE-7543F27C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7422-995E-4B0D-B1F6-224C646A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B26-011D-46AA-AFD8-D5A95A72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3831-C2A6-4F04-96F4-7473DD4A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B21E-C156-4F64-97DE-D007D4B9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D7F6-D27E-4857-817A-2C700D03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21AC-B314-48E7-AB66-339945D9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4D10-2C9B-46E9-8E47-76ECA53B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41AD-0082-470C-9E1D-022B7F40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3485-9570-49F9-8945-D42CCA9F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52E-BC60-4F53-85E6-77BB9830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D446-516A-4EF5-83D5-0982E533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9DDF-2039-4948-B8B7-03A0CBCD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DCE7-7A45-453B-96BD-329CE9F1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D8AB-20FD-4CA2-BB82-B3DC2EC7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1C92-AFA2-472D-A5ED-CA7B8F17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FD3-0DB3-446C-A771-DB46C06C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84E-3DD3-42DF-AE85-9120C467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AFD-F09B-449E-85CF-B13A9056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11D-634F-4849-8A1D-45BF2741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8F4-998D-46BB-B195-DAF35378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666-1A71-4AA6-907B-97938F48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B5B-EB58-48BB-9DA4-E41C802F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36D7FD-AD59-4369-AB02-FAD158E2826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19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421BB9E-0C42-41F3-9ED5-2EB59C0D594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-%20http://www.economics.boom.ru/Lectur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304920"/>
            <a:ext cx="77724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Авдашева 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Розанова 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Теория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: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агистр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1998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Вольчик В.В. Лекции по экономике отраслевых рынков. </a:t>
            </a:r>
            <a:r>
              <a:rPr b="0" lang="ru-RU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- http://www.economics.boom.ru/Lecture.h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Кабраль Л.М.Б.  Организация отраслевых рынков: вводный курс. Минск: Новое знание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Порезанова Е.В. Экономика отраслевых рынков. Учебно-методическое пособие для студентов экономических специальностей. Саратов: Лотос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Шерер Ф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сс Д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руктура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ФРА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, 1997.</a:t>
            </a:r>
            <a:r>
              <a:rPr b="0" lang="ru-RU" sz="3200" spc="-1" strike="noStrike">
                <a:solidFill>
                  <a:srgbClr val="000000"/>
                </a:solidFill>
                <a:latin typeface="TimesNewRomanPSMT;TimesNew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9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первоначальный вариант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уточнённый вариант)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95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Необходимость государственного регулирования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вана ситуациями, когда рынок, в силу различных причин, оказывается в кризисной ситу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84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оль государственной политики в отношении отраслевых рынков определяется ответами на вопрос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серьёзным является кризис ры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времени необходимо рыночному механизму для самостоятельного возвращения в нормальное состоя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эффективным будет вмешательство государства в улучшение ситуации на рынк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 времени потребуется для реализации государственной политик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велики затраты на проведение государственного вмешательств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аправления государственной полит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рьеры для входа на рын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 и субсид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естицион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тика в области занят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роэкономическая поли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40920"/>
            <a:ext cx="76964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акторы, которые способствовали развитию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89512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в области теории ценообразования - в структурах, отличных от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 статистической информации на микроэкономическом уров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05920"/>
            <a:ext cx="78483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Исследования поведения фирм и функционирования отраслевых рынков, в условиях, отличных от совершенной конкуренции (до выделения экономики отраслевых рынков в самостоятельную научную дисциплину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 ве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ижения А. Курно и Ж. Бертрана в теории олиг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28840" y="3124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30-х годах ХХ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Э. Чемберлином модели монополистической конкурен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Модель монополистической конкурен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ла концепцию дифференциации продук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ла роль входа на рынок новых фир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ала в одном типе рынка черты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ла новые возможности теоретического анализа монополистической конкуренци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44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направления развития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ение теории игр к моделям олигополии, что позволило анализировать стратегическое взаимодействие фир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формальных моделей, позволяющих оценить влияние различных параметров рынка на равновесные цены и объёмы производ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эконометр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Что представляет собой рынок отдельного товара в мире дифференцированных продуктов, где пролегают его границы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8840" y="1771200"/>
            <a:ext cx="38098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означив границы рынка, невозможно оценить степень его монополизации (концентрации) и определить адекватные формы государственного вмешатель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69608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1. Возникновение и развитие научной дисциплины «Экономика отраслевых рынков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3809880"/>
            <a:ext cx="77724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редмет и метод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сновные проблем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81024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Какие факторы определяют размер фирм, или почему отдается предпочтение внутрифирменной координации, в одних случаях, а рыночной в других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мпирической и теоретической проверке подверга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я от масштаба и разнообраз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тикальная интеграция фир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акционные издерж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Какой элемент рыночной структуры является ключевым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ю подверга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для входа и выхо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фференциации продук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нтрация покупателей и продав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Действительно ли фирмы максимизируют прибыль или они преследуют иные це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3400" y="177156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яду с традиционной гипотезой исследуются предположения 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ксимизации выруч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ов рос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ление управляющих к расширению вл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3200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) Каков характер практического ценообразования фирм с рыночной властью и каковы его последствия для благосостояни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14440" y="1599840"/>
            <a:ext cx="4724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внимания уделяется изучению положительных и отрицательных с точки зрения благосостояния последствий различных форм ценовой дискриминации, н также разнообразных условии, которые производители навязывают оптовым и розничным торговц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6) Способны ли уже существующие фирмы предотвратить вход в отрасль новичков или вытеснить часть имеющихся фир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4114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внимание уделяется стратегическому взаимодействию фирм, а также различного рода барьерам, как институциональным так и неинституциональны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7) Какие факторы облегчают или затрудняют сговор и иные формы координац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00600" y="1828440"/>
            <a:ext cx="40384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 вопросы затрагивают способность фирм воздействовать на структуру рынка и тем самым активно воздействовать на свою прибыль и положение на рынк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358164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8) Насколько значительно отклонение от конкурентного идеала рынков с рыночной власть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440" y="1828440"/>
            <a:ext cx="4800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лагаются различные подходы к оценке ущерба, который терпит общество от монополизма. Результаты существенно зависят от предположений, закладываемых в расчеты, и значительно расходятся - от нескольких до десятков проц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204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последние десятилетия в экономике отраслевых рынков получили существенное развитие 3 направления исследований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теоретико-игровых моделей в анализе олигополистических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теории трансакционных издержек при сравнительном анализе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теории состязательных, или квазиконкурентных, рын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207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ыделяют два типа состязательных рынков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превышают предельные и средние издержки, в результате чего многие фирмы могут войти на рын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упали ниже средних издержек, и многие фирмы могут оставить рыно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ажность изучения экономик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я в этой области оказывают непосредственное влияние на определение и внедрение государственной политики 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ногие аспекты данной дисциплины остаются недостаточно исследованны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ение экономики отраслевых рынков могло бы оживить эмпирические исследования национальной экономик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спективы преподавания микроэкономики без изучения экономики отраслевых рынков, представляющей её эмпирическую основу, существенно ограничиваютс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озникновение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 как самостоятельная научная дисциплина ведёт свою историю от середины ХХ века. Многие связывают  её возникновение с представителями двух экономических школ - Гарвардской и Чикагс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ематика курсовых работ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21304"/>
                </a:solidFill>
                <a:latin typeface="TimesNewRoman;TimesNew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отрасли (отраслевого рынка) в экономике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 фирмы в системе отраслевых рынков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волюционные аспекты развития отра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входа и выхода на отраслевой рынок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зличные варианты названия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Economics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Organiza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рганизация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промыш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теория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Nozaru tirgus ekonom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едмет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исание того, как хозяйственная деятельность разделена между фирма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. Коу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а о том , как в различных рыночных условиях производственная деятельность посредством рыночного механизма приводится в соответствии со спросом на товары и услуги, и как несовершенство рыночного механизма и изменения в нём влияют на прогресс, достигнутый в удовлетворении экономических потреб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. М. Шерер, Д. Ро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6960"/>
            <a:ext cx="79246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бщие признаки экономики отраслевых рынков с микроэкономик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ение взаимодействия потребителя и производ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влияния рынка на действия производителя и потреб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ценообразования в различных услов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ёт различных переменных, влияющих на результат деятель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тличительные призна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0481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наиболее сущ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общих мод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14440" y="1295280"/>
            <a:ext cx="4724280" cy="49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многочисленных дополнительных количественных и кач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олее конкретных моделей, опираясь на микроэкономику, с наиболее полным учётом практики (эксперимен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ва подхода в изучени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41907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Гарвардской школы, профессора Э. Майсон и Д. Бей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а парадигма «Структура - поведение - результат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чески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Чикагской школы, Д. Стиглер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ход с точки зрения теории ценообразования, использующий микроэкономическ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3:56:10Z</dcterms:created>
  <dc:creator>Jevgenij</dc:creator>
  <dc:description/>
  <dc:language>en-US</dc:language>
  <cp:lastModifiedBy>Jevgenij</cp:lastModifiedBy>
  <dcterms:modified xsi:type="dcterms:W3CDTF">2008-09-08T06:46:21Z</dcterms:modified>
  <cp:revision>38</cp:revision>
  <dc:subject/>
  <dc:title>Тема 1. Возникновение и развитие научной дисциплины «Экономика отраслевых рынков»</dc:title>
</cp:coreProperties>
</file>