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F2FA-5B34-4D0E-A458-79AA867D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5AFE-A39D-4B53-81F4-4AB5C283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004E-F81C-4B1F-A47F-C87C006B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34D9-D9A6-4280-8DA9-C05A12377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8810-A27F-4A1F-9408-3F35CD40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64D6-EAE2-4353-8FD9-A1CCAC79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0EB5-71F1-4150-9835-55BAA616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7BB6-EBA7-4521-AA8F-DE112420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609E-BE4F-4773-9AA0-7E51FEA4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4AD8-2B49-443B-BC7D-434ABBC3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E81A-A1D2-4E55-8B7E-57B24EBA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2F0B-F0DF-4760-A616-1D1F039A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DACE-5272-45FA-A7CB-47463966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4A92-3C16-4DF9-9FD3-DD34A719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1B27-4902-4D05-8A1D-91D6FC38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9BEA-00A5-490F-A4BB-99AD63857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2DB1-D1B7-4B98-AA3F-F27A52345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A919-BC0B-4AE0-BD9D-91ADF179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ED95-48D6-418E-8345-574E77E3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C53D-78F8-4C73-809A-814F1D67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40CA-326E-457D-BE36-824D096D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84CE-6963-4014-A274-19EE8E8E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062E-95EF-4A86-8222-5E06964E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5239-7077-45D7-9DAB-9880CF95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minispir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minispir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922E-4282-4911-9566-AA227BFFD63C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234A-B694-445A-8954-73553FBEA663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ценка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терь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лагосостояния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зультате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144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ксимизац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был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с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тер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лагосостоян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никающи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ледстви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4. X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эффективность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X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ффективность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особы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держан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расл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315200" cy="15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образуем  выражение предельной выручки (МR) как первой производной совокупной выручки (TR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19320" y="3200400"/>
            <a:ext cx="70866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40080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, по условию максимизации прибыли MR=MC, выражение можно преобразоват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19320" y="3627360"/>
            <a:ext cx="761976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кольку Ed &lt; -1 (спрос эластичен), цена монополиста всегда будет больше его предельных издержек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ст будет действовать только на эластичном участке кривой спрос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дбавка к предельным издержкам в цене будет  тем меньше, чем выше эластичность спроса, т.е. превышение цены над предельными издержками находится в обратной зависимости от эластичности спроса по цене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733920" y="5486400"/>
            <a:ext cx="25398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нное выражение представляет собой индекс Лернер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видно из этого показателя, если спрос чрезвычайно эластичен, то цена будет близка к предельным издержкам, и, следовательно, монополизированный рынок будет похож на рынок совершенной конкурен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отери благосостояния, возникающие вследствие монополизац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условиях свободной конкуренции достигается оптимальное (по Парето) размещение ресурсов между альтернативными возможностями использовани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гда же рынок монополизирован, условие равенства цен предельным издержкам не выполняется, так как цена монополии всегда выше предельных издержек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о приводит неэффективному распределению ресурс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 сравнению с рынком свободной конкуренции рынок монополии приводит к определенным потерям благосостоя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отери благосостояния от монополиз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1239840"/>
            <a:ext cx="754380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отери благосостояния от монополиз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бы в отрасли была совершенная конкуренция, то объем выпуска отрасли достиг бы значения Qc - величины, соответствующей условию равенства цены предельным издержкам. А цена была бы равна Р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условиях монополии объем производства в отрасли соответствует значению Qm - такому, когда предельная выручка монополиста равна его предельным издержкам. А монопольная цена составляет Р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отери благосостояния от монополиз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, в результате  монополизации отрасл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окращаются объёмы выпуска и объемы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аж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m&lt;Q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овышается рыночная цена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&gt;P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отребительский излишек сокращается на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чину, равную площади фигуры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mРс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рафическо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едставлени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требительского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лиш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ощадь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граниченная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ивой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роса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динатой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нией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екции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личины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роса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динату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тери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требительского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лиш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лощадь фигуры РmРсСМ - совокупные потери потребителей от монопол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асть потребительского излишка (величина РmРсЕМ) превращается в монопольную прибы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ругая часть (величина МЕС) представляет собой чистые потери потребителей от монопол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истые потери от монополии называют также "омертвленными затратами" или "мертвым грузом" монополии (DWL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и потери, утраченные потребителями, не достаются никому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пределение монопол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я - это такой тип рынка, на котором только одна фирма является продавцом товара на который не существует близких заменител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условиях чистой монополии отрасль состоит из одной фирмы, то есть понятия «фирма» и «отрасль» совпадаю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еличина чистых потерь от монополии в общем виде при нелинейных функциях спроса и предельной выручки  определяется как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4038480"/>
            <a:ext cx="71625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обратная функция  спрос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функция предельных  издерже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09680" y="1771560"/>
            <a:ext cx="69804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 случае линейных функций спроса и предельной выручки величину чистых потерь от монополии можно определить по формуле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620120" cy="6667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3352680"/>
            <a:ext cx="7543800" cy="26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чина мертвого груза монополии зависит от того, насколько действия монополиста повышают цену и сокращают объем продаж по сравнению с рынком совершенной конкурен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Чистые потери от монополизации можно выразить также через индекс Лернера (L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 определяется по формул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Ed= -(ΔQ/Qm)*(Pm/ΔP)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данной формулы получим зависимость сокращения объема продаж от ценовой эластичности спрос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Q= -Ed*Qm*(ΔP/P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Тогда мертвый груз монополии в зависимости от ценовой эластичноcти спроса  можно выразить как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DWL = 0,5*Ed*Qm*(ΔP/Pm)*Δ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Умножив выражение на Pm/Pm, получим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6324840" cy="1925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371600" y="4648320"/>
            <a:ext cx="71629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Таким образом, мы получим зависимость мертвых потерь от общей выручки монополии и индекса Лернер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DWL = 0,5 *Ed*TR *L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истые потери от монопольной власти тем выше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ем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: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эластичность спроса при цене, которую назначает монополист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общая выручка монополиста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индекс Лернера монопольной власти, отражающий долю прибыли в цен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Эмпирические исследования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еличины чистых потерь от монополизац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оценкам Харбергера, чистые потери от монополизации в обрабатывающей промышленности США в 1954 году составили около 0,1% ВНП СШ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оценкам Камершена в начале 60-х годов чистые потери от монополизации составляли 6% ВНП СШ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следования Коулинга и Мюллера показали, что в 1978 г. чистые потери от монополизации составляли 4% ВНП США и приблизительно 10% ВНП Великобрита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чины заниженных результатов Харбергера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848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Харбергер при вычислениях принимал эластичность спроса равной 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тери благосостояния вычислялись Харбергером только для обрабатывающей промышленност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а ΔР – изменение цены – принималась на уровне отклонения норм доходности исследуемой отрасли от средней по промышленности, которая разумеется выше, чем в конкурентных отраслях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дполагалось, что все фирмы продают товар конечным потребителям. Но монопольная власть может возникать благодаря созданию вертикально интегрированных фир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Факторы, неучтённые в исследованиях величины чистых потерь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848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жотраслевое взаимодействие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сследование мертвого груза ограничивается только рынком, где господствует монополия, без учета взаимного влияния отраслей друг на друг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ффект дохода.   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 повышении цен монополистом возникает отрицательный эффект дохода для потребителей. Реальные доходы покупателей сокращаютс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Основные причины возникновения монополий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нкурентное противоборство приводит к тому что крупные фирмы вытесняют из отрасли или поглощают малые фирмы, в результате отрасль становится более монополизированно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учно-технический прогресс приводит к монополизации отрасли, поскольку, внедрение новых технологий требует дополнительных затрат, и кроме того, увеличивается минимально эффективный объём производств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ХХ веке стали быстро развиваться типы долевой и общественной собственности (ООО, АО), что позволяет привлечь дополнительные финансовые ресурсы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Факторы, неучтённые в исследованиях величины чистых потерь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е предельной полезности денег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кольку, сокращение потребительского излишка в результате монополизации рынка частично превращается в монопольную прибыль, монополист становится богаче, а потребитель беднее и одинаковая денежная единица приносит монополисту меньшую предельную полезность, чем потребителю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едение монополист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исследованиях предполагалось, что поведение монополиста в отношении качества продукта, видов продукта и методов ценообразования такое же, что и у фирмы на рынке совершенной конкуренц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ст може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водить совершенную дискриминацию по цене. В таком случае потребительский излишек полностью превратится в монопольную прибыль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ратить огромные суммы на рекламу или излишнюю дифференциацию продукции, что следует рассматривать как растрату ресурсов, имеющих альтернативное производственное применени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водить политику создания стратегических барьеров вход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Факторы, неучтённые в исследованиях величины чистых потерь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тественная монопол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отдельных отраслях технология производства такова, что средние издержки убывают с ростом выпуска, так что эффективность обеспечивается только большим масштабом производства. Поэтому в данном случае сопоставление монополии и условий свободной конкуренции не является корректны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ительность монопольной власт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истые потери благосостояния существенны для экономики только в том случае, если они продолжительны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отери общественного благосостояния в зависимости от длительности монопольной власти можно определить по формуле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360" y="228600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S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тые потери благосостояния в краткосрочном период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L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тые потери благосостояния в долгосрочном период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ставка дисконтирования, используемая для капитализации будущих потерь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ежегодный процентный разрыв между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S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L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показывающий степень ослабления монопольной власти на рынке с течением времен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7619760" cy="9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Альтернативные издержки монополизац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ьная прибыль также является составляющей общественного благосостоя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можность монополизации отрасли порождает конкуренцию за будущую экономическую прибыль, что отвлекает ресурсы от других видов использования, так что альтернативную ценность этих ресурсов надо учитывать в качестве издержек от монополиз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Затраты на сохранение монопольной пози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держки на создание барьеров входа на рынок для потенциальных конкурен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Способы достижения монопольной позиции в отрасли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ирование картел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учение патента или лицензи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ббирование в целях установления импортных квот или тарифов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ятки государственным чиновника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громные затраты на рекламу и продвижение товара на рынок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ичие незагруженных мощност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Результатом достижения монопольной позиции является получение монопольной прибыл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едприниматели будут конкурировать за возможность монопольного положения в отрасли до тех пор, пока издержки такой конкуренции не окажутся равными ожидаемым выгодам от монополизации, то есть в долгосрочном периоде монопольная прибыль расходуется на поддержание монопольной пози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Альтернативные издержки монополиз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кольку, монопольная прибыль расходуется на поддержание монопольной позиции в отрасли она может служить показателем альтернативных издержек монополизации, и поэтому должна быть включена в величину чистых потерь от монопол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 (DWLS)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ставляет из себя сумму собственно чистых потерь (0,5*ΔP*ΔQ) и монопольной прибыли (ΔP*Qm), которая является альтернативными издержками монополизаци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DWLS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 0,5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Q + 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m =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0,5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Q + 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(Qc - Δ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иды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162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тественна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ыт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320" y="1771560"/>
            <a:ext cx="71629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я собственно мертвого груза монополии в альтернативных издержках монополизации равн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362320" y="3657600"/>
            <a:ext cx="50860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усть E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 - ценовая эластичность спроса 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словиях совершенной конкуренции (при цене Рс 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ъеме продаж Qc)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 = (ΔQ/ΔP)*(Pc/Qc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куда объем продаж на рынке совершенно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нкуренции составляет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1/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*[ΔQ*(Pc/ΔP)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огда доля собственно мертвого груза монополии 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льтернативных издержках монополизаци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ставит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066680" y="5257800"/>
            <a:ext cx="777240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467840" cy="17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 ΔР/Рс составляет индекс Лернера монопольной власти, полученное выражение можно записать в вид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523880" y="3962520"/>
            <a:ext cx="695196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, доля чистых потерь в альтернативных издержках монополизации тем ниж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м ниже ценовая эластичность спроса в условиях совершенной конкуренци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м ниже коэффициент Лернера монопольной вла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жно получить ещё одну формулу для вычисления совокупных потерь от монополи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DWLS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0,5*ΔP*ΔQ + ΔP*(Qc - ΔQ) = =ΔP*(0,5*ΔQ + Qc – ΔQ) =  ΔP*(Qc - 0,5*ΔQ) = =L*(Pc*Qc - 0,5*Pc*ΔQ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кольку Pc*Qc представляет собой общую выручку производителей в условиях свободной конкуренции (TRc), то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DWLS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L*TRc - 0,5*L*P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*ΔQ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L*TRc - 0,5*ΔP*ΔQ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L*TRc -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(c)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Pc*Qc*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=TRc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*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L - 0,5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d(c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аким образом, совокупные потери от монополии тем выше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м больше общая выручка производителей в конкурентной отрасли (TRc)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м выше индекс Лернера монопольной власти (L)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м выше ценовая эластичность спроса в условиях совершенной конкуренции (E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Times New Roman"/>
              </a:rPr>
              <a:t>d(c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днако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ьной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был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сегд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жет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очно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казат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у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льтернативны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ек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которы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посредственно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трагивают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производительны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пример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сход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двокато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екламу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стреч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дставителям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осударственной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ласт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и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лучая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н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ключаются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был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хотя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у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олжн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ыт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величен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исты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тер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был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улируем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гу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ыт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чительн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ньш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быле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регулируем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аемог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сударство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ог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тится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улировани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чину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тра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едени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улирования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трол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едение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бор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ог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ж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дуе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носит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ьтернативны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держка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другой стороны, альтернативные издержки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зации нельзя рассматривать только как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гативный фактор экономик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нопольная прибыль может возникать за счет более эффективного использования ресурсов данной фирмой по сравнению с мелкими фирмами-конкурентам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нополия может быть создана за счет инноваций (склонность к инвестированию у крупной фирмы-монополиста выше, чем у мелкой фирмы-конкурента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анных случаях монопольная прибыль будет служить стимулом к динамизму рынка, а конкуренция за достижение монопольной власти на рынке будет способствовать развитию производства в данной отрас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99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Определение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-неэффективность производства в условиях монополии - представляет собой разницу между минимально возможным для данного выпуска уровнем издержек и реальным уровнем издержек монополис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ст может влиять на цену продаваемой продукции, изменяя объём производства в соответствии с убывающей функцией рыночного спроса. Монополии намеренно уменьшают объём предложения, чтобы создать искусственный дефицит товаров. А нехватка рыночных благ ведёт к росту монопольной цены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99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ричина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онополия является технически менее эффективной, чем конкуренция, поскольку наличие барьеров для входа защищает фирму-монополиста от конкурентного давления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этому монополист может использовать ресурсы отрасли неэффективно, а его издержки для производства каждого объема выпуска выше соответствующих издержек фирмы на рынке совершенной конкурен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876920" y="1523880"/>
            <a:ext cx="3962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 в условиях совершенной конкуренции равны АСс =МСс, а выпуск составляет величину Qc при цене Рс. В условиях монополии уровень издержек возрастает до величины ACm=MCm. Соответственно, выпуск становится равным Qm, а цена Рm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41893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неэффективности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требительский излишек сокращается с величины АРсС до величины АРmМ. При этом величина МЕС составляет чистые потери от монополии, а величина ВРсЕК представляет собой потери в результате Х-неэффективности. В условиях свободной конкуренции объем производства Qm мог бы быть произведен при более низких издержках (равных Рс=МСс=АСс), а монополия затрачивает на этот выпуск ACm=MCm&gt;MCc. Ресурсы в размере ВРсЕК используются неэффектив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Другие причины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ст может не стремится минимизировать издержки вообщ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пример, целью менеджеров может стать увеличение собственной власти, престижа и безопасности в рамках фирмы. В этом случае фирма-монополист наймет больше персонала и будет производить любой объем выпуска с большими издержками, чем конкурентная фирм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к Х-неэффективности стремятся сами собственники фирмы, это может означать, что они готовы уступить часть прибыли за возможность иметь больше свободного времени и меньше работат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Х-эффективность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837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можна и обратная ситуация: издержки производства в условиях монополии ниже, чем в условиях конкуренции, то есть имеет место         Х-эффективность монопол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ое происходит там, где монополизация отрасли позволяет фирме использовать преимущества экономии на масштабах производства, например в случае естественной монопол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оме того, инновационная активность монополиста может быть выше, чем конкурента, что также способствует понижению издержек отрасл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эффективности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ертвый груз монополии без учета альтернативных издержек монополизации равен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DWL =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R*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монополизация приносит выгоду экономике, то должно быть верным выражение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m*ΔАС &gt;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R*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 ΔАС - экономия затрат монополистом на единицу выпуск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сюд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ΔAC/Pm &gt;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эффективности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, чем больше эластичность спроса по цене, тем в большей степени должна проявляться экономия на издержках в условиях монополии по сравнению с условиями конкуренции, чтобы компенсировать потери благосостояния от монопол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пособы создания и поддержания монополии в отрасл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ьную власть в отрасли удаётся поддержать благодаря наличию определенных условий и определенных действий фир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здание открытой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ая монополия возникает при наличии у фирмы неких уникальных знаний, технологий, позволяющих производить новый продукт или продукт более высокого качества. В случае появления у других фирм технологий для производства такого же продукта, они войдут в отрасль, и монополия в отрасли на этом закончитс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Создание естественной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лучае естественной монополии одна фирма способна производить продукт с более низкими издержками, чем при наличии большого количества фирм, т. е. проявляется Х-эффективность монополиз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В свою очередь, для увеличения объёма производства монополист вынужден снижать цену, поскольку кривая спроса, с которой он встречается, имеет отрицательный наклон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Чтобы общая выручка монополиста при этом не уменьшалась,  снижение цены должно компенсироваться большим процентным увеличением объема продаж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В свою очередь, это возможно только при эластичном спросе, что в определенной мере ограничивает деятельность монополий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Создание закрытой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ытая монополия предполагает поддержание монопольного положения фирмы на рынке за счет наличия у нее патента, лицензии или других видов законных ограничений на производство данного продукта. Тем самым не допускается или ограничивается доступ конкурентов в отрасл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мере роста выпуска растут (или по крайней мере неизменны) предельные издержки (МС) монополис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рма будет расширять выпуск до тех пор, пока дополнительная выручка от продажи дополнительной единицы (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товара превышает или, по крайней мере, не меньше дополнительных издержек (МС), связанных с ее производств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Условие максимизации прибыл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быль любой фирмы достигает своего наибольшего значения, при таком объёме производства при котором предельные издержки равны предельной выручке, т. е.       МС = М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условиях монополии цена будет больше предельных издержек, т.е. МС = МR&lt;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отличии от монополии при совершенной конкуренции предельные издержки и предельная выручка равны цене, т.е.                 МС = МR=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Максимизация прибыли монополией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2520" y="18288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ельные издержки (МС) равны предельной выручке (MR) при объёме производства - Q</a:t>
            </a:r>
            <a:r>
              <a:rPr b="0" lang="lv-LV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,  т. е. цена установится на уровне -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v-LV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66680" y="2111400"/>
            <a:ext cx="381024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vgenij</cp:lastModifiedBy>
  <dcterms:modified xsi:type="dcterms:W3CDTF">2007-10-11T07:45:06Z</dcterms:modified>
  <cp:revision>92</cp:revision>
  <dc:subject/>
  <dc:title>Оценка потерь благосостояния в результате деятельности монополии</dc:title>
</cp:coreProperties>
</file>