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5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FACC-E5EC-42F0-8A84-35913C39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625-16AE-4E2F-AE5C-ECE6C87E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FEC-F978-453B-A293-A5B507E9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119-3658-44D2-8B32-7B0240A9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4E2A-306A-470C-B6D5-C18AA0B9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EE1A-E7F0-4381-8020-01E8D03C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FCA8-EFE6-4DB8-A715-CDAFD2A6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E6F0-DF98-4A3E-8C8D-515571F1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8335-2B80-4260-AFC9-E9982FD8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0831-9DFC-4672-9A7F-E41576A9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BDD8-41B5-4647-ABCA-4C0CAA9C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F9D-3885-421C-A7EE-A8AD6DC4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3210-BFA5-44AA-AECC-63D95DF9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3079-0F56-4054-B86D-80E7BA4D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09B1-AC26-41B5-A2E2-2A50F427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1315-EBDF-4A41-B9F9-CC421094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6A6B-9B35-4829-971D-C343C666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7C2-0652-4801-A6AA-AEB045F5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C06-96FA-447D-A3EF-EEB09D52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39F-C8CF-4027-89A9-BDBB08F6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5B1-CCEF-46D5-9ED9-794E4680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472B-DB36-494A-AF40-AA5C1DD0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72D-38ED-420B-9288-BE9592FE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B2F-4582-445B-9CBC-930F6380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10DD-9EA4-4772-B4E3-525E1112198F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B58C-F6E4-41DF-A0EA-0AD6D0B4ED1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2.  Методологические вопросы исследования структуры отраслевых рынков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315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ынок и рыночные струк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онцентрация продавцов на рынке и ее показате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казатели монопольной в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труктура рынка опреде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м и размерами фир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ом продукц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костью вход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ю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ычно в экономической литературе рассматривается четыре типа рыночных структур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н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ическ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гопол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олее детализированная характеристика рыночных структур по Штакельбергу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7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типы структур рынка продавц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ундаментальные предпосылки основных моделей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рактеристика основных рыночных структур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нцентрация продавцов на рынке и ее показате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ночная концентрация отражает удельный вес отдельных участников рынка или отрас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очная концентрация определяется двумя основными параметрам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ю продавцов на рынке (или производителей в отрасл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м между ними рыночных долей (долей  в производств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концентрации тем выше, чем меньше количество фирм на рынке (или в отрасли).  При одинаковом количестве фирм уровень концентрации будет тем выше, чем больше неравномерность в распределении между фирмами их 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перв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 показателям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не должен изменяться в зависимости от размера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должен легко рассчитываться и легко интерпретиров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я индекса должны меняться в диапазоне от нуля до единицы, экстремальные значения должны соответствовать случаям совершенной конкуренции (значение близкое нулю) и монополии (значение равное единиц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втор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работаны на основе кривых концентрации, которые построены в координатах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цисса - кумулятивное число фирм, предварительно ранжированных по размеру от большей к меньш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а - нарастающим итогом процент выпуска (или процент реализации) продукции, отражающий размеры фир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я ры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редставляет собой систему отношений, в которой связи покупателей и продавцов столь свободны, что цены на один и тот же товар имеют тенденцию быстро выравниватьс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едставляет собой совокупность покупателей и продавцов, взаимодействия которых приводит в итоге к возможности обм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механизм передачи прав собствен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овокупность экономических условий, при которых покупатели и продавцы взаимодействуют для осуществления взаимовыгодных торговых сдело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ривые концентр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77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едположим для дальнейшей характеристики показателей концентрации, что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772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концентрации - обратная величина к числу фирм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6095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n - число фирм на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4460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эффициент концентрации- это сумма рыночных долей крупнейших фирм,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4114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ой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, для которых определяется этот показате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50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ля измерения степени неравенства размеров фирм, действующих на рынке, используется показатель дисперсии рыночных долей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867280" cy="11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70102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спользуется показатель и дисперсии логарифмов рыночных доле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7724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(HHI) определяется как сумма квадратов долей всех фирм.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4114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 на рынке (в отрасл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10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можно представить и в иной форме, с использованием коэффициента вариации (с) размеров фир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8483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нна и Кей предложили несколько критериев для оценки показателей рыночной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ранжирование рынков (отраслей) с помощью кривых концент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ринцип трансферта объема прода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словие входа и вы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словие поглощения или слияния фир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Ханна и Кея  аналогичен индексу Герфиндаля и Хиршмана, но позволяет присваивать различные веса фирмам отрасл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Ханна и Ке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α – положительная констан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ваемая исследова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α=2 индекс Ханна и Кея совпадает с индексом Герфиндаля Хиршм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21040" y="2514600"/>
            <a:ext cx="188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ки можно классифицировать по следующим признака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бъектам торговых сделок - товарные, факторов производства, денежные и т.д.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днородности товара - гомогенные и дифференцированные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условиям функционирования - закрытые и открытые, организованные и стихийны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й показатель, основанный на кривой Лорен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Кривая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ает неравномерность распределения какого-либо призна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лучая концентрации продавцов на рынке - взаимосвязь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ей рынка, подсчитанной нарастающим итогом (показываемой по ординате)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нтом фирм, обеспечивающих эту долю и ранжированных от мелких до крупных (представлены по абсцисс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аграмма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9528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 представляет собо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площади, ограниченной фактической кривой Лоренца и кривой Лоренца для абсолютно равномерного распределения рыночных долей (так называемой “кривой абсолютного равенства”) к площади треугольника, ограниченного кривой Лоренца для абсолютно равномерного распределения долей и осями абсцисс и ордина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ичины того или иного уров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концентрации может быть результатом как изменения числа продавцов, так и изменений в распределении их рыночных долей. Следовательн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акторами изменения структуры рынка – рыночной концентрации являютс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а рынок новых участник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с рынка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яния и поглощения фир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объемов производства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анализе отраслевых рынков важным яв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состояния и изменений структуры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факторов, влияющих на структуру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ие первопричин, влияющих на  повышение или снижение концентрации продавцов на рынке или фирм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ва подхода в выявлении и объяснении причин изменения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стский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етерминистский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ит из того, что в каждый данный момент должен существовать определенный равновесный уровень концентрации на рынке. Он определяется условиями спроса и предложения и поведением субъектов рынка, для которых наиболее существенными факторами явля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ческие возмож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ффект масштаб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U-образной кривой долгосрочных средних издержек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D - спрос на продукцию конкурентной отрас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LRAC1 - U-образная кривая долгосрочных средних издерж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4674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ервоначально в соответствии с эффектом масштаба, фирма выбирает объем производства равны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, при котором средние издержки минимальны. Тогд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очная цена в условиях долгосрочного равновесия установится на уров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L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дновременно равной долгосрочным предельным издержк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ыночного спроса состави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D(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нкурентных фирм будут работать при минимальных издержках производства, производить одинаковый объем продукции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каждой фирмы в отрасли будет равна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 уровень концентрации в отрасли будет равен 1/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ипы границ рын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ов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ажают способность товаров заменять друг друга в потребл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ен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характеризуют исследуемый временной интервал, а также границы эксплуатации продавае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ь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пределяют пространственные границы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ледствия изменен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в отрасли в результате технологических усовершенствований кривая долгосрочных средних издержек перемещается в полож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LR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птимальный масштаб производства возрастет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рыночная цена снизится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условии, что отношение оптимальных объемов производства до и после технологических изменений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больше, чем отношение соответствующих размеров рынка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, определяемое рыночным спросом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уровень концентрации действительно возрастет, а количество фирм в отрасли уменьши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экзогенно заданные условия спроса и издержки производства в реальной действительности могут быть переменны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втор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разование более крупных фирм, в результате изменения минимально эффективного выпуска, при достаточно крупных размерах рынка, могут не повлечь за собой уменьшения общего количества фирм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третьи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U-образную форму кривой долгосрочных средних издержек, хотя в действительности она часто имеет L-образную фор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бразной кривой долгосрочных средни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четвер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только условия совершенной конкуренции. В условиях олигополии равновесная цена может быть выше конкурентной цены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 Если на рынке олигополии установилась цен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о на рынке могут работать фирмы одинакового размера с объемами производства ниже минимально эффективного выпуска: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ак как их издержки окупаются при це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пя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не учитывает распределение фирм по размерам, предполагая их одинаковость, что также далеко от реа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ит из того, что влияние на уровень концентрации оказывают множество случайных факторов, действующих разнонаправл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цесс Жи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ится при следующих предпосылк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аждой фирмы происходит в соответствии заданным вероятностным распределением пропорционального изменения объем выпуска продук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нная вероятность пропорционального изменения не зависит от размера фирмы в текущий момент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ссмотрим процесс Жибра на условном при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ьный момент времен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отрасли действуют 256 фирм одинакового размера – мощностью 57600 единиц продукции в год каждая. Любая фирма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5 - сохранить свой размер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величить свой размер в 16/15 раз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меньшить свой размер в 15/16 раз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я в распределении размеров фир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первого этапа  (t=1)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овина фирм (128 из 256) сохраняют свой разме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твертая часть фирм (64 из 256) уменьшают свой размер до 54000 (57600*15/16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столько же фирм (64 из 256) увеличивают свой размер до 61440 (57600*16/15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следующего этапа (при t=2)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ется в отношении каждой фирмы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 же вероятностных распредел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люстрация изменения в распределении размеров фирм в несколько этапов процесса Жиб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924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результате распределение фирм по размерам становится ассиметричны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е фирмы изменяются на большую абсолютную величину, чем меньш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рост мощностей составил 3840 (61440-57600) и 4096 (65536-614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мощностей составило 3600 (57600- 54000) и 3375 (54000-5062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ритерии для определения границ отраслевого рынка, предложенные Дж.Робинсон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раницах одного отраслевого рынка рассматриваю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товар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заменителей това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заменители очередных замен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ак до тех пор пока в цепи товаров-заменителей не обнаружится значительный разры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поставление двух метод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хастический подход придает большее значение распределению рыночных до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рминистский подход больше акцентирует изменения числа фирм на ры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казатели рыночной вла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Бэйна  (норма экономической прибыл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Лерн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Тобина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би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апандре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эффициент (индекс) Бейна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ывает экономическую прибыль на одну денежную единицу собственного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7772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екс (коэффициент) Лерне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онопольная це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едельные издерж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ценовая эластичность сп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учае монополии значение индекса Лернера приближается к единице, а в случае совершенной конкуренции этот показатель равен ну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399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евышение монопольной цены над предельными издержками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зависимости от ценовой эластичности спрос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велика, то цена, которая максимизирует прибыль монополиста, будет лишь немного превышать предельные издержки – рис. 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эластичный рыночный спрос обеспечивает большую монопольную надбавку к конкурентной цене – рис. 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816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рав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принимает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.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составляет только 5% от це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же ценовая эластичность спро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1,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состав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,62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увеличится до 62,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848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скольку в долгосрочном периоде в условиях равновесия предельные издержки (МС) равны средним (АС), то индекс Лернера можно определить и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34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99960"/>
            <a:ext cx="76201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Лернера показывает также долю монопольной прибыли (П</a:t>
            </a:r>
            <a:r>
              <a:rPr b="1" lang="ru-RU" sz="3600" spc="-1" strike="noStrike" baseline="-25000">
                <a:solidFill>
                  <a:srgbClr val="221304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) от общей выручки (TR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648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99600"/>
            <a:ext cx="83055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Модификации индекса Лернера для рынка олигополии ( если рынок описывается моделью Курно)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5181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бъем выпус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о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гополис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ыночный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ожив второе слагаемое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/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затем на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несложных преобразовани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47920" y="4594320"/>
            <a:ext cx="701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качестве критериев определения границ отраслевого рынка Э.Чемберлин предложил коэффициенты перекрестной эластичности, а именно оценивается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меняемость товара - с помощью коэффициента перекрестной эластичности спроса на товар по цене товара-заменител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висимость фирм-производителей товара - с помощью коэффициента перекрестной эластичности цены данного товара по объему выпуска товара-заменител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редний для отрасли индекс Лернера можно вычислить, умножив левую и правую части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и суммированием по всем фирмам отрас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2017800"/>
            <a:ext cx="716292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7619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 результате средний по отрасли индекс Лернера равен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Коэффициент Тобина (q Тобина) связывает рыночную стоимость фирмы (измеряемой рыночной ценой ее акций) с восстановительной стоимостью ее активов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33680" y="2362320"/>
                <a:ext cx="2046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обин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P- рыночная стоимость активов фир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ычно определяется по курсу ак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- восстановительная стоимость актив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, равная сумме расходов, необходим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обретения активов фирмы по текущи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qТобина&gt; 1 - свидетельство полученной или ожидаемой положительной экономическ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индекса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азируется на гипотезе эффективного финансового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высоким значением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ычно обладают уникальными факторами производства или выпускают уникальные товары, то есть для этих фирм характерно наличие монопольной р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небольшими значениями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йствуют в конкурентных или регулируемых отрасл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оэффициент монопольной власти Папандреу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концепции перекрестной эластичности остаточного спроса на товар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сам по себе показатель перекрестной эластичности остаточного спроса не может служить показателем монопольной власти, так как его величина зависит от двух факторов, оказывающих противоположное влияние на монопольную вла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числа фирм на рынк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уровня заменимости товара рассматриваемого продавца и товаров других фир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числа фирм на рынке приводит к снижению их взаимозависимости и соответствующему снижению показателя перекрестной эластичности остаточного спрос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Чем выше значения коэффициентов перекрестной эластичности, те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близкими заменителями, т.е. более однородными являются рассматриваемые това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взаимозависимость фирм произв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дход антимонопольных комитетов ряда стран -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ерекрестная эластичность спроса по цене становится меньше определенной заданной величины, считается, что в цепи товаров-заменителей имеет место разрыв, который является границей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граничение между понятиями «рынок» и «отрасль»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ен удовлетворяемой потреб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яет фирмы, предлагающие товар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окупа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спрос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ена производимыми проду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яет фирмы, производящие продукт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предло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5:56:02Z</dcterms:created>
  <dc:creator>Jevgenij</dc:creator>
  <dc:description/>
  <dc:language>en-US</dc:language>
  <cp:lastModifiedBy>Евгений</cp:lastModifiedBy>
  <dcterms:modified xsi:type="dcterms:W3CDTF">2008-09-17T10:06:28Z</dcterms:modified>
  <cp:revision>102</cp:revision>
  <dc:subject/>
  <dc:title>Заголовок слайда отсутствует</dc:title>
</cp:coreProperties>
</file>