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EAA-EAE8-4494-9A73-F43A7630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FE8-6018-4E10-B37D-AC737E62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AE1-0C08-4426-A058-B98B2960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CF4-0C7B-4072-8DE9-F90D9AD3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F9A1-533C-4864-AB57-6016C970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6F6E-4EA4-4045-BF6B-8336F6C7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EC7B-6F37-4CFC-A764-F31ECFF5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D203-2449-406B-BCC9-8D6C43EA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C87C-CA25-4042-BF67-D94DF850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A27E-7D99-4A1E-959E-AEE03A75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110A-B921-40BF-AC24-82A1464B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4F1-23C7-4B8B-AE6F-9E6C56F2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B963-74A8-4711-961A-5169AD90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31AC-3CD7-4D17-8D3C-E0DAFD87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93E3-68A9-4A75-B63B-4ED6E864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A70E-896C-4126-B60B-1CBE2E05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A6C4-F1A3-44C8-BCFC-357E9A3C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E44-D111-4C56-9684-F44CAAB9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384A-C09A-45B2-BEFE-D9DDF8F3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43E7-A2F7-4689-B3B3-2791B206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5E5D-BE5B-443E-A42B-C839C3B1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F28-CE6B-4D9F-9AA7-72B94B1D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B50B-D3CC-443C-B5CA-A8BE9762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3788-E567-4A8B-91D0-C68E4379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F6FC5C-433D-4324-9E7A-CFD3FFC75953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19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AD0E803-941C-4854-9652-B683CDB8BC1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-%20http://www.economics.boom.ru/Lectur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304920"/>
            <a:ext cx="77724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Авдашева 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Б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Розанова 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Теория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: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агистр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1998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Вольчик В.В. Лекции по экономике отраслевых рынков. </a:t>
            </a:r>
            <a:r>
              <a:rPr b="0" lang="ru-RU" sz="2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- http://www.economics.boom.ru/Lecture.ht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Кабраль Л.М.Б.  Организация отраслевых рынков: вводный курс. Минск: Новое знание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Порезанова Е.В. Экономика отраслевых рынков. Учебно-методическое пособие для студентов экономических специальностей. Саратов: Лотос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Шерер Ф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осс Д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руктура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ФРА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, 1997.</a:t>
            </a:r>
            <a:r>
              <a:rPr b="0" lang="ru-RU" sz="3200" spc="-1" strike="noStrike">
                <a:solidFill>
                  <a:srgbClr val="000000"/>
                </a:solidFill>
                <a:latin typeface="TimesNewRomanPSMT;TimesNew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9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первоначальный вариант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уточнённый вариант)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095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Необходимость государственного регулирования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звана ситуациями, когда рынок, в силу различных причин, оказывается в кризисной ситу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84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оль государственной политики в отношении отраслевых рынков определяется ответами на вопрос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серьёзным является кризис ры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времени необходимо рыночному механизму для самостоятельного возвращения в нормальное состоя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эффективным будет вмешательство государства в улучшение ситуации на рынк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 времени потребуется для реализации государственной политик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велики затраты на проведение государственного вмешательств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Направления государственной полит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рьеры для входа на рыно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 и субсид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вестицион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итика в области занят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роэкономическая полит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40920"/>
            <a:ext cx="76964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акторы, которые способствовали развитию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895120"/>
            <a:ext cx="77724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е в области теории ценообразования - в структурах, отличных от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 статистической информации на микроэкономическом уров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05920"/>
            <a:ext cx="784836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Исследования поведения фирм и функционирования отраслевых рынков, в условиях, отличных от совершенной конкуренции (до выделения экономики отраслевых рынков в самостоятельную научную дисциплину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 ве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ижения А. Курно и Ж. Бертрана в теории олиг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28840" y="31240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30-х годах ХХ 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Э. Чемберлином модели монополистической конкурен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Модель монополистической конкурен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ла концепцию дифференциации продук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ала роль входа на рынок новых фир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ала в одном типе рынка черты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ла новые возможности теоретического анализа монополистической конкуренции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244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направления развития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нение теории игр к моделям олигополии, что позволило анализировать стратегическое взаимодействие фир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формальных моделей, позволяющих оценить влияние различных параметров рынка на равновесные цены и объёмы производ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эконометрических исследов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Что представляет собой рынок отдельного товара в мире дифференцированных продуктов, где пролегают его границы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8840" y="1771200"/>
            <a:ext cx="38098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бозначив границы рынка, невозможно оценить степень его монополизации (концентрации) и определить адекватные формы государственного вмешатель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69608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1. Возникновение и развитие научной дисциплины «Экономика отраслевых рынков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3809880"/>
            <a:ext cx="77724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Предмет и метод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сновные проблем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81024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Какие факторы определяют размер фирм, или почему отдается предпочтение внутрифирменной координации, в одних случаях, а рыночной в других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мпирической и теоретической проверке подвергаю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я от масштаба и разнообраз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тикальная интеграция фир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акционные издерж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Какой элемент рыночной структуры является ключевым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ю подверга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для входа и выход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фференциации продук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нтрация покупателей и продавц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Действительно ли фирмы максимизируют прибыль или они преследуют иные це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3400" y="177156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яду с традиционной гипотезой исследуются предположения 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ксимизации выруч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ов рос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мление управляющих к расширению вла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3200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) Каков характер практического ценообразования фирм с рыночной властью и каковы его последствия для благосостояния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14440" y="1599840"/>
            <a:ext cx="4724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 внимания уделяется изучению положительных и отрицательных с точки зрения благосостояния последствий различных форм ценовой дискриминации, н также разнообразных условии, которые производители навязывают оптовым и розничным торговц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10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6) Способны ли уже существующие фирмы предотвратить вход в отрасль новичков или вытеснить часть имеющихся фир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24280" y="1828440"/>
            <a:ext cx="41148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есь внимание уделяется стратегическому взаимодействию фирм, а также различного рода барьерам, как институциональным так и неинституциональны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7) Какие факторы облегчают или затрудняют сговор и иные формы координац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00600" y="1828440"/>
            <a:ext cx="40384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 вопросы затрагивают способность фирм воздействовать на структуру рынка и тем самым активно воздействовать на свою прибыль и положение на рынк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358164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8) Насколько значительно отклонение от конкурентного идеала рынков с рыночной властью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14440" y="1828440"/>
            <a:ext cx="4800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лагаются различные подходы к оценке ущерба, который терпит общество от монополизма. Результаты существенно зависят от предположений, закладываемых в расчеты, и значительно расходятся - от нескольких до десятков проц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204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последние десятилетия в экономике отраслевых рынков получили существенное развитие 3 направления исследований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теоретико-игровых моделей в анализе олигополистических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теории трансакционных издержек при сравнительном анализе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ка теории состязательных, или квазиконкурентных, рын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207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ыделяют два типа состязательных рынков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превышают предельные и средние издержки, в результате чего многие фирмы могут войти на рыно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упали ниже средних издержек, и многие фирмы могут оставить рынок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ажность изучения экономик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я в этой области оказывают непосредственное влияние на определение и внедрение государственной политики 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ногие аспекты данной дисциплины остаются недостаточно исследованным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учение экономики отраслевых рынков могло бы оживить эмпирические исследования национальной экономик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спективы преподавания микроэкономики без изучения экономики отраслевых рынков, представляющей её эмпирическую основу, существенно ограничиваютс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озникновение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 как самостоятельная научная дисциплина ведёт свою историю от середины ХХ века. Многие связывают  её возникновение с представителями двух экономических школ - Гарвардской и Чикагс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ематика курсовых работ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221304"/>
                </a:solidFill>
                <a:latin typeface="TimesNewRoman;TimesNew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ние отрасли (отраслевого рынка) в экономике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 фирмы в системе отраслевых рынков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волюционные аспекты развития отрас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входа и выхода на отраслевой рынок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зличные варианты названия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Economics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Organizatio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рганизация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промыш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теория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Nozaru tirgus ekonom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едмет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исание того, как хозяйственная деятельность разделена между фирмам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. Коу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а о том , как в различных рыночных условиях производственная деятельность посредством рыночного механизма приводится в соответствии со спросом на товары и услуги, и как несовершенство рыночного механизма и изменения в нём влияют на прогресс, достигнутый в удовлетворении экономических потребност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. М. Шерер, Д. Ро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6960"/>
            <a:ext cx="79246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бщие признаки экономики отраслевых рынков с микроэкономико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ение взаимодействия потребителя и производ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влияния рынка на действия производителя и потреб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ценообразования в различных условия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ёт различных переменных, влияющих на результат деятель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тличительные призна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04812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наиболее сущ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общих мод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14440" y="1295280"/>
            <a:ext cx="4724280" cy="49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многочисленных дополнительных количественных и кач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олее конкретных моделей, опираясь на микроэкономику, с наиболее полным учётом практики (эксперимен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ва подхода в изучени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41907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стем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Гарвардской школы, профессора Э. Майсон и Д. Бей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на парадигма «Структура - поведение - результат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098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чески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Чикагской школы, Д. Стиглер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ход с точки зрения теории ценообразования, использующий микроэкономически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3:56:10Z</dcterms:created>
  <dc:creator>Jevgenij</dc:creator>
  <dc:description/>
  <dc:language>en-US</dc:language>
  <cp:lastModifiedBy>Jevgenij</cp:lastModifiedBy>
  <dcterms:modified xsi:type="dcterms:W3CDTF">2008-09-08T06:46:21Z</dcterms:modified>
  <cp:revision>38</cp:revision>
  <dc:subject/>
  <dc:title>Тема 1. Возникновение и развитие научной дисциплины «Экономика отраслевых рынков»</dc:title>
</cp:coreProperties>
</file>