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dt" idx="7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ftr" idx="8"/>
          </p:nvPr>
        </p:nvSpPr>
        <p:spPr>
          <a:xfrm>
            <a:off x="-360" y="8685000"/>
            <a:ext cx="297036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 type="sldNum" idx="9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C6C642-C8F9-4063-942E-997EF30A55F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3C466-DE9F-45C3-981C-531F3D80E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25416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1066680" y="392040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B21E4-F9B3-4A8A-9B32-4B59DA89D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25416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8640" y="177156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066680" y="392040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5048640" y="392040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24E94-1969-4E50-84A7-45C5A64F4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25416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694320" y="177156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321600" y="177156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1066680" y="392040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6"/>
          <p:cNvSpPr>
            <a:spLocks noGrp="1"/>
          </p:cNvSpPr>
          <p:nvPr>
            <p:ph/>
          </p:nvPr>
        </p:nvSpPr>
        <p:spPr>
          <a:xfrm>
            <a:off x="3694320" y="392040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7"/>
          <p:cNvSpPr>
            <a:spLocks noGrp="1"/>
          </p:cNvSpPr>
          <p:nvPr>
            <p:ph/>
          </p:nvPr>
        </p:nvSpPr>
        <p:spPr>
          <a:xfrm>
            <a:off x="6321600" y="392040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6710A-E15B-4BC8-BA78-1F4E9E82F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55596-4011-4276-8E75-05FD448A0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25416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066680" y="177156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DDD3D-8ADF-4567-A544-B6C9FD9B9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25416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DB2AF-AA39-4E89-A852-BE19523B3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25416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048640" y="177156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F6FDA-AA89-4240-8A92-E7EAE697B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25416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E6D77-7E77-4B23-944C-81F694852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1066680" y="254160"/>
            <a:ext cx="77709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C458A-E028-4700-869E-AAA2326C4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66680" y="25416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048640" y="177156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066680" y="392040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C4D5B-321A-4606-9696-E488FD5AD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25416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 type="subTitle"/>
          </p:nvPr>
        </p:nvSpPr>
        <p:spPr>
          <a:xfrm>
            <a:off x="1066680" y="177156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2A70A-E810-49C9-86E5-76AEA32EE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25416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48640" y="177156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048640" y="392040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00FEE-39FD-4217-89F8-DBD8E38BB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25416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048640" y="177156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066680" y="392040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7906F-6C1C-44AE-B953-192557B5B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25416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1066680" y="392040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FE840-10B9-46BA-AE1B-6B945C3E3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25416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048640" y="177156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066680" y="392040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5048640" y="392040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D08A9-E0E0-4517-B7ED-39D492844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25416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694320" y="177156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321600" y="177156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1066680" y="392040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694320" y="392040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321600" y="392040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C157A-4000-4E1F-AC8B-07DD0B00C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25416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57B92-79DA-43EB-8CDF-931B78F9E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25416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8640" y="177156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D1B25-1667-43E4-9261-1F4555524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25416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59C52-A3B5-4EB5-8AC4-1169463CE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066680" y="254160"/>
            <a:ext cx="77709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98F9C-58D2-4A5D-B74B-86F33AF40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25416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048640" y="177156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066680" y="392040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3B29F-0AED-4298-B586-02E48A10F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680" y="25416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048640" y="177156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048640" y="392040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B8245-AE09-4B21-9E2C-54F860DB4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66680" y="25416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48640" y="177156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066680" y="392040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03B6B-D1A1-4493-AFC6-6ADBBC6C4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50760"/>
            <a:ext cx="8924760" cy="6743880"/>
            <a:chOff x="0" y="50760"/>
            <a:chExt cx="8924760" cy="6743880"/>
          </a:xfrm>
        </p:grpSpPr>
        <p:grpSp>
          <p:nvGrpSpPr>
            <p:cNvPr id="1" name=""/>
            <p:cNvGrpSpPr/>
            <p:nvPr/>
          </p:nvGrpSpPr>
          <p:grpSpPr>
            <a:xfrm>
              <a:off x="0" y="50760"/>
              <a:ext cx="8924760" cy="6743880"/>
              <a:chOff x="0" y="50760"/>
              <a:chExt cx="8924760" cy="6743880"/>
            </a:xfrm>
          </p:grpSpPr>
          <p:sp>
            <p:nvSpPr>
              <p:cNvPr id="2" name=""/>
              <p:cNvSpPr/>
              <p:nvPr/>
            </p:nvSpPr>
            <p:spPr>
              <a:xfrm>
                <a:off x="528480" y="201600"/>
                <a:ext cx="8396280" cy="64659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3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50760"/>
                <a:ext cx="1181160" cy="4286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" name=""/>
              <p:cNvSpPr/>
              <p:nvPr/>
            </p:nvSpPr>
            <p:spPr>
              <a:xfrm>
                <a:off x="596880" y="4130640"/>
                <a:ext cx="1041480" cy="457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5" name="" descr=""/>
              <p:cNvPicPr/>
              <p:nvPr/>
            </p:nvPicPr>
            <p:blipFill>
              <a:blip r:embed="rId3"/>
              <a:srcRect l="0" t="40000" r="0" b="0"/>
              <a:stretch/>
            </p:blipFill>
            <p:spPr>
              <a:xfrm>
                <a:off x="0" y="4222800"/>
                <a:ext cx="1181160" cy="2571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" name=""/>
            <p:cNvGrpSpPr/>
            <p:nvPr/>
          </p:nvGrpSpPr>
          <p:grpSpPr>
            <a:xfrm>
              <a:off x="1149480" y="1542960"/>
              <a:ext cx="7742160" cy="4802400"/>
              <a:chOff x="1149480" y="1542960"/>
              <a:chExt cx="7742160" cy="4802400"/>
            </a:xfrm>
          </p:grpSpPr>
          <p:sp>
            <p:nvSpPr>
              <p:cNvPr id="7" name=""/>
              <p:cNvSpPr/>
              <p:nvPr/>
            </p:nvSpPr>
            <p:spPr>
              <a:xfrm>
                <a:off x="1149480" y="15429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1149480" y="17715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149480" y="20001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1149480" y="22287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149480" y="24573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1149480" y="26859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1149480" y="29145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1149480" y="31431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149480" y="33717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49480" y="36003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149480" y="38289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1149480" y="40575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149480" y="42861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149480" y="45147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149480" y="47433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149480" y="49719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49480" y="52005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1149480" y="54291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1149480" y="56577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1149480" y="58863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149480" y="61149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149480" y="63435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25416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body"/>
          </p:nvPr>
        </p:nvSpPr>
        <p:spPr>
          <a:xfrm>
            <a:off x="1066680" y="177156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3680" indent="-2811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 type="dt" idx="1"/>
          </p:nvPr>
        </p:nvSpPr>
        <p:spPr>
          <a:xfrm>
            <a:off x="1041120" y="6157800"/>
            <a:ext cx="1903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 type="ftr" idx="2"/>
          </p:nvPr>
        </p:nvSpPr>
        <p:spPr>
          <a:xfrm>
            <a:off x="3504960" y="6157800"/>
            <a:ext cx="289404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 type="sldNum" idx="3"/>
          </p:nvPr>
        </p:nvSpPr>
        <p:spPr>
          <a:xfrm>
            <a:off x="6933960" y="6157800"/>
            <a:ext cx="1903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A14C905-B521-415A-853B-51140006E5AA}" type="slidenum"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1911240"/>
            <a:ext cx="7719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dt" idx="4"/>
          </p:nvPr>
        </p:nvSpPr>
        <p:spPr>
          <a:xfrm>
            <a:off x="1117440" y="6113520"/>
            <a:ext cx="1928880" cy="5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ftr" idx="5"/>
          </p:nvPr>
        </p:nvSpPr>
        <p:spPr>
          <a:xfrm>
            <a:off x="3556080" y="6113520"/>
            <a:ext cx="2843280" cy="5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sldNum" idx="6"/>
          </p:nvPr>
        </p:nvSpPr>
        <p:spPr>
          <a:xfrm>
            <a:off x="7010280" y="6113520"/>
            <a:ext cx="1827360" cy="5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EF860385-8F72-4239-A7EF-725EDB134AF9}" type="slidenum"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6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image" Target="../media/image11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9.png"/><Relationship Id="rId10" Type="http://schemas.openxmlformats.org/officeDocument/2006/relationships/image" Target="../media/image18.png"/><Relationship Id="rId11" Type="http://schemas.openxmlformats.org/officeDocument/2006/relationships/image" Target="../media/image20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90720" y="8380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Анализ отраслевых барьеров в рыночной экономике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. Отраслевые барьеры и их классификация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. Нестратегические барьер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3. Стратегические барьер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4. Проблемы, связанные со стратегическими барьерам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B615A-6A80-44EE-82D7-1AB2B6AC6B00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66680" y="290160"/>
            <a:ext cx="7772400" cy="8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221304"/>
                </a:solidFill>
                <a:latin typeface="Times New Roman"/>
              </a:rPr>
              <a:t>Классификация барьеров в зависимости от  влияния на рыночную структуру</a:t>
            </a:r>
            <a:endParaRPr b="0" lang="en-US" sz="2600" spc="-1" strike="noStrike">
              <a:solidFill>
                <a:srgbClr val="221304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1079640" y="1619280"/>
            <a:ext cx="7740360" cy="5041800"/>
            <a:chOff x="1079640" y="1619280"/>
            <a:chExt cx="7740360" cy="5041800"/>
          </a:xfrm>
        </p:grpSpPr>
        <p:sp>
          <p:nvSpPr>
            <p:cNvPr id="157" name=""/>
            <p:cNvSpPr/>
            <p:nvPr/>
          </p:nvSpPr>
          <p:spPr>
            <a:xfrm>
              <a:off x="1252440" y="1706400"/>
              <a:ext cx="7567560" cy="4954680"/>
            </a:xfrm>
            <a:prstGeom prst="roundRect">
              <a:avLst>
                <a:gd name="adj" fmla="val 2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8" name=""/>
            <p:cNvCxnSpPr>
              <a:stCxn id="159" idx="0"/>
              <a:endCxn id="160" idx="2"/>
            </p:cNvCxnSpPr>
            <p:nvPr/>
          </p:nvCxnSpPr>
          <p:spPr>
            <a:xfrm rot="10800000">
              <a:off x="6593760" y="5400720"/>
              <a:ext cx="105480" cy="35892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463416"/>
              </a:solidFill>
              <a:miter/>
            </a:ln>
          </p:spPr>
        </p:cxnSp>
        <p:cxnSp>
          <p:nvCxnSpPr>
            <p:cNvPr id="161" name=""/>
            <p:cNvCxnSpPr>
              <a:stCxn id="162" idx="0"/>
              <a:endCxn id="163" idx="2"/>
            </p:cNvCxnSpPr>
            <p:nvPr/>
          </p:nvCxnSpPr>
          <p:spPr>
            <a:xfrm flipV="1">
              <a:off x="4946400" y="5400720"/>
              <a:ext cx="91080" cy="35892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463416"/>
              </a:solidFill>
              <a:miter/>
            </a:ln>
          </p:spPr>
        </p:cxnSp>
        <p:cxnSp>
          <p:nvCxnSpPr>
            <p:cNvPr id="164" name=""/>
            <p:cNvCxnSpPr>
              <a:stCxn id="165" idx="0"/>
              <a:endCxn id="166" idx="2"/>
            </p:cNvCxnSpPr>
            <p:nvPr/>
          </p:nvCxnSpPr>
          <p:spPr>
            <a:xfrm rot="10800000">
              <a:off x="8151120" y="3956760"/>
              <a:ext cx="2160" cy="450000"/>
            </a:xfrm>
            <a:prstGeom prst="bentConnector3">
              <a:avLst>
                <a:gd name="adj1" fmla="val 40000"/>
              </a:avLst>
            </a:prstGeom>
            <a:ln w="28440">
              <a:solidFill>
                <a:srgbClr val="463416"/>
              </a:solidFill>
              <a:miter/>
            </a:ln>
          </p:spPr>
        </p:cxnSp>
        <p:cxnSp>
          <p:nvCxnSpPr>
            <p:cNvPr id="167" name=""/>
            <p:cNvCxnSpPr>
              <a:stCxn id="160" idx="0"/>
              <a:endCxn id="168" idx="2"/>
            </p:cNvCxnSpPr>
            <p:nvPr/>
          </p:nvCxnSpPr>
          <p:spPr>
            <a:xfrm rot="10800000">
              <a:off x="6544440" y="4147560"/>
              <a:ext cx="50040" cy="2592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463416"/>
              </a:solidFill>
              <a:miter/>
            </a:ln>
          </p:spPr>
        </p:cxnSp>
        <p:cxnSp>
          <p:nvCxnSpPr>
            <p:cNvPr id="169" name=""/>
            <p:cNvCxnSpPr>
              <a:stCxn id="163" idx="0"/>
              <a:endCxn id="170" idx="2"/>
            </p:cNvCxnSpPr>
            <p:nvPr/>
          </p:nvCxnSpPr>
          <p:spPr>
            <a:xfrm rot="10800000">
              <a:off x="4652280" y="4139640"/>
              <a:ext cx="384840" cy="26892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463416"/>
              </a:solidFill>
              <a:miter/>
            </a:ln>
          </p:spPr>
        </p:cxnSp>
        <p:cxnSp>
          <p:nvCxnSpPr>
            <p:cNvPr id="171" name=""/>
            <p:cNvCxnSpPr>
              <a:stCxn id="172" idx="0"/>
              <a:endCxn id="173" idx="2"/>
            </p:cNvCxnSpPr>
            <p:nvPr/>
          </p:nvCxnSpPr>
          <p:spPr>
            <a:xfrm rot="10800000">
              <a:off x="2567880" y="3956760"/>
              <a:ext cx="907200" cy="450000"/>
            </a:xfrm>
            <a:prstGeom prst="bentConnector3">
              <a:avLst>
                <a:gd name="adj1" fmla="val 49980"/>
              </a:avLst>
            </a:prstGeom>
            <a:ln w="28440">
              <a:solidFill>
                <a:srgbClr val="463416"/>
              </a:solidFill>
              <a:miter/>
            </a:ln>
          </p:spPr>
        </p:cxnSp>
        <p:cxnSp>
          <p:nvCxnSpPr>
            <p:cNvPr id="174" name=""/>
            <p:cNvCxnSpPr>
              <a:stCxn id="175" idx="0"/>
              <a:endCxn id="173" idx="2"/>
            </p:cNvCxnSpPr>
            <p:nvPr/>
          </p:nvCxnSpPr>
          <p:spPr>
            <a:xfrm flipV="1">
              <a:off x="1833480" y="3957120"/>
              <a:ext cx="735840" cy="450000"/>
            </a:xfrm>
            <a:prstGeom prst="bentConnector3">
              <a:avLst>
                <a:gd name="adj1" fmla="val 49975"/>
              </a:avLst>
            </a:prstGeom>
            <a:ln w="28440">
              <a:solidFill>
                <a:srgbClr val="463416"/>
              </a:solidFill>
              <a:miter/>
            </a:ln>
          </p:spPr>
        </p:cxnSp>
        <p:cxnSp>
          <p:nvCxnSpPr>
            <p:cNvPr id="176" name=""/>
            <p:cNvCxnSpPr>
              <a:stCxn id="166" idx="0"/>
              <a:endCxn id="177" idx="2"/>
            </p:cNvCxnSpPr>
            <p:nvPr/>
          </p:nvCxnSpPr>
          <p:spPr>
            <a:xfrm rot="10800000">
              <a:off x="5425200" y="2518560"/>
              <a:ext cx="2726640" cy="537480"/>
            </a:xfrm>
            <a:prstGeom prst="bentConnector3">
              <a:avLst>
                <a:gd name="adj1" fmla="val 49993"/>
              </a:avLst>
            </a:prstGeom>
            <a:ln w="28440">
              <a:solidFill>
                <a:srgbClr val="463416"/>
              </a:solidFill>
              <a:miter/>
            </a:ln>
          </p:spPr>
        </p:cxnSp>
        <p:cxnSp>
          <p:nvCxnSpPr>
            <p:cNvPr id="178" name=""/>
            <p:cNvCxnSpPr>
              <a:stCxn id="168" idx="0"/>
              <a:endCxn id="177" idx="2"/>
            </p:cNvCxnSpPr>
            <p:nvPr/>
          </p:nvCxnSpPr>
          <p:spPr>
            <a:xfrm rot="10800000">
              <a:off x="5425200" y="2518560"/>
              <a:ext cx="1119960" cy="55152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463416"/>
              </a:solidFill>
              <a:miter/>
            </a:ln>
          </p:spPr>
        </p:cxnSp>
        <p:cxnSp>
          <p:nvCxnSpPr>
            <p:cNvPr id="179" name=""/>
            <p:cNvCxnSpPr>
              <a:stCxn id="170" idx="0"/>
              <a:endCxn id="177" idx="2"/>
            </p:cNvCxnSpPr>
            <p:nvPr/>
          </p:nvCxnSpPr>
          <p:spPr>
            <a:xfrm flipV="1">
              <a:off x="4653000" y="2518920"/>
              <a:ext cx="775440" cy="540720"/>
            </a:xfrm>
            <a:prstGeom prst="bentConnector3">
              <a:avLst>
                <a:gd name="adj1" fmla="val 49976"/>
              </a:avLst>
            </a:prstGeom>
            <a:ln w="28440">
              <a:solidFill>
                <a:srgbClr val="463416"/>
              </a:solidFill>
              <a:miter/>
            </a:ln>
          </p:spPr>
        </p:cxnSp>
        <p:cxnSp>
          <p:nvCxnSpPr>
            <p:cNvPr id="180" name=""/>
            <p:cNvCxnSpPr>
              <a:stCxn id="173" idx="0"/>
              <a:endCxn id="177" idx="2"/>
            </p:cNvCxnSpPr>
            <p:nvPr/>
          </p:nvCxnSpPr>
          <p:spPr>
            <a:xfrm flipV="1">
              <a:off x="2568240" y="2518920"/>
              <a:ext cx="2858040" cy="54072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463416"/>
              </a:solidFill>
              <a:miter/>
            </a:ln>
          </p:spPr>
        </p:cxnSp>
        <p:sp>
          <p:nvSpPr>
            <p:cNvPr id="177" name=""/>
            <p:cNvSpPr/>
            <p:nvPr/>
          </p:nvSpPr>
          <p:spPr>
            <a:xfrm>
              <a:off x="4757760" y="1619280"/>
              <a:ext cx="1335240" cy="90000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ffcc"/>
              </a:solidFill>
              <a:miter/>
            </a:ln>
            <a:effectLst>
              <a:outerShdw dist="63504" dir="19383909" blurRad="0" rotWithShape="0">
                <a:srgbClr val="00ff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3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Виды отраслевых</a:t>
              </a:r>
              <a:br>
                <a:rPr sz="1300"/>
              </a:br>
              <a:r>
                <a:rPr b="0" lang="ru-RU" sz="13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 барьеров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770120" y="3060720"/>
              <a:ext cx="1596960" cy="89856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808000"/>
              </a:solidFill>
              <a:miter/>
            </a:ln>
            <a:effectLst>
              <a:outerShdw dist="63504" dir="19383909" blurRad="0" rotWithShape="0">
                <a:srgbClr val="808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Не препятствующие </a:t>
              </a:r>
              <a:br>
                <a:rPr sz="1200"/>
              </a:b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входу</a:t>
              </a:r>
              <a:br>
                <a:rPr sz="1200"/>
              </a:b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(рынок совершенной</a:t>
              </a:r>
              <a:br>
                <a:rPr sz="1200"/>
              </a:b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конкуренции)</a:t>
              </a: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‏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780000" y="3060720"/>
              <a:ext cx="1744560" cy="10796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808000"/>
              </a:solidFill>
              <a:miter/>
            </a:ln>
            <a:effectLst>
              <a:outerShdw dist="63504" dir="19383909" blurRad="0" rotWithShape="0">
                <a:srgbClr val="808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Неэффективно </a:t>
              </a:r>
              <a:br>
                <a:rPr sz="1200"/>
              </a:b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затрудняющие вход</a:t>
              </a:r>
              <a:br>
                <a:rPr sz="1200"/>
              </a:b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(рынок </a:t>
              </a:r>
              <a:br>
                <a:rPr sz="1200"/>
              </a:b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монополистической</a:t>
              </a:r>
              <a:br>
                <a:rPr sz="1200"/>
              </a:b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конкуренции)</a:t>
              </a: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‏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91320" y="3071880"/>
              <a:ext cx="1508040" cy="10778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808000"/>
              </a:solidFill>
              <a:miter/>
            </a:ln>
            <a:effectLst>
              <a:outerShdw dist="63504" dir="19383909" blurRad="0" rotWithShape="0">
                <a:srgbClr val="808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Эффективно</a:t>
              </a:r>
              <a:br>
                <a:rPr sz="1200"/>
              </a:b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затрудняющие вход</a:t>
              </a:r>
              <a:br>
                <a:rPr sz="1200"/>
              </a:b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(рынок доминрироую-</a:t>
              </a:r>
              <a:br>
                <a:rPr sz="1200"/>
              </a:b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щей фирмы или</a:t>
              </a:r>
              <a:br>
                <a:rPr sz="1200"/>
              </a:b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олигополии)</a:t>
              </a: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‏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485120" y="3057480"/>
              <a:ext cx="1334880" cy="9000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808000"/>
              </a:solidFill>
              <a:miter/>
            </a:ln>
            <a:effectLst>
              <a:outerShdw dist="63504" dir="19383909" blurRad="0" rotWithShape="0">
                <a:srgbClr val="808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Блокирующие вход</a:t>
              </a:r>
              <a:br>
                <a:rPr sz="1200"/>
              </a:b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(рынок</a:t>
              </a:r>
              <a:br>
                <a:rPr sz="1200"/>
              </a:b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абсолютной</a:t>
              </a:r>
              <a:br>
                <a:rPr sz="1200"/>
              </a:b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монополии)</a:t>
              </a: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‏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079640" y="4408560"/>
              <a:ext cx="1508040" cy="90000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63504" dir="19383909" blurRad="0" rotWithShape="0">
                <a:srgbClr val="3399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3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Свободный доступ </a:t>
              </a:r>
              <a:br>
                <a:rPr sz="1300"/>
              </a:br>
              <a:r>
                <a:rPr b="0" lang="ru-RU" sz="13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к ресурсам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06560" y="4408560"/>
              <a:ext cx="1338480" cy="90000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63504" dir="19383909" blurRad="0" rotWithShape="0">
                <a:srgbClr val="3399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3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Свободный доступ</a:t>
              </a:r>
              <a:br>
                <a:rPr sz="1300"/>
              </a:br>
              <a:r>
                <a:rPr b="0" lang="ru-RU" sz="13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к рынку</a:t>
              </a:r>
              <a:br>
                <a:rPr sz="1300"/>
              </a:b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368960" y="4408560"/>
              <a:ext cx="1334880" cy="99216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63504" dir="19383909" blurRad="0" rotWithShape="0">
                <a:srgbClr val="3399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3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Возможность</a:t>
              </a:r>
              <a:br>
                <a:rPr sz="1300"/>
              </a:br>
              <a:r>
                <a:rPr b="0" lang="ru-RU" sz="13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 деятельности </a:t>
              </a:r>
              <a:br>
                <a:rPr sz="1300"/>
              </a:br>
              <a:r>
                <a:rPr b="0" lang="ru-RU" sz="13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в краткосрочном </a:t>
              </a:r>
              <a:br>
                <a:rPr sz="1300"/>
              </a:br>
              <a:r>
                <a:rPr b="0" lang="ru-RU" sz="13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периоде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927760" y="4408560"/>
              <a:ext cx="1333440" cy="99216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63504" dir="19383909" blurRad="0" rotWithShape="0">
                <a:srgbClr val="3399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3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Затрудняющие</a:t>
              </a:r>
              <a:br>
                <a:rPr sz="1300"/>
              </a:br>
              <a:r>
                <a:rPr b="0" lang="ru-RU" sz="13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деятельность </a:t>
              </a:r>
              <a:br>
                <a:rPr sz="1300"/>
              </a:br>
              <a:r>
                <a:rPr b="0" lang="ru-RU" sz="13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в долгосрочном </a:t>
              </a:r>
              <a:br>
                <a:rPr sz="1300"/>
              </a:br>
              <a:r>
                <a:rPr b="0" lang="ru-RU" sz="13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периоде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486560" y="4408560"/>
              <a:ext cx="1333440" cy="900000"/>
            </a:xfrm>
            <a:prstGeom prst="rect">
              <a:avLst/>
            </a:prstGeom>
            <a:blipFill rotWithShape="0">
              <a:blip r:embed="rId10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63504" dir="19383909" blurRad="0" rotWithShape="0">
                <a:srgbClr val="3399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3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Делающие вход</a:t>
              </a:r>
              <a:br>
                <a:rPr sz="1300"/>
              </a:br>
              <a:r>
                <a:rPr b="0" lang="ru-RU" sz="13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 невозможным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189320" y="5759280"/>
              <a:ext cx="1514520" cy="900360"/>
            </a:xfrm>
            <a:prstGeom prst="rect">
              <a:avLst/>
            </a:prstGeom>
            <a:blipFill rotWithShape="0">
              <a:blip r:embed="rId11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63504" dir="19383909" blurRad="0" rotWithShape="0">
                <a:srgbClr val="3399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3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Отсутствие реакции </a:t>
              </a:r>
              <a:br>
                <a:rPr sz="1300"/>
              </a:br>
              <a:r>
                <a:rPr b="0" lang="ru-RU" sz="13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конкурентов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927760" y="5759280"/>
              <a:ext cx="1542960" cy="900360"/>
            </a:xfrm>
            <a:prstGeom prst="rect">
              <a:avLst/>
            </a:prstGeom>
            <a:blipFill rotWithShape="0">
              <a:blip r:embed="rId12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63504" dir="19383909" blurRad="0" rotWithShape="0">
                <a:srgbClr val="3399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3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Требуются </a:t>
              </a:r>
              <a:br>
                <a:rPr sz="1300"/>
              </a:br>
              <a:r>
                <a:rPr b="0" lang="ru-RU" sz="13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дополнительные </a:t>
              </a:r>
              <a:br>
                <a:rPr sz="1300"/>
              </a:br>
              <a:r>
                <a:rPr b="0" lang="ru-RU" sz="13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затраты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C8A28-2F28-4512-B2B4-2F6E3D10AC3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221304"/>
                </a:solidFill>
                <a:latin typeface="Times New Roman"/>
              </a:rPr>
              <a:t>Нестратегические и стратегические барьеры</a:t>
            </a:r>
            <a:endParaRPr b="0" lang="en-US" sz="2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079640" y="1619280"/>
            <a:ext cx="77724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Times New Roman"/>
              </a:rPr>
              <a:t>Нестратегические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- барьеры, создаваемые условиями отрасли, факторами объективного характера и по большей части независимые от деятельности фирмы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Times New Roman"/>
              </a:rPr>
              <a:t>Стратегические барьеры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появляются в результате стратегических действий самих фирм на рынке или в отрасли и, в силу этого, имеют субъективный характер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25850-C195-473E-AAA0-B27DDBF4C6F3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066680" y="298440"/>
            <a:ext cx="7772400" cy="9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221304"/>
                </a:solidFill>
                <a:latin typeface="Times New Roman"/>
              </a:rPr>
              <a:t>Нестратегические и стратегические барьеры</a:t>
            </a:r>
            <a:endParaRPr b="0" lang="en-US" sz="2600" spc="-1" strike="noStrike">
              <a:solidFill>
                <a:srgbClr val="221304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720720" y="1440000"/>
            <a:ext cx="8099280" cy="4859280"/>
            <a:chOff x="720720" y="1440000"/>
            <a:chExt cx="8099280" cy="4859280"/>
          </a:xfrm>
        </p:grpSpPr>
        <p:sp>
          <p:nvSpPr>
            <p:cNvPr id="185" name=""/>
            <p:cNvSpPr/>
            <p:nvPr/>
          </p:nvSpPr>
          <p:spPr>
            <a:xfrm>
              <a:off x="720720" y="1440000"/>
              <a:ext cx="8099280" cy="4859280"/>
            </a:xfrm>
            <a:prstGeom prst="roundRect">
              <a:avLst>
                <a:gd name="adj" fmla="val 3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86" name=""/>
            <p:cNvCxnSpPr>
              <a:stCxn id="187" idx="0"/>
              <a:endCxn id="188" idx="2"/>
            </p:cNvCxnSpPr>
            <p:nvPr/>
          </p:nvCxnSpPr>
          <p:spPr>
            <a:xfrm rot="10800000">
              <a:off x="7601760" y="3648960"/>
              <a:ext cx="672120" cy="4420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463416"/>
              </a:solidFill>
              <a:miter/>
            </a:ln>
          </p:spPr>
        </p:cxnSp>
        <p:cxnSp>
          <p:nvCxnSpPr>
            <p:cNvPr id="189" name=""/>
            <p:cNvCxnSpPr>
              <a:stCxn id="190" idx="0"/>
              <a:endCxn id="188" idx="2"/>
            </p:cNvCxnSpPr>
            <p:nvPr/>
          </p:nvCxnSpPr>
          <p:spPr>
            <a:xfrm flipV="1">
              <a:off x="7000560" y="3649320"/>
              <a:ext cx="602280" cy="4420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463416"/>
              </a:solidFill>
              <a:miter/>
            </a:ln>
          </p:spPr>
        </p:cxnSp>
        <p:cxnSp>
          <p:nvCxnSpPr>
            <p:cNvPr id="191" name=""/>
            <p:cNvCxnSpPr>
              <a:stCxn id="192" idx="0"/>
              <a:endCxn id="193" idx="2"/>
            </p:cNvCxnSpPr>
            <p:nvPr/>
          </p:nvCxnSpPr>
          <p:spPr>
            <a:xfrm rot="10800000">
              <a:off x="5725440" y="4974480"/>
              <a:ext cx="2289960" cy="4420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463416"/>
              </a:solidFill>
              <a:miter/>
            </a:ln>
          </p:spPr>
        </p:cxnSp>
        <p:cxnSp>
          <p:nvCxnSpPr>
            <p:cNvPr id="194" name=""/>
            <p:cNvCxnSpPr>
              <a:stCxn id="195" idx="0"/>
              <a:endCxn id="193" idx="2"/>
            </p:cNvCxnSpPr>
            <p:nvPr/>
          </p:nvCxnSpPr>
          <p:spPr>
            <a:xfrm rot="10800000">
              <a:off x="5725440" y="4974480"/>
              <a:ext cx="927720" cy="4420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463416"/>
              </a:solidFill>
              <a:miter/>
            </a:ln>
          </p:spPr>
        </p:cxnSp>
        <p:cxnSp>
          <p:nvCxnSpPr>
            <p:cNvPr id="196" name=""/>
            <p:cNvCxnSpPr>
              <a:stCxn id="197" idx="0"/>
              <a:endCxn id="193" idx="2"/>
            </p:cNvCxnSpPr>
            <p:nvPr/>
          </p:nvCxnSpPr>
          <p:spPr>
            <a:xfrm flipV="1">
              <a:off x="5219280" y="4974840"/>
              <a:ext cx="506880" cy="442080"/>
            </a:xfrm>
            <a:prstGeom prst="bentConnector3">
              <a:avLst>
                <a:gd name="adj1" fmla="val 49964"/>
              </a:avLst>
            </a:prstGeom>
            <a:ln w="28440">
              <a:solidFill>
                <a:srgbClr val="463416"/>
              </a:solidFill>
              <a:miter/>
            </a:ln>
          </p:spPr>
        </p:cxnSp>
        <p:cxnSp>
          <p:nvCxnSpPr>
            <p:cNvPr id="198" name=""/>
            <p:cNvCxnSpPr>
              <a:stCxn id="199" idx="0"/>
              <a:endCxn id="193" idx="2"/>
            </p:cNvCxnSpPr>
            <p:nvPr/>
          </p:nvCxnSpPr>
          <p:spPr>
            <a:xfrm flipV="1">
              <a:off x="3814560" y="4974840"/>
              <a:ext cx="1911960" cy="4420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463416"/>
              </a:solidFill>
              <a:miter/>
            </a:ln>
          </p:spPr>
        </p:cxnSp>
        <p:cxnSp>
          <p:nvCxnSpPr>
            <p:cNvPr id="200" name=""/>
            <p:cNvCxnSpPr>
              <a:stCxn id="201" idx="0"/>
              <a:endCxn id="202" idx="2"/>
            </p:cNvCxnSpPr>
            <p:nvPr/>
          </p:nvCxnSpPr>
          <p:spPr>
            <a:xfrm rot="10800000">
              <a:off x="1902600" y="4974480"/>
              <a:ext cx="637560" cy="4420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463416"/>
              </a:solidFill>
              <a:miter/>
            </a:ln>
          </p:spPr>
        </p:cxnSp>
        <p:cxnSp>
          <p:nvCxnSpPr>
            <p:cNvPr id="203" name=""/>
            <p:cNvCxnSpPr>
              <a:stCxn id="204" idx="0"/>
              <a:endCxn id="202" idx="2"/>
            </p:cNvCxnSpPr>
            <p:nvPr/>
          </p:nvCxnSpPr>
          <p:spPr>
            <a:xfrm flipV="1">
              <a:off x="1266480" y="4974840"/>
              <a:ext cx="639000" cy="4420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463416"/>
              </a:solidFill>
              <a:miter/>
            </a:ln>
          </p:spPr>
        </p:cxnSp>
        <p:cxnSp>
          <p:nvCxnSpPr>
            <p:cNvPr id="205" name=""/>
            <p:cNvCxnSpPr>
              <a:stCxn id="193" idx="0"/>
              <a:endCxn id="206" idx="2"/>
            </p:cNvCxnSpPr>
            <p:nvPr/>
          </p:nvCxnSpPr>
          <p:spPr>
            <a:xfrm rot="10800000">
              <a:off x="3779280" y="3648960"/>
              <a:ext cx="1946880" cy="442080"/>
            </a:xfrm>
            <a:prstGeom prst="bentConnector3">
              <a:avLst>
                <a:gd name="adj1" fmla="val 49990"/>
              </a:avLst>
            </a:prstGeom>
            <a:ln w="28440">
              <a:solidFill>
                <a:srgbClr val="463416"/>
              </a:solidFill>
              <a:miter/>
            </a:ln>
          </p:spPr>
        </p:cxnSp>
        <p:cxnSp>
          <p:nvCxnSpPr>
            <p:cNvPr id="207" name=""/>
            <p:cNvCxnSpPr>
              <a:stCxn id="202" idx="0"/>
              <a:endCxn id="206" idx="2"/>
            </p:cNvCxnSpPr>
            <p:nvPr/>
          </p:nvCxnSpPr>
          <p:spPr>
            <a:xfrm flipV="1">
              <a:off x="1902960" y="3649320"/>
              <a:ext cx="1877400" cy="4420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463416"/>
              </a:solidFill>
              <a:miter/>
            </a:ln>
          </p:spPr>
        </p:cxnSp>
        <p:cxnSp>
          <p:nvCxnSpPr>
            <p:cNvPr id="208" name=""/>
            <p:cNvCxnSpPr>
              <a:stCxn id="188" idx="0"/>
              <a:endCxn id="209" idx="2"/>
            </p:cNvCxnSpPr>
            <p:nvPr/>
          </p:nvCxnSpPr>
          <p:spPr>
            <a:xfrm rot="10800000">
              <a:off x="5723640" y="2323440"/>
              <a:ext cx="1877400" cy="4420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463416"/>
              </a:solidFill>
              <a:miter/>
            </a:ln>
          </p:spPr>
        </p:cxnSp>
        <p:cxnSp>
          <p:nvCxnSpPr>
            <p:cNvPr id="210" name=""/>
            <p:cNvCxnSpPr>
              <a:stCxn id="206" idx="0"/>
              <a:endCxn id="209" idx="2"/>
            </p:cNvCxnSpPr>
            <p:nvPr/>
          </p:nvCxnSpPr>
          <p:spPr>
            <a:xfrm flipV="1">
              <a:off x="3779640" y="2323800"/>
              <a:ext cx="1945080" cy="4420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463416"/>
              </a:solidFill>
              <a:miter/>
            </a:ln>
          </p:spPr>
        </p:cxnSp>
        <p:sp>
          <p:nvSpPr>
            <p:cNvPr id="209" name=""/>
            <p:cNvSpPr/>
            <p:nvPr/>
          </p:nvSpPr>
          <p:spPr>
            <a:xfrm>
              <a:off x="5178600" y="1440000"/>
              <a:ext cx="1091880" cy="88236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ffcc"/>
              </a:solidFill>
              <a:miter/>
            </a:ln>
            <a:effectLst>
              <a:outerShdw dist="63504" dir="19383909" blurRad="0" rotWithShape="0">
                <a:srgbClr val="00ff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Отраслевые </a:t>
              </a:r>
              <a:br>
                <a:rPr sz="1200"/>
              </a:b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барьеры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060720" y="2765520"/>
              <a:ext cx="1440000" cy="8827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808000"/>
              </a:solidFill>
              <a:miter/>
            </a:ln>
            <a:effectLst>
              <a:outerShdw dist="63504" dir="19383909" blurRad="0" rotWithShape="0">
                <a:srgbClr val="808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Нестратегические</a:t>
              </a:r>
              <a:br>
                <a:rPr sz="1200"/>
              </a:b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(обусловленные </a:t>
              </a:r>
              <a:br>
                <a:rPr sz="1200"/>
              </a:b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объективными </a:t>
              </a:r>
              <a:br>
                <a:rPr sz="1200"/>
              </a:b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факторами)</a:t>
              </a: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‏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020000" y="2765520"/>
              <a:ext cx="1163520" cy="88272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808000"/>
              </a:solidFill>
              <a:miter/>
            </a:ln>
            <a:effectLst>
              <a:outerShdw dist="63504" dir="19383909" blurRad="0" rotWithShape="0">
                <a:srgbClr val="808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Стратегические</a:t>
              </a:r>
              <a:br>
                <a:rPr sz="1200"/>
              </a:b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(создаваемые</a:t>
              </a:r>
              <a:br>
                <a:rPr sz="1200"/>
              </a:b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участниками</a:t>
              </a:r>
              <a:br>
                <a:rPr sz="1200"/>
              </a:b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 рынка)</a:t>
              </a: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‏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357200" y="4091040"/>
              <a:ext cx="1092240" cy="8827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63504" dir="19383909" blurRad="0" rotWithShape="0">
                <a:srgbClr val="3399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Отраслевые </a:t>
              </a:r>
              <a:br>
                <a:rPr sz="1200"/>
              </a:b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особенности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180040" y="4091040"/>
              <a:ext cx="1092240" cy="8827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63504" dir="19383909" blurRad="0" rotWithShape="0">
                <a:srgbClr val="3399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Особенности</a:t>
              </a:r>
              <a:br>
                <a:rPr sz="1200"/>
              </a:b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 рынка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20720" y="5416560"/>
              <a:ext cx="1092240" cy="88272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63504" dir="19383909" blurRad="0" rotWithShape="0">
                <a:srgbClr val="3399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Технология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995480" y="5416560"/>
              <a:ext cx="1092240" cy="88272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63504" dir="19383909" blurRad="0" rotWithShape="0">
                <a:srgbClr val="3399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Уровень  </a:t>
              </a:r>
              <a:br>
                <a:rPr sz="1200"/>
              </a:b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затрат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268800" y="5416560"/>
              <a:ext cx="1092240" cy="88272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63504" dir="19383909" blurRad="0" rotWithShape="0">
                <a:srgbClr val="3399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Объём спроса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500720" y="5416560"/>
              <a:ext cx="1439640" cy="88272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63504" dir="19383909" blurRad="0" rotWithShape="0">
                <a:srgbClr val="3399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Развитость рынка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107040" y="5416560"/>
              <a:ext cx="1092240" cy="882720"/>
            </a:xfrm>
            <a:prstGeom prst="rect">
              <a:avLst/>
            </a:prstGeom>
            <a:blipFill rotWithShape="0">
              <a:blip r:embed="rId10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63504" dir="19383909" blurRad="0" rotWithShape="0">
                <a:srgbClr val="3399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Иностранная</a:t>
              </a:r>
              <a:br>
                <a:rPr sz="1200"/>
              </a:b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конкуренция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380360" y="5416560"/>
              <a:ext cx="1271520" cy="882720"/>
            </a:xfrm>
            <a:prstGeom prst="rect">
              <a:avLst/>
            </a:prstGeom>
            <a:blipFill rotWithShape="0">
              <a:blip r:embed="rId11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63504" dir="19383909" blurRad="0" rotWithShape="0">
                <a:srgbClr val="3399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Тип конкуренции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454800" y="4091040"/>
              <a:ext cx="1090440" cy="882720"/>
            </a:xfrm>
            <a:prstGeom prst="rect">
              <a:avLst/>
            </a:prstGeom>
            <a:blipFill rotWithShape="0">
              <a:blip r:embed="rId12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63504" dir="19383909" blurRad="0" rotWithShape="0">
                <a:srgbClr val="3399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Поведение фирм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728120" y="4091040"/>
              <a:ext cx="1090440" cy="882720"/>
            </a:xfrm>
            <a:prstGeom prst="rect">
              <a:avLst/>
            </a:prstGeom>
            <a:blipFill rotWithShape="0">
              <a:blip r:embed="rId13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63504" dir="19383909" blurRad="0" rotWithShape="0">
                <a:srgbClr val="3399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Соглашения </a:t>
              </a:r>
              <a:br>
                <a:rPr sz="1200"/>
              </a:b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фирм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220EB-203A-4063-A93E-8172E170C551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1219320" y="228600"/>
            <a:ext cx="74674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221304"/>
                </a:solidFill>
                <a:latin typeface="Times New Roman"/>
              </a:rPr>
              <a:t>2. Нестратегические барьер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990720" y="1143000"/>
            <a:ext cx="769608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стратегические, или объективные барьеры можно свести в три группы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технологические (барьеры, основанные на абсолютном преимуществе в уровне затрат и барьеры, основанные на относительном преимуществе в уровне затрат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экономические (ограниченность спроса, барьеры капитальных затрат или объёмы первоначальных инвестиций, состояние инфраструктуры рынка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институциональные (административные барьеры и криминализация экономики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BAF12-D29B-44BC-BB70-49BEDBE4A7E7}" type="slidenum">
              <a:t>13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dur="indefinite" fill="hold">
                      <p:stCondLst>
                        <p:cond delay="indefinite"/>
                      </p:stCondLst>
                      <p:childTnLst>
                        <p:par>
                          <p:cTn id="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 fill="hold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066680" y="356760"/>
            <a:ext cx="7772400" cy="9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221304"/>
                </a:solidFill>
                <a:latin typeface="Times New Roman"/>
              </a:rPr>
              <a:t>Барьеры, основанные на абсолютном преимуществе в уровне затрат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066680" y="1619280"/>
            <a:ext cx="77724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Абсолютные преимущества в отношении издержек означают, что кривая долгосрочных средних издержек фирм, уже действующих в отрасли, на всём своём протяжении лежит выше кривой издержек потенциальных конкурентов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Следовательно цена, необходимая для возмещения инвестиций потенциальных конкурентов будет выше, чем средняя цена в отрасли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C11B6-6D43-4E52-B31B-6B0FB6A58FB0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66680" y="363600"/>
            <a:ext cx="7772400" cy="9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221304"/>
                </a:solidFill>
                <a:latin typeface="Times New Roman"/>
              </a:rPr>
              <a:t>Причины абсолютных преимуществ в уровне затрат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действующих фирм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047600" y="161928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Для новых фирм могут быть недоступны наиболее дешевые и наиболее качественные источники ресурсов, которые используются уже действующими в отрасли фирмами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Также преимущества создаются самим процессом функционирования старых фирм в отрасли; накапливания опыта экономии издержек и оптимального распределения ресурсов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44FAA-C375-47AD-8586-D2FF8258B5E7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221304"/>
                </a:solidFill>
                <a:latin typeface="Times New Roman"/>
              </a:rPr>
              <a:t>Барьеры, основанные на относительном преимуществе в уровне затрат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047600" y="1979640"/>
            <a:ext cx="7772400" cy="34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тносительные преимущества в издержках возникают за счёт производства уже существующими в отрасли фирмами большего объёма выпуска, нежели может освоить потенциальный конкурент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ни заключаются в таких особенностях производственного процесса которые проявляются в положительном эффекте масштаба производства и минимально эффективном объеме выпуска продукци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96F00-DAC3-4849-B168-D7461C9A1550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1371600" y="228600"/>
            <a:ext cx="7264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221304"/>
                </a:solidFill>
                <a:latin typeface="Times New Roman"/>
              </a:rPr>
              <a:t>Минимально эффективный выпуск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990720" y="900000"/>
            <a:ext cx="4408200" cy="43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образная функция </a:t>
            </a:r>
            <a:r>
              <a:rPr b="0" i="1" lang="en-GB" sz="2200" spc="-1" strike="noStrike">
                <a:solidFill>
                  <a:srgbClr val="000000"/>
                </a:solidFill>
                <a:latin typeface="Times New Roman"/>
              </a:rPr>
              <a:t>LRA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334120" y="838080"/>
            <a:ext cx="350496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образная функция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GB" sz="2200" spc="-1" strike="noStrike">
                <a:solidFill>
                  <a:srgbClr val="000000"/>
                </a:solidFill>
                <a:latin typeface="Times New Roman"/>
              </a:rPr>
              <a:t>LRA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1066680" y="1371600"/>
            <a:ext cx="7701120" cy="3412440"/>
            <a:chOff x="1066680" y="1371600"/>
            <a:chExt cx="7701120" cy="3412440"/>
          </a:xfrm>
        </p:grpSpPr>
        <p:sp>
          <p:nvSpPr>
            <p:cNvPr id="223" name=""/>
            <p:cNvSpPr/>
            <p:nvPr/>
          </p:nvSpPr>
          <p:spPr>
            <a:xfrm flipV="1">
              <a:off x="5391000" y="1514160"/>
              <a:ext cx="1800" cy="281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391000" y="4324320"/>
              <a:ext cx="30402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592600" y="2811600"/>
              <a:ext cx="2432160" cy="863640"/>
            </a:xfrm>
            <a:custGeom>
              <a:avLst/>
              <a:gdLst/>
              <a:ahLst/>
              <a:rect l="l" t="t" r="r" b="b"/>
              <a:pathLst>
                <a:path w="1633" h="544">
                  <a:moveTo>
                    <a:pt x="0" y="0"/>
                  </a:moveTo>
                  <a:cubicBezTo>
                    <a:pt x="75" y="102"/>
                    <a:pt x="151" y="204"/>
                    <a:pt x="226" y="272"/>
                  </a:cubicBezTo>
                  <a:cubicBezTo>
                    <a:pt x="301" y="340"/>
                    <a:pt x="370" y="370"/>
                    <a:pt x="453" y="408"/>
                  </a:cubicBezTo>
                  <a:cubicBezTo>
                    <a:pt x="536" y="446"/>
                    <a:pt x="642" y="476"/>
                    <a:pt x="725" y="499"/>
                  </a:cubicBezTo>
                  <a:cubicBezTo>
                    <a:pt x="808" y="522"/>
                    <a:pt x="876" y="544"/>
                    <a:pt x="952" y="544"/>
                  </a:cubicBezTo>
                  <a:cubicBezTo>
                    <a:pt x="1028" y="544"/>
                    <a:pt x="1096" y="529"/>
                    <a:pt x="1179" y="499"/>
                  </a:cubicBezTo>
                  <a:cubicBezTo>
                    <a:pt x="1262" y="469"/>
                    <a:pt x="1376" y="416"/>
                    <a:pt x="1451" y="363"/>
                  </a:cubicBezTo>
                  <a:cubicBezTo>
                    <a:pt x="1526" y="310"/>
                    <a:pt x="1579" y="245"/>
                    <a:pt x="1633" y="181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539040" y="2308320"/>
              <a:ext cx="1012680" cy="647640"/>
            </a:xfrm>
            <a:prstGeom prst="wedgeRoundRectCallout">
              <a:avLst>
                <a:gd name="adj1" fmla="val -4560"/>
                <a:gd name="adj2" fmla="val 152939"/>
                <a:gd name="adj3" fmla="val 16667"/>
              </a:avLst>
            </a:pr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742080" y="2451240"/>
              <a:ext cx="74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Times New Roman"/>
                </a:rPr>
                <a:t>M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917960" y="1371600"/>
              <a:ext cx="40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8362800" y="4251240"/>
              <a:ext cx="405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0" name=""/>
            <p:cNvGrpSpPr/>
            <p:nvPr/>
          </p:nvGrpSpPr>
          <p:grpSpPr>
            <a:xfrm>
              <a:off x="1066680" y="1442880"/>
              <a:ext cx="3781440" cy="3341160"/>
              <a:chOff x="1066680" y="1442880"/>
              <a:chExt cx="3781440" cy="3341160"/>
            </a:xfrm>
          </p:grpSpPr>
          <p:sp>
            <p:nvSpPr>
              <p:cNvPr id="231" name=""/>
              <p:cNvSpPr/>
              <p:nvPr/>
            </p:nvSpPr>
            <p:spPr>
              <a:xfrm flipV="1">
                <a:off x="1471680" y="1514160"/>
                <a:ext cx="1440" cy="2811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1471680" y="4324320"/>
                <a:ext cx="30398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1741320" y="2595600"/>
                <a:ext cx="2567160" cy="1103400"/>
              </a:xfrm>
              <a:custGeom>
                <a:avLst/>
                <a:gdLst/>
                <a:ahLst/>
                <a:rect l="l" t="t" r="r" b="b"/>
                <a:pathLst>
                  <a:path w="1723" h="695">
                    <a:moveTo>
                      <a:pt x="0" y="0"/>
                    </a:moveTo>
                    <a:cubicBezTo>
                      <a:pt x="18" y="75"/>
                      <a:pt x="37" y="151"/>
                      <a:pt x="90" y="227"/>
                    </a:cubicBezTo>
                    <a:cubicBezTo>
                      <a:pt x="143" y="303"/>
                      <a:pt x="226" y="394"/>
                      <a:pt x="317" y="454"/>
                    </a:cubicBezTo>
                    <a:cubicBezTo>
                      <a:pt x="408" y="514"/>
                      <a:pt x="507" y="552"/>
                      <a:pt x="635" y="590"/>
                    </a:cubicBezTo>
                    <a:cubicBezTo>
                      <a:pt x="763" y="628"/>
                      <a:pt x="907" y="665"/>
                      <a:pt x="1088" y="680"/>
                    </a:cubicBezTo>
                    <a:cubicBezTo>
                      <a:pt x="1269" y="695"/>
                      <a:pt x="1610" y="680"/>
                      <a:pt x="1723" y="680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3227400" y="2235240"/>
                <a:ext cx="1012680" cy="647640"/>
              </a:xfrm>
              <a:prstGeom prst="wedgeRoundRectCallout">
                <a:avLst>
                  <a:gd name="adj1" fmla="val -15296"/>
                  <a:gd name="adj2" fmla="val 170833"/>
                  <a:gd name="adj3" fmla="val 16667"/>
                </a:avLst>
              </a:prstGeom>
              <a:solidFill>
                <a:srgbClr val="a1bd6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3430440" y="2308320"/>
                <a:ext cx="676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i="1" lang="en-GB" sz="1800" spc="-1" strike="noStrike">
                    <a:solidFill>
                      <a:srgbClr val="000000"/>
                    </a:solidFill>
                    <a:latin typeface="Times New Roman"/>
                  </a:rPr>
                  <a:t>ME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1066680" y="1442880"/>
                <a:ext cx="405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4443480" y="4324320"/>
                <a:ext cx="404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1133640" y="4324320"/>
                <a:ext cx="268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5121360" y="4251240"/>
              <a:ext cx="268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1074600" y="4748040"/>
            <a:ext cx="774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инимально эффективный выпуск (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MES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) – это такой объем производства, при котором положительный эффект масштаба сменяется на постоянный эффект масштаба (в случае </a:t>
            </a:r>
            <a:r>
              <a:rPr b="0" lang="lv-LV" sz="1800" spc="-1" strike="noStrike">
                <a:solidFill>
                  <a:srgbClr val="000000"/>
                </a:solidFill>
                <a:latin typeface="Times New Roman"/>
              </a:rPr>
              <a:t>L-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бразной функции издержек), или на отрицательный эффект масштаба (в случае </a:t>
            </a:r>
            <a:r>
              <a:rPr b="0" i="1" lang="lv-LV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lv-LV" sz="1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бразной функции издержек)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71007-7ABB-4918-AD20-AEBD1B2B7739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1011240" y="228600"/>
            <a:ext cx="7675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221304"/>
                </a:solidFill>
                <a:latin typeface="Times New Roman"/>
              </a:rPr>
              <a:t>Количество фирм, действующих в отрасли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017720" y="1371600"/>
            <a:ext cx="76690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Количество фирм (</a:t>
            </a:r>
            <a:r>
              <a:rPr b="0" i="1" lang="lv-LV" sz="2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, действующих в отрасли в состоянии долгосрочного равновесия, можно определить отношением объема рыночного спроса при цене, равной минимальному значению долгосрочных средних издержек (</a:t>
            </a:r>
            <a:r>
              <a:rPr b="0" i="1" lang="lv-LV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lv-LV" sz="26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lv-LV" sz="2600" spc="-1" strike="noStrike">
                <a:solidFill>
                  <a:srgbClr val="000000"/>
                </a:solidFill>
                <a:latin typeface="Times New Roman"/>
              </a:rPr>
              <a:t>(P=minLRAC)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, к 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MES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(разумеется, при допущении, что производственная функция и структура издержек у всех фирм в отрасли идентичны)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15960" y="3214800"/>
            <a:ext cx="85280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3581280" y="5486400"/>
                <a:ext cx="3559320" cy="99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P</m:t>
                            </m:r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in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RAC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E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36E27-9F2F-425E-861C-25AD3F291415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914400" y="533520"/>
            <a:ext cx="7974000" cy="60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Если число фирм в отрасли окажется больше </a:t>
            </a:r>
            <a:r>
              <a:rPr b="0" i="1" lang="lv-LV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т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часть из них будет производить продукцию с издержками, превышающими минимальные значения долгосрочных средних издержек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ценовая конкуренция приведет к снижению цены до уровня минимальных средних издержек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часть фирм, оказавшись убыточными, вынуждены будут оставить отрасль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аким образом, положительный эффект масштаба является барьером входа в отрасль, однако для  определения «высоты» барьеров необходима информация о разнице в уровнях средних издержек у крупных и малых фирм в отрасли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DFC15-0D4E-48E8-9729-121FA5A13CCF}" type="slidenum">
              <a:t>19</a:t>
            </a:fld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dur="indefinite" fill="hold">
                      <p:stCondLst>
                        <p:cond delay="indefinite"/>
                      </p:stCondLst>
                      <p:childTnLst>
                        <p:par>
                          <p:cTn id="2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 fill="hold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680" y="233280"/>
            <a:ext cx="777240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1. Отраслевые барьеры и их классификация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ход новых фирм – это существенная характеристика отрасли, влияющая на её развити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ложительная экономическая прибыль в равновесии является стимулом к входу в отрасль новых фирм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6E71A-35C5-4789-92BE-B4ADBA547527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90360" y="399600"/>
            <a:ext cx="784836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Ограниченность спроса (ёмкость рынка)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‏</a:t>
            </a:r>
            <a:endParaRPr b="0" lang="en-US" sz="3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Ёмкость рынка как барьер входа включает в себя следующие факторы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ысокая насыщенность рынка товарами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изкая платёжеспособность населения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личие иностранных конкурентов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11EB0-0C34-4651-A2ED-757630E278DA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079640" y="249120"/>
            <a:ext cx="777240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арьеры капитальных затрат или объёмы первоначальных инвестиций, необходимых для входа на рынок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079640" y="1671480"/>
            <a:ext cx="7772400" cy="44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Объёмы первоначальных инвестиций определяют саму возможность или невозможность организации нового производства в отрасли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Среди капитальных затрат следует выделить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затраты на освоение выпуска данного товара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стоимость нового строительства и технического перевооружения действующих мощностей,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расходы на НИОКР,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подготовка и найм персонала, организация сбытовой сети,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длительность освоения производства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5DE7F-7B3C-4C99-9485-03B1A13E0EA6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/>
          </p:nvPr>
        </p:nvSpPr>
        <p:spPr>
          <a:xfrm>
            <a:off x="1200240" y="720360"/>
            <a:ext cx="76197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Величина капитальных затрат зависит от таких факторов, как степень развитости, организованности и открытости рынков ресурсов: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рынка труда,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рынка инвестиционных товаров,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рынка технологий,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рынка капитала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36D94-A50C-4D9C-9C61-D4EFA853FA8F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066680" y="399960"/>
            <a:ext cx="7772400" cy="6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000" spc="-1" strike="noStrike">
                <a:solidFill>
                  <a:srgbClr val="221304"/>
                </a:solidFill>
                <a:latin typeface="Times New Roman"/>
              </a:rPr>
              <a:t>Состояние инфраструктуры рынка</a:t>
            </a:r>
            <a:endParaRPr b="0" lang="en-US" sz="3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066320" y="1371600"/>
            <a:ext cx="7696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Состояние инфраструктуры рынка определяется: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состоянием транспортной системы,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мощностью складской базы, - складов, необходимых на всем пути продвижения товара от производителя до конечного потребителя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Недостаточность инфраструктурных составляющих следует рассматривать как высокие барьеры входа в отрасль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1F085-15BB-4981-9F84-EB080C420C1B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066680" y="317160"/>
            <a:ext cx="77724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221304"/>
                </a:solidFill>
                <a:latin typeface="Times New Roman"/>
              </a:rPr>
              <a:t>Административные барьеры</a:t>
            </a:r>
            <a:r>
              <a:rPr b="0" lang="ru-RU" sz="26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079280" y="947880"/>
            <a:ext cx="7848360" cy="48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Создаются органами государственной власти различных уровней и включают в себя: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575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лицензирование деятельности предприятий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575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квотирование производства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575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усложнённый порядок регистрации новых предприятий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575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сертификацию продукции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575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процедуру отвода земельных участков под промышленное строительство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575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наличие неформальных отношений между органами государственной власти и предприятиями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575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экологические нормы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575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ограничения на использование земель, лесных угодий, недр, запасов полезных ископаемых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9AE15-7760-4D45-AE44-2E8358CD5036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Криминализация экономики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066680" y="1523880"/>
            <a:ext cx="7772400" cy="436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Если для ведения дела предпринимателю требуется “крыша”, некое неофициальное прикрытие со стороны криминальных структур, то расходы на поддержание подобного рода отношений составляют значительные барьеры входа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813D9-1019-40F1-A920-B9A6E47167D8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90720" y="500040"/>
            <a:ext cx="77724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3. Стратегические барьеры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047600" y="1440000"/>
            <a:ext cx="7772400" cy="48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тратегические барьеры сознательно создаются фирмами, действующими в отрасли, что является инструментом их стратегического поведения, препятствующим новым участникам входу в отрасль. К ним можно отнести такие мероприятия фирм, как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есурсосберегающие инновации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олгосрочные контракты с поставщиками ресурсов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лучение лицензий и патентов на определенный вид деятельности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охранение незагруженных мощностей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величение затрат на рекламу и НИОКР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здержки по созданию имиджа и фирмы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69163-11E7-4C1A-9D89-3D35932C5A19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/>
          </p:nvPr>
        </p:nvSpPr>
        <p:spPr>
          <a:xfrm>
            <a:off x="1066680" y="1371240"/>
            <a:ext cx="7772400" cy="459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тратегические барьеры входа, проявляющиеся в виде стратегического поведения, можно разделить на ценовые и неценовые (дополнительные инвестиции в оборудование, дифференциация продукта, долгосрочные контракты, вертикальная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нтеграция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32913-2FFA-4BDF-B304-EB7F7B25A202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079640" y="304920"/>
            <a:ext cx="783576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Ценообразование, ограничивающее вход</a:t>
            </a:r>
            <a:endParaRPr b="0" lang="en-US" sz="2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066680" y="1079280"/>
            <a:ext cx="777240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Фирмы, уже действующие в отрасли, зная отраслевой спрос и отраслевое предложение могут назначить такую цену, которая ограничит появление новых конкурентов.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Такие барьеры получили название “ценообразование, ограничивающее вход” и сводятся к установлению действующими фирмами цен ниже уровня, обеспечивающего им  максимизацию прибыли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Фирмам, которые проводят такую политику, приходится делать выбор между сокращением своей краткосрочной прибыли в результате снижения цен и потерей долгосрочной прибыли в результате входа на рынок новых участников.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6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30A26-EB4F-4EE7-A00A-1C0A80EFBEF2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066680" y="356760"/>
            <a:ext cx="7772400" cy="9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еценовые стратегии создания барьеров в отрасли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047600" y="1465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Если П</a:t>
            </a:r>
            <a:r>
              <a:rPr b="0" lang="ru-RU" sz="23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 – уровень монопольной прибыли старой фирмы, действующей в отрасли в условиях отсутствия потенциального конкурента, А – расходы на проведение неценовых стратегий по созданию барьеров, П</a:t>
            </a:r>
            <a:r>
              <a:rPr b="0" lang="ru-RU" sz="23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 – ожидаемая прибыль новой фирмы в случае её проникновения на рынок, то старая фирма будет делать вложения по созданию неценовых барьеров только тогда, когда П</a:t>
            </a:r>
            <a:r>
              <a:rPr b="0" lang="ru-RU" sz="23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 – А &gt; П</a:t>
            </a:r>
            <a:r>
              <a:rPr b="0" lang="ru-RU" sz="23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 – П</a:t>
            </a:r>
            <a:r>
              <a:rPr b="0" lang="ru-RU" sz="23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, то есть выгода барьеров превышает угрозу снижения прибыли в результате конкуренции.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B3058-DE68-4596-AAA6-AF03E40166FC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79640" y="36036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000" spc="-1" strike="noStrike">
                <a:solidFill>
                  <a:srgbClr val="221304"/>
                </a:solidFill>
                <a:latin typeface="Times New Roman"/>
              </a:rPr>
              <a:t>Значение входа новых фирм в отрасль</a:t>
            </a:r>
            <a:endParaRPr b="0" lang="en-US" sz="3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79640" y="119808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сле появления новых фирм в отрасли уровни прибыльности и цен возвращаются к их долгосрочному конкурентному значению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ход новых фирм рассматривается как фактор технологических изменений в отрасли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аким образом, наличие отраслевых барьеров определяет динамику экономического роста и благосостояния населени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нижение барьеров или их предотвращение становится элементом конкурентной политики государств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CF2D3-A830-477A-AA27-B8E0FE23C191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Дополнительное инвестирование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066680" y="13712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ополнительные инвестиции в оборудование для новой фирмы можно рассматривать как необратимые издержки. Фирма вынуждена их оплачивать, даже не выпуская продукт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Если действующая фирма обладает избыточными производственными мощностями, по сравнению с величиной спроса, то при угрозе появления нового конкурента, она может увеличить объем выпуска до уровня, ограничивающего   вход. При этом новая фирма потеряет величину необратимых издержек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CF0BC-0F43-4BB7-B110-AEE47A0FB24A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066680" y="399960"/>
            <a:ext cx="777240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Дифференциация продукта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066680" y="13712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ействующие на рынке фирмы для предотвращения входа новых фирм могут  наполнить рынок значительным количеством товаров-заменителей, чтобы потенциальным конкурентам было труднее в этом изобилии найти свою нишу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свою очередь новая фирма будет вынуждена увеличивать свои расходы на рекламу, тем самым минимальный объем выпуска в отрасли, необходимый для организации эффективного производства возрастает, а ожидаемая прибыль понижаетс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61609-50D0-44EB-B6F0-9491DAAFE3EB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1143000" y="228600"/>
            <a:ext cx="7543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Долгосрочные контракт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143000" y="1600200"/>
            <a:ext cx="75438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олгосрочные контракты с третьими лицами, в частности, с поставщиками ресурсов, потребителями товаров, а также с работниками отрасли (например, с отраслевым профсоюзом) ограничивают возможности потенциальных конкурентов найти поставщиков ресурсов, рынки сбыта и т.д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820CF-4CBA-439B-83D9-C0796FF504A0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66680" y="399960"/>
            <a:ext cx="777240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Вертикальная интеграция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047600" y="143964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ертикальная интеграция представляет собой процесс объединения в рамках одной фирмы более одной стадии производства конечной продукции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ертикально интегрированная фирма, в отличие от неинтегрированной фирмы, избавлена от необходимости заключать контракты с поставщиками и покупателями – представителями смежных производственных стадий. Тем самым, у вертикально интегрированной фирмы снижаются трансакционные издержки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ля неинтегрированных производителей такие контракты, в которых кроме цен оговариваются вопросы особых условий поставки, особых условий реализации продукции и другие условия,  выступают как вертикальные ограничения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56123-92E7-4C96-A94C-B2675EF214CD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066680" y="355680"/>
            <a:ext cx="7772400" cy="9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221304"/>
                </a:solidFill>
                <a:latin typeface="Times New Roman"/>
              </a:rPr>
              <a:t>Проблемы, связанные со стратегическими барьерами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079640" y="14396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Реализация стратегических барьеров на практике связана с рядом проблем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Так, при проведении политики ценообразования, ограничивающего вход новых участников на рынок, действующие на рынке фирмы должны правильно оценить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издержки производства в отношении действующих фирм,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издержки производства в отношении потенциальных конкурентов,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условия спроса и, прежде всего, ценовую эластичность  спроса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8AA33-7C27-425E-8B49-BE3F7E36CF62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066680" y="1731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000" spc="-1" strike="noStrike">
                <a:solidFill>
                  <a:srgbClr val="221304"/>
                </a:solidFill>
                <a:latin typeface="Times New Roman"/>
              </a:rPr>
              <a:t>Необходимость поддержания в отрасли определённого объема выпуска</a:t>
            </a:r>
            <a:endParaRPr b="0" lang="en-US" sz="3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047600" y="1439640"/>
            <a:ext cx="7772400" cy="46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Ценообразование, ограничивающее вход в отрасль будет эффективным только в случае поддержания в отрасли определённого объема выпуска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В условиях невозможности согласованной деятельности маловероятно обеспечить равенство отраслевого выпуска уровню, ограничивающему вход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фиксирование рыночных долей участников отрасли затруднительно, из-за различий в уровнях издержек производства, и изменениями спроса с течением времени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6DF6E-ABA2-4BFA-AA09-7F7787E58FA7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Непредсказуемость конкуренции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066680" y="1619280"/>
            <a:ext cx="77724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оявление в отрасли новых участников может повлечь сокращение объемов выпуска уже действующих фирм, особенно если в отрасль входит не новичок в предпринимательстве, а крупный диверсифицированный концерн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В таком случае исход конкуренции, вплоть до ценовых войн – непредсказуем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C9854-A763-4D1E-910A-F2B4CACCC7B6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Ускоряющиеся технологические инновации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35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скоряющиеся технологические инновации позволяют новым фирмам снизить издержки производства. Данный фактор не позволяет действующим фирмам адекватно оценить ценовые ориентиры, то есть возможна переоценка уровня издержек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CEBCE-F6EB-4381-9951-360DD599A184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079640" y="36036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«Поведение безбилетника»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047600" y="1800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скольку успешная реализация стратегических барьеров оказывает положительный эффект на всех участников отрасли, вне зависимости от того чьими усилиями и средствами она была обеспечена, фирмы не свободны от искушения воспользоваться результатами “чужих” барьеров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35C3A-00DC-4881-A7A4-37639D811B09}" type="slidenum">
              <a:t>38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9996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Барьеры входа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47600" y="12906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Барьеры входа - все факторы объективного или субъективного характера, которые препятствуют новым фирмам организовать рентабельное производство в отрасл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личие формальной возможности организовать производство в большинстве отраслей еще не означает отсутствие барьеров вход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950E5-FC77-4D19-A06B-FB1904099353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79640" y="318960"/>
            <a:ext cx="77724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Причины барьеров входа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47600" y="117324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особенности отрасли или рынка (технология производства, стартовые и текущие затраты, объём спроса, зрелость и развитость рынка, тип конкуренции)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поведение хозяйствующих субъектов (антиконкурентные действий и соглашения)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действия органов государственной власти (лицензирование, налогообложение, фиксация цен,  государственная помощь отдельным субъектам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другие причины (сужение географических границ рынка вследствие роста транспортных расходов, возрастание международной конкуренции в условиях ограниченного спроса)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ADABF-632B-4388-9BB7-DE978944DCAE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99960"/>
            <a:ext cx="777240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Барьеры выхода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Барьеры выхода  объективные или субъективные факторы, которые препятствуют фирме уйти из отрасли без существенных потерь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Барьеры выхода связаны с, так называемыми, необратимыми издержками, которые делают невозможным уход фирмы из отрасли без потерь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F4D92-CE7C-4C79-84B5-98F8FDA26A47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60360" y="304920"/>
            <a:ext cx="7199280" cy="14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221304"/>
                </a:solidFill>
                <a:latin typeface="Times New Roman"/>
              </a:rPr>
              <a:t>Барьеры выхода связаны со структурными характеристиками того или иного вида хозяйственной деятельности, такими как:</a:t>
            </a:r>
            <a:endParaRPr b="0" lang="en-US" sz="2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66680" y="236196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ликвидность активов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возможность диверсификации производства с использованием имеющегося оборудования, технологий, источников сырья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замкнутость и связанность технологических цепочек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66306-0A3F-4E0B-8928-D422A5B783AD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221304"/>
                </a:solidFill>
                <a:latin typeface="Times New Roman"/>
              </a:rPr>
              <a:t>Барьеры выхода - составная часть барьеров входа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Барьеры выхода увеличивают риск хозяйствования в отрасли, а значит создают дополнительные барьеры входа в отрасль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Если фирма знает, что уйти из отрасли без значительных потерь невозможно, то это может оказать влияние на её решение входа в отрасль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Таким образом, барьеры выхода следует рассматривать как составную часть отраслевых барьеров, препятствующих входу в отрасль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F15BB-047E-4548-8456-DE84E6DF4CBE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680" y="298080"/>
            <a:ext cx="777240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Барьеры входа и выхода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076400" y="1571760"/>
            <a:ext cx="7466040" cy="4521240"/>
            <a:chOff x="1076400" y="1571760"/>
            <a:chExt cx="7466040" cy="4521240"/>
          </a:xfrm>
        </p:grpSpPr>
        <p:sp>
          <p:nvSpPr>
            <p:cNvPr id="141" name=""/>
            <p:cNvSpPr/>
            <p:nvPr/>
          </p:nvSpPr>
          <p:spPr>
            <a:xfrm>
              <a:off x="1076400" y="1571760"/>
              <a:ext cx="7466040" cy="4521240"/>
            </a:xfrm>
            <a:prstGeom prst="roundRect">
              <a:avLst>
                <a:gd name="adj" fmla="val 3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2" name=""/>
            <p:cNvCxnSpPr>
              <a:stCxn id="143" idx="0"/>
              <a:endCxn id="144" idx="2"/>
            </p:cNvCxnSpPr>
            <p:nvPr/>
          </p:nvCxnSpPr>
          <p:spPr>
            <a:xfrm flipV="1">
              <a:off x="6819480" y="4858920"/>
              <a:ext cx="2520" cy="4118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463416"/>
              </a:solidFill>
              <a:miter/>
            </a:ln>
          </p:spPr>
        </p:cxnSp>
        <p:cxnSp>
          <p:nvCxnSpPr>
            <p:cNvPr id="145" name=""/>
            <p:cNvCxnSpPr>
              <a:stCxn id="146" idx="0"/>
              <a:endCxn id="147" idx="2"/>
            </p:cNvCxnSpPr>
            <p:nvPr/>
          </p:nvCxnSpPr>
          <p:spPr>
            <a:xfrm flipV="1">
              <a:off x="2798280" y="4858920"/>
              <a:ext cx="2520" cy="4118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463416"/>
              </a:solidFill>
              <a:miter/>
            </a:ln>
          </p:spPr>
        </p:cxnSp>
        <p:cxnSp>
          <p:nvCxnSpPr>
            <p:cNvPr id="148" name=""/>
            <p:cNvCxnSpPr>
              <a:stCxn id="144" idx="0"/>
              <a:endCxn id="149" idx="2"/>
            </p:cNvCxnSpPr>
            <p:nvPr/>
          </p:nvCxnSpPr>
          <p:spPr>
            <a:xfrm flipV="1">
              <a:off x="6819480" y="3625560"/>
              <a:ext cx="2520" cy="4118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463416"/>
              </a:solidFill>
              <a:miter/>
            </a:ln>
          </p:spPr>
        </p:cxnSp>
        <p:cxnSp>
          <p:nvCxnSpPr>
            <p:cNvPr id="150" name=""/>
            <p:cNvCxnSpPr>
              <a:stCxn id="147" idx="0"/>
              <a:endCxn id="151" idx="2"/>
            </p:cNvCxnSpPr>
            <p:nvPr/>
          </p:nvCxnSpPr>
          <p:spPr>
            <a:xfrm flipV="1">
              <a:off x="2798280" y="3625560"/>
              <a:ext cx="2520" cy="4118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463416"/>
              </a:solidFill>
              <a:miter/>
            </a:ln>
          </p:spPr>
        </p:cxnSp>
        <p:cxnSp>
          <p:nvCxnSpPr>
            <p:cNvPr id="152" name=""/>
            <p:cNvCxnSpPr>
              <a:stCxn id="149" idx="0"/>
              <a:endCxn id="153" idx="2"/>
            </p:cNvCxnSpPr>
            <p:nvPr/>
          </p:nvCxnSpPr>
          <p:spPr>
            <a:xfrm rot="10800000">
              <a:off x="4809240" y="2393280"/>
              <a:ext cx="2010600" cy="4118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463416"/>
              </a:solidFill>
              <a:miter/>
            </a:ln>
          </p:spPr>
        </p:cxnSp>
        <p:cxnSp>
          <p:nvCxnSpPr>
            <p:cNvPr id="154" name=""/>
            <p:cNvCxnSpPr>
              <a:stCxn id="151" idx="0"/>
              <a:endCxn id="153" idx="2"/>
            </p:cNvCxnSpPr>
            <p:nvPr/>
          </p:nvCxnSpPr>
          <p:spPr>
            <a:xfrm flipV="1">
              <a:off x="2798280" y="2393640"/>
              <a:ext cx="2012040" cy="4118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463416"/>
              </a:solidFill>
              <a:miter/>
            </a:ln>
          </p:spPr>
        </p:cxnSp>
        <p:sp>
          <p:nvSpPr>
            <p:cNvPr id="153" name=""/>
            <p:cNvSpPr/>
            <p:nvPr/>
          </p:nvSpPr>
          <p:spPr>
            <a:xfrm>
              <a:off x="3086280" y="1571760"/>
              <a:ext cx="3446280" cy="8222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ffcc"/>
              </a:solidFill>
              <a:miter/>
            </a:ln>
            <a:effectLst>
              <a:outerShdw dist="63504" dir="19383909" blurRad="0" rotWithShape="0">
                <a:srgbClr val="00ff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Отраслевые барьеры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076400" y="2805120"/>
              <a:ext cx="3446280" cy="8222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808000"/>
              </a:solidFill>
              <a:miter/>
            </a:ln>
            <a:effectLst>
              <a:outerShdw dist="63504" dir="19383909" blurRad="0" rotWithShape="0">
                <a:srgbClr val="808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Препятствуют входу </a:t>
              </a:r>
              <a:br>
                <a:rPr sz="1800"/>
              </a:b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на рынок новых фирм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095800" y="2805120"/>
              <a:ext cx="3446640" cy="8222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808000"/>
              </a:solidFill>
              <a:miter/>
            </a:ln>
            <a:effectLst>
              <a:outerShdw dist="63504" dir="19383909" blurRad="0" rotWithShape="0">
                <a:srgbClr val="808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Препятствуют выходу </a:t>
              </a:r>
              <a:br>
                <a:rPr sz="1800"/>
              </a:b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из отрасли без потерь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076400" y="4037040"/>
              <a:ext cx="3446280" cy="8222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63504" dir="19383909" blurRad="0" rotWithShape="0">
                <a:srgbClr val="3399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Снижают угрозы </a:t>
              </a:r>
              <a:br>
                <a:rPr sz="1800"/>
              </a:b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потенциальной конкуренции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095800" y="4037040"/>
              <a:ext cx="3446640" cy="8222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63504" dir="19383909" blurRad="0" rotWithShape="0">
                <a:srgbClr val="3399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Ограничивают количество </a:t>
              </a:r>
              <a:br>
                <a:rPr sz="1800"/>
              </a:b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фирм  в отрасли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076400" y="5270400"/>
              <a:ext cx="3446280" cy="82260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63504" dir="19383909" blurRad="0" rotWithShape="0">
                <a:srgbClr val="3399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Рост рыночной власти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095800" y="5270400"/>
              <a:ext cx="3446640" cy="81936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63504" dir="19383909" blurRad="0" rotWithShape="0">
                <a:srgbClr val="3399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Рост рыночной власти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1871C-4D87-43B3-AC58-B23AC84F4F74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cturer</cp:lastModifiedBy>
  <cp:revision>0</cp:revision>
  <dc:subject/>
  <dc:title>Анализ отраслевых барьеров в рыночной экономике</dc:title>
</cp:coreProperties>
</file>