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82EAE-EE7F-4DD5-A7F7-98AF0416F6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534-CF42-4A3A-8567-8F217230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39AD-B0DE-4C34-9B39-9F9B041F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C5F-8651-447F-81C1-56707A04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AA1-47EB-48FB-9E1F-16498BDC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8E71-D267-44B3-B166-E77F04D8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5B59-897B-48B9-96EA-C89B1766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5998-7FA9-451B-AF71-CED10646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0C05-1340-447B-88D3-330A6871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E667-9CC2-4861-B7B1-7B9E53AA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17EA-82B4-4D79-ADD5-FE2FE466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55F4-98CA-4999-8894-0D148678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C7E6-34FE-497F-8D03-18071FA9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B77A-F4C6-409E-B471-55FC4EBC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39D7-D35C-4DC2-98A8-9445E4CF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71F8-E901-434F-A9AA-4DF6A99B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7F9C-9FA0-44F7-A2BB-742E9989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BFA7-AC09-4897-ACCA-3D74CB2B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0BB-AB6C-408D-A0E2-8254679D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63A-4ADF-45CC-ACD1-24130970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CE6-4B23-419A-ADFD-6A959095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A65-3A09-4F19-8260-5DDF3390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D325-7073-4A66-B2C7-5876F125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D75-0EA3-4BD3-9550-EC92CBCB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D5E-0DAB-4B41-B072-51BB4E55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CA0738-4FE0-4BA0-A706-9698A873280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9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7C2F941-8202-4630-B6C0-DC5EC8211DF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8.png"/><Relationship Id="rId11" Type="http://schemas.openxmlformats.org/officeDocument/2006/relationships/image" Target="../media/image20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нализ отраслевых барьеров в рыночной экономике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Отраслевые барьеры и их классифик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Не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роблемы, связанные со стратегическими барье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407B-619C-4EE2-9E8B-F4346B706AE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29016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Классификация барьеров в зависимости от  влияния на рыночную структуру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079640" y="1619280"/>
            <a:ext cx="7740360" cy="5041800"/>
            <a:chOff x="1079640" y="1619280"/>
            <a:chExt cx="7740360" cy="5041800"/>
          </a:xfrm>
        </p:grpSpPr>
        <p:sp>
          <p:nvSpPr>
            <p:cNvPr id="157" name=""/>
            <p:cNvSpPr/>
            <p:nvPr/>
          </p:nvSpPr>
          <p:spPr>
            <a:xfrm>
              <a:off x="1252440" y="1706400"/>
              <a:ext cx="7567560" cy="495468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9" idx="0"/>
              <a:endCxn id="160" idx="2"/>
            </p:cNvCxnSpPr>
            <p:nvPr/>
          </p:nvCxnSpPr>
          <p:spPr>
            <a:xfrm rot="10800000">
              <a:off x="6593760" y="5400720"/>
              <a:ext cx="1054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1" name=""/>
            <p:cNvCxnSpPr>
              <a:stCxn id="162" idx="0"/>
              <a:endCxn id="163" idx="2"/>
            </p:cNvCxnSpPr>
            <p:nvPr/>
          </p:nvCxnSpPr>
          <p:spPr>
            <a:xfrm flipV="1">
              <a:off x="4946400" y="5400720"/>
              <a:ext cx="910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4" name=""/>
            <p:cNvCxnSpPr>
              <a:stCxn id="165" idx="0"/>
              <a:endCxn id="166" idx="2"/>
            </p:cNvCxnSpPr>
            <p:nvPr/>
          </p:nvCxnSpPr>
          <p:spPr>
            <a:xfrm rot="10800000">
              <a:off x="8151120" y="3956760"/>
              <a:ext cx="2160" cy="45000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7" name=""/>
            <p:cNvCxnSpPr>
              <a:stCxn id="160" idx="0"/>
              <a:endCxn id="168" idx="2"/>
            </p:cNvCxnSpPr>
            <p:nvPr/>
          </p:nvCxnSpPr>
          <p:spPr>
            <a:xfrm rot="10800000">
              <a:off x="6544440" y="4147560"/>
              <a:ext cx="50040" cy="259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9" name=""/>
            <p:cNvCxnSpPr>
              <a:stCxn id="163" idx="0"/>
              <a:endCxn id="170" idx="2"/>
            </p:cNvCxnSpPr>
            <p:nvPr/>
          </p:nvCxnSpPr>
          <p:spPr>
            <a:xfrm rot="10800000">
              <a:off x="4652280" y="4139640"/>
              <a:ext cx="384840" cy="26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1" name=""/>
            <p:cNvCxnSpPr>
              <a:stCxn id="172" idx="0"/>
              <a:endCxn id="173" idx="2"/>
            </p:cNvCxnSpPr>
            <p:nvPr/>
          </p:nvCxnSpPr>
          <p:spPr>
            <a:xfrm rot="10800000">
              <a:off x="2567880" y="3956760"/>
              <a:ext cx="907200" cy="450000"/>
            </a:xfrm>
            <a:prstGeom prst="bentConnector3">
              <a:avLst>
                <a:gd name="adj1" fmla="val 4998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4" name=""/>
            <p:cNvCxnSpPr>
              <a:stCxn id="175" idx="0"/>
              <a:endCxn id="173" idx="2"/>
            </p:cNvCxnSpPr>
            <p:nvPr/>
          </p:nvCxnSpPr>
          <p:spPr>
            <a:xfrm flipV="1">
              <a:off x="1833480" y="3957120"/>
              <a:ext cx="735840" cy="45000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6" name=""/>
            <p:cNvCxnSpPr>
              <a:stCxn id="166" idx="0"/>
              <a:endCxn id="177" idx="2"/>
            </p:cNvCxnSpPr>
            <p:nvPr/>
          </p:nvCxnSpPr>
          <p:spPr>
            <a:xfrm rot="10800000">
              <a:off x="5425200" y="2518560"/>
              <a:ext cx="2726640" cy="53748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8" name=""/>
            <p:cNvCxnSpPr>
              <a:stCxn id="168" idx="0"/>
              <a:endCxn id="177" idx="2"/>
            </p:cNvCxnSpPr>
            <p:nvPr/>
          </p:nvCxnSpPr>
          <p:spPr>
            <a:xfrm rot="10800000">
              <a:off x="5425200" y="2518560"/>
              <a:ext cx="1119960" cy="551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9" name=""/>
            <p:cNvCxnSpPr>
              <a:stCxn id="170" idx="0"/>
              <a:endCxn id="177" idx="2"/>
            </p:cNvCxnSpPr>
            <p:nvPr/>
          </p:nvCxnSpPr>
          <p:spPr>
            <a:xfrm flipV="1">
              <a:off x="4653000" y="2518920"/>
              <a:ext cx="775440" cy="54072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0" name=""/>
            <p:cNvCxnSpPr>
              <a:stCxn id="173" idx="0"/>
              <a:endCxn id="177" idx="2"/>
            </p:cNvCxnSpPr>
            <p:nvPr/>
          </p:nvCxnSpPr>
          <p:spPr>
            <a:xfrm flipV="1">
              <a:off x="2568240" y="2518920"/>
              <a:ext cx="2858040" cy="540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77" name=""/>
            <p:cNvSpPr/>
            <p:nvPr/>
          </p:nvSpPr>
          <p:spPr>
            <a:xfrm>
              <a:off x="4757760" y="1619280"/>
              <a:ext cx="1335240" cy="900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иды отраслевых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барьер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70120" y="3060720"/>
              <a:ext cx="1596960" cy="898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 препятствующи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ходу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совершен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80000" y="3060720"/>
              <a:ext cx="1744560" cy="1079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эффективно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стическ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3071880"/>
              <a:ext cx="150804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Эффективно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доминрироую-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щей фирмы ил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лиг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85120" y="3057480"/>
              <a:ext cx="1334880" cy="900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локиру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абсолют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79640" y="4408560"/>
              <a:ext cx="1508040" cy="900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есурса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06560" y="4408560"/>
              <a:ext cx="1338480" cy="900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ынку</a:t>
              </a:r>
              <a:br>
                <a:rPr sz="1300"/>
              </a:b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68960" y="4408560"/>
              <a:ext cx="1334880" cy="992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озможность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деятельност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кратк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27760" y="4408560"/>
              <a:ext cx="1333440" cy="9921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ятельность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долг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86560" y="4408560"/>
              <a:ext cx="1333440" cy="900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лающие вход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невозможны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89320" y="5759280"/>
              <a:ext cx="1514520" cy="9003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сутствие реакци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т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27760" y="5759280"/>
              <a:ext cx="1542960" cy="9003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ребуются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ополнительные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ы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41CC-90D5-4886-B552-E279BDAE78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640" y="161928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Нестратегическ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барьеры, создаваемые условиями отрасли, факторами объективного характера и по большей части независимые от деятельности фирмы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Стратегические барьер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появляются в результате стратегических действий самих фирм на рынке или в отрасли и, в силу этого, имеют субъективный характер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C9EF-AFCC-48D3-B477-4C0E36EEC3C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29844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20720" y="1440000"/>
            <a:ext cx="8099280" cy="4859280"/>
            <a:chOff x="720720" y="1440000"/>
            <a:chExt cx="8099280" cy="4859280"/>
          </a:xfrm>
        </p:grpSpPr>
        <p:sp>
          <p:nvSpPr>
            <p:cNvPr id="185" name=""/>
            <p:cNvSpPr/>
            <p:nvPr/>
          </p:nvSpPr>
          <p:spPr>
            <a:xfrm>
              <a:off x="720720" y="1440000"/>
              <a:ext cx="8099280" cy="485928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6" name=""/>
            <p:cNvCxnSpPr>
              <a:stCxn id="187" idx="0"/>
              <a:endCxn id="188" idx="2"/>
            </p:cNvCxnSpPr>
            <p:nvPr/>
          </p:nvCxnSpPr>
          <p:spPr>
            <a:xfrm rot="10800000">
              <a:off x="7601760" y="3648960"/>
              <a:ext cx="6721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9" name=""/>
            <p:cNvCxnSpPr>
              <a:stCxn id="190" idx="0"/>
              <a:endCxn id="188" idx="2"/>
            </p:cNvCxnSpPr>
            <p:nvPr/>
          </p:nvCxnSpPr>
          <p:spPr>
            <a:xfrm flipV="1">
              <a:off x="7000560" y="3649320"/>
              <a:ext cx="6022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1" name=""/>
            <p:cNvCxnSpPr>
              <a:stCxn id="192" idx="0"/>
              <a:endCxn id="193" idx="2"/>
            </p:cNvCxnSpPr>
            <p:nvPr/>
          </p:nvCxnSpPr>
          <p:spPr>
            <a:xfrm rot="10800000">
              <a:off x="5725440" y="4974480"/>
              <a:ext cx="2289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4" name=""/>
            <p:cNvCxnSpPr>
              <a:stCxn id="195" idx="0"/>
              <a:endCxn id="193" idx="2"/>
            </p:cNvCxnSpPr>
            <p:nvPr/>
          </p:nvCxnSpPr>
          <p:spPr>
            <a:xfrm rot="10800000">
              <a:off x="5725440" y="4974480"/>
              <a:ext cx="9277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6" name=""/>
            <p:cNvCxnSpPr>
              <a:stCxn id="197" idx="0"/>
              <a:endCxn id="193" idx="2"/>
            </p:cNvCxnSpPr>
            <p:nvPr/>
          </p:nvCxnSpPr>
          <p:spPr>
            <a:xfrm flipV="1">
              <a:off x="5219280" y="4974840"/>
              <a:ext cx="506880" cy="442080"/>
            </a:xfrm>
            <a:prstGeom prst="bentConnector3">
              <a:avLst>
                <a:gd name="adj1" fmla="val 49964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8" name=""/>
            <p:cNvCxnSpPr>
              <a:stCxn id="199" idx="0"/>
              <a:endCxn id="193" idx="2"/>
            </p:cNvCxnSpPr>
            <p:nvPr/>
          </p:nvCxnSpPr>
          <p:spPr>
            <a:xfrm flipV="1">
              <a:off x="3814560" y="4974840"/>
              <a:ext cx="1911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0" name=""/>
            <p:cNvCxnSpPr>
              <a:stCxn id="201" idx="0"/>
              <a:endCxn id="202" idx="2"/>
            </p:cNvCxnSpPr>
            <p:nvPr/>
          </p:nvCxnSpPr>
          <p:spPr>
            <a:xfrm rot="10800000">
              <a:off x="1902600" y="4974480"/>
              <a:ext cx="6375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3" name=""/>
            <p:cNvCxnSpPr>
              <a:stCxn id="204" idx="0"/>
              <a:endCxn id="202" idx="2"/>
            </p:cNvCxnSpPr>
            <p:nvPr/>
          </p:nvCxnSpPr>
          <p:spPr>
            <a:xfrm flipV="1">
              <a:off x="1266480" y="4974840"/>
              <a:ext cx="6390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5" name=""/>
            <p:cNvCxnSpPr>
              <a:stCxn id="193" idx="0"/>
              <a:endCxn id="206" idx="2"/>
            </p:cNvCxnSpPr>
            <p:nvPr/>
          </p:nvCxnSpPr>
          <p:spPr>
            <a:xfrm rot="10800000">
              <a:off x="3779280" y="3648960"/>
              <a:ext cx="1946880" cy="442080"/>
            </a:xfrm>
            <a:prstGeom prst="bentConnector3">
              <a:avLst>
                <a:gd name="adj1" fmla="val 4999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7" name=""/>
            <p:cNvCxnSpPr>
              <a:stCxn id="202" idx="0"/>
              <a:endCxn id="206" idx="2"/>
            </p:cNvCxnSpPr>
            <p:nvPr/>
          </p:nvCxnSpPr>
          <p:spPr>
            <a:xfrm flipV="1">
              <a:off x="1902960" y="364932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8" name=""/>
            <p:cNvCxnSpPr>
              <a:stCxn id="188" idx="0"/>
              <a:endCxn id="209" idx="2"/>
            </p:cNvCxnSpPr>
            <p:nvPr/>
          </p:nvCxnSpPr>
          <p:spPr>
            <a:xfrm rot="10800000">
              <a:off x="5723640" y="232344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10" name=""/>
            <p:cNvCxnSpPr>
              <a:stCxn id="206" idx="0"/>
              <a:endCxn id="209" idx="2"/>
            </p:cNvCxnSpPr>
            <p:nvPr/>
          </p:nvCxnSpPr>
          <p:spPr>
            <a:xfrm flipV="1">
              <a:off x="3779640" y="2323800"/>
              <a:ext cx="19450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209" name=""/>
            <p:cNvSpPr/>
            <p:nvPr/>
          </p:nvSpPr>
          <p:spPr>
            <a:xfrm>
              <a:off x="5178600" y="1440000"/>
              <a:ext cx="1091880" cy="882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арьер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60720" y="2765520"/>
              <a:ext cx="1440000" cy="88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обусловленн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ективными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акторам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20000" y="2765520"/>
              <a:ext cx="1163520" cy="882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создаваемы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частникам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57200" y="4091040"/>
              <a:ext cx="1092240" cy="88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80040" y="4091040"/>
              <a:ext cx="1092240" cy="882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0720" y="5416560"/>
              <a:ext cx="1092240" cy="882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ехнолог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95480" y="5416560"/>
              <a:ext cx="1092240" cy="882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ровень 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68800" y="5416560"/>
              <a:ext cx="1092240" cy="8827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ём спро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00720" y="5416560"/>
              <a:ext cx="1439640" cy="882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азвитость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07040" y="5416560"/>
              <a:ext cx="1092240" cy="8827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ностранная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80360" y="5416560"/>
              <a:ext cx="1271520" cy="88272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ип конкурен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54800" y="4091040"/>
              <a:ext cx="1090440" cy="88272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ведение 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28120" y="4091040"/>
              <a:ext cx="1090440" cy="88272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оглашения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6F04-80A4-4A2C-AE7C-773CA049A6B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2. Нестратегические барь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1143000"/>
            <a:ext cx="7696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тратегические, или объективные барьеры можно свести в три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ехнологические (барьеры, основанные на абсолютном преимуществе в уровне затрат и барьеры, основанные на относительном преимуществе в уровне затрат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кономические (ограниченность спроса, барьеры капитальных затрат или объёмы первоначальных инвестиций, состояние инфраструктуры рынк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нституциональные (административные барьеры и криминализация экономи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F426-6B50-49CF-A41A-3A45535D3CAD}" type="slidenum">
              <a:t>1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абсолют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бсолютные преимущества в отношении издержек означают, что кривая долгосрочных средних издержек фирм, уже действующих в отрасли, на всём своём протяжении лежит выше кривой издержек потенциальных конкурент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едовательно цена, необходимая для возмещения инвестиций потенциальных конкурентов будет выше, чем средняя цена в отрасл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E855-CE2B-44BE-9361-7AC535D613F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636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ичины абсолютных преимуществ в уровне затра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ующих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7600" y="1619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ля новых фирм могут быть недоступны наиболее дешевые и наиболее качественные источники ресурсов, которые используются уже действующими в отрасли фирм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же преимущества создаются самим процессом функционирования старых фирм в отрасли; накапливания опыта экономии издержек и оптимального распределения ресурс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7FD7-B26E-41FF-B382-953C46007B9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относитель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7600" y="197964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ые преимущества в издержках возникают за счёт производства уже существующими в отрасли фирмами большего объёма выпуска, нежели может освоить потенциальный конкуре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заключаются в таких особенностях производственного процесса которые проявляются в положительном эффекте масштаба производства и минимально эффективном объеме выпуска проду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157E-80B1-441F-BD21-69B7CB15843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71600" y="228600"/>
            <a:ext cx="7264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Минимально эффективный выпус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900000"/>
            <a:ext cx="4408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838080"/>
            <a:ext cx="35049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66680" y="1371600"/>
            <a:ext cx="7701120" cy="3412440"/>
            <a:chOff x="1066680" y="1371600"/>
            <a:chExt cx="7701120" cy="3412440"/>
          </a:xfrm>
        </p:grpSpPr>
        <p:sp>
          <p:nvSpPr>
            <p:cNvPr id="223" name=""/>
            <p:cNvSpPr/>
            <p:nvPr/>
          </p:nvSpPr>
          <p:spPr>
            <a:xfrm flipV="1">
              <a:off x="5391000" y="1514160"/>
              <a:ext cx="1800" cy="28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1000" y="4324320"/>
              <a:ext cx="304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2600" y="2811600"/>
              <a:ext cx="2432160" cy="863640"/>
            </a:xfrm>
            <a:custGeom>
              <a:avLst/>
              <a:gdLst/>
              <a:ahLst/>
              <a:rect l="l" t="t" r="r" b="b"/>
              <a:pathLst>
                <a:path w="1633" h="544">
                  <a:moveTo>
                    <a:pt x="0" y="0"/>
                  </a:moveTo>
                  <a:cubicBezTo>
                    <a:pt x="75" y="102"/>
                    <a:pt x="151" y="204"/>
                    <a:pt x="226" y="272"/>
                  </a:cubicBezTo>
                  <a:cubicBezTo>
                    <a:pt x="301" y="340"/>
                    <a:pt x="370" y="370"/>
                    <a:pt x="453" y="408"/>
                  </a:cubicBezTo>
                  <a:cubicBezTo>
                    <a:pt x="536" y="446"/>
                    <a:pt x="642" y="476"/>
                    <a:pt x="725" y="499"/>
                  </a:cubicBezTo>
                  <a:cubicBezTo>
                    <a:pt x="808" y="522"/>
                    <a:pt x="876" y="544"/>
                    <a:pt x="952" y="544"/>
                  </a:cubicBezTo>
                  <a:cubicBezTo>
                    <a:pt x="1028" y="544"/>
                    <a:pt x="1096" y="529"/>
                    <a:pt x="1179" y="499"/>
                  </a:cubicBezTo>
                  <a:cubicBezTo>
                    <a:pt x="1262" y="469"/>
                    <a:pt x="1376" y="416"/>
                    <a:pt x="1451" y="363"/>
                  </a:cubicBezTo>
                  <a:cubicBezTo>
                    <a:pt x="1526" y="310"/>
                    <a:pt x="1579" y="245"/>
                    <a:pt x="1633" y="1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39040" y="2308320"/>
              <a:ext cx="1012680" cy="647640"/>
            </a:xfrm>
            <a:prstGeom prst="wedgeRoundRectCallout">
              <a:avLst>
                <a:gd name="adj1" fmla="val -4560"/>
                <a:gd name="adj2" fmla="val 152939"/>
                <a:gd name="adj3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2080" y="245124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</a:rPr>
                <a:t>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17960" y="137160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62800" y="4251240"/>
              <a:ext cx="4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066680" y="1442880"/>
              <a:ext cx="3781440" cy="3341160"/>
              <a:chOff x="1066680" y="1442880"/>
              <a:chExt cx="3781440" cy="334116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1471680" y="1514160"/>
                <a:ext cx="1440" cy="28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71680" y="4324320"/>
                <a:ext cx="30398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41320" y="2595600"/>
                <a:ext cx="2567160" cy="1103400"/>
              </a:xfrm>
              <a:custGeom>
                <a:avLst/>
                <a:gdLst/>
                <a:ahLst/>
                <a:rect l="l" t="t" r="r" b="b"/>
                <a:pathLst>
                  <a:path w="1723" h="695">
                    <a:moveTo>
                      <a:pt x="0" y="0"/>
                    </a:moveTo>
                    <a:cubicBezTo>
                      <a:pt x="18" y="75"/>
                      <a:pt x="37" y="151"/>
                      <a:pt x="90" y="227"/>
                    </a:cubicBezTo>
                    <a:cubicBezTo>
                      <a:pt x="143" y="303"/>
                      <a:pt x="226" y="394"/>
                      <a:pt x="317" y="454"/>
                    </a:cubicBezTo>
                    <a:cubicBezTo>
                      <a:pt x="408" y="514"/>
                      <a:pt x="507" y="552"/>
                      <a:pt x="635" y="590"/>
                    </a:cubicBezTo>
                    <a:cubicBezTo>
                      <a:pt x="763" y="628"/>
                      <a:pt x="907" y="665"/>
                      <a:pt x="1088" y="680"/>
                    </a:cubicBezTo>
                    <a:cubicBezTo>
                      <a:pt x="1269" y="695"/>
                      <a:pt x="1610" y="680"/>
                      <a:pt x="1723" y="68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27400" y="2235240"/>
                <a:ext cx="1012680" cy="647640"/>
              </a:xfrm>
              <a:prstGeom prst="wedgeRoundRectCallout">
                <a:avLst>
                  <a:gd name="adj1" fmla="val -15296"/>
                  <a:gd name="adj2" fmla="val 170833"/>
                  <a:gd name="adj3" fmla="val 16667"/>
                </a:avLst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30440" y="2308320"/>
                <a:ext cx="67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M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442880"/>
                <a:ext cx="4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43480" y="432432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33640" y="4324320"/>
                <a:ext cx="26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121360" y="4251240"/>
              <a:ext cx="2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074600" y="4748040"/>
            <a:ext cx="77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нимально эффективный выпуск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– это такой объем производства, при котором положительный эффект масштаба сменяется на постоянный эффект масштаба (в случае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, или на отрицательный эффект масштаба (в случае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DCAC-99C6-47C6-AE0C-8C4384C3545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11240" y="228600"/>
            <a:ext cx="767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221304"/>
                </a:solidFill>
                <a:latin typeface="Times New Roman"/>
              </a:rPr>
              <a:t>Количество фирм, действующих в отрасл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17720" y="1371600"/>
            <a:ext cx="7669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личество фирм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действующих в отрасли в состоянии долгосрочного равновесия, можно определить отношением объема рыночного спроса при цене, равной минимальному значению долгосрочных средних издержек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(P=minLRAC)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к 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MES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разумеется, при допущении, что производственная функция и структура издержек у всех фирм в отрасли идентичны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5960" y="3214800"/>
            <a:ext cx="85280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581280" y="5486400"/>
                <a:ext cx="3559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RA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061C-9EEB-4FE7-A5BB-5367176AE30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14400" y="533520"/>
            <a:ext cx="79740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число фирм в отрасли окажется больше </a:t>
            </a:r>
            <a:r>
              <a:rPr b="0" i="1" lang="lv-LV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из них будет производить продукцию с издержками, превышающими минимальные значения долгосроч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ценовая конкуренция приведет к снижению цены до уровня минималь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фирм, оказавшись убыточными, вынуждены будут оставить отрасль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положительный эффект масштаба является барьером входа в отрасль, однако для  определения «высоты» барьеров необходима информация о разнице в уровнях средних издержек у крупных и малых фирм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95D9-7557-4BD3-B13C-03D42FCF9AB2}" type="slidenum">
              <a:t>19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33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1. Отраслевые барьеры и их классификация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ход новых фирм – это существенная характеристика отрасли, влияющая на её развит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ожительная экономическая прибыль в равновесии является стимулом к входу в отрасль новых фи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A4B-0966-4CC4-8319-D75B227DCB9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граниченность спроса (ёмкость рынка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Ёмкость рынка как барьер входа включает в себя следующие факто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ая насыщенность рынка товар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зкая платёжеспособность насел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иностранных конкур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24E7-B852-4BCB-826F-9C2AD3C25DC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9640" y="24912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рьеры капитальных затрат или объёмы первоначальных инвестиций, необходимых для входа на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79640" y="1671480"/>
            <a:ext cx="77724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ъёмы первоначальных инвестиций определяют саму возможность или невозможность организации нового производства в отрасл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реди капитальных затрат следует выдел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траты на освоение выпуска данного товар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оимость нового строительства и технического перевооружения действующих мощностей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на НИОКР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готовка и найм персонала, организация сбытовой сет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ительность освоения производств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6DA-7C6D-41BB-8571-4742DB6C340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00240" y="72036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капитальных затрат зависит от таких факторов, как степень развитости, организованности и открытости рынков ресурсов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ру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инвестиционных товаров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ехнологий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капитал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C7C-CF1E-469F-BFAB-D178F18FC76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Состояние инфраструктуры рын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 инфраструктуры рынка определяется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м транспортной системы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щностью складской базы, - складов, необходимых на всем пути продвижения товара от производителя до конечного потребител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достаточность инфраструктурных составляющих следует рассматривать как высокие барьеры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3AF-A52D-4437-929C-AD8145B972B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31716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Административные барьеры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79280" y="9478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оздаются органами государственной власти различных уровней и включают в себя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лицензирование деятельности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вотирование производства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сложнённый порядок регистрации новых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ертификацию продукци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оцедуру отвода земельных участков под промышленное строительство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личие неформальных отношений между органами государственной власти и предприятиям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экологические нормы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граничения на использование земель, лесных угодий, недр, запасов полезных ископаемы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4A7-351B-4384-8C8B-A08BDC17174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риминализация экономик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Если для ведения дела предпринимателю требуется “крыша”, некое неофициальное прикрытие со стороны криминальных структур, то расходы на поддержание подобного рода отношений составляют значительные барьеры вход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5C6D-CBAE-4C2B-8BEB-6ADB8DAEC2D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7600" y="1440000"/>
            <a:ext cx="7772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тегические барьеры сознательно создаются фирмами, действующими в отрасли, что является инструментом их стратегического поведения, препятствующим новым участникам входу в отрасль. К ним можно отнести такие мероприятия фирм, как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сурсосберегающие инновац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поставщиками ресурс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ение лицензий и патентов на определенный вид деятель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хранение незагруженных мощносте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еличение затрат на рекламу и НИОКР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держки по созданию имиджа и фир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419C-9631-4442-A76C-9AD205E5F73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ие барьеры входа, проявляющиеся в виде стратегического поведения, можно разделить на ценовые и неценовые (дополнительные инвестиции в оборудование, дифференциация продукта, долгосрочные контракты, вертикальна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ц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3C3-9548-44BF-AFE5-F83F275FE54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9640" y="304920"/>
            <a:ext cx="783576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680" y="1079280"/>
            <a:ext cx="77724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ы, уже действующие в отрасли, зная отраслевой спрос и отраслевое предложение могут назначить такую цену, которая ограничит появление новых конкурент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акие барьеры получили название “ценообразование, ограничивающее вход” и сводятся к установлению действующими фирмами цен ниже уровня, обеспечивающего им  максимизацию прибыл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ам, которые проводят такую политику, приходится делать выбор между сокращением своей краткосрочной прибыли в результате снижения цен и потерей долгосрочной прибыли в результате входа на рынок новых участник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7D7-70B6-4821-84D5-DD6FDB282A3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ценовые стратегии создания барьеров в отрасл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47600" y="1465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Если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уровень монопольной прибыли старой фирмы, действующей в отрасли в условиях отсутствия потенциального конкурента, А – расходы на проведение неценовых стратегий по созданию барьеров,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ожидаемая прибыль новой фирмы в случае её проникновения на рынок, то старая фирма будет делать вложения по созданию неценовых барьеров только тогда, когда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А &gt;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то есть выгода барьеров превышает угрозу снижения прибыли в результате конкуренции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4082-7A18-418A-B923-3FD78D87747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Значение входа новых фирм в отрасл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640" y="11980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появления новых фирм в отрасли уровни прибыльности и цен возвращаются к их долгосрочному конкурентному значе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овых фирм рассматривается как фактор технологических изменений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наличие отраслевых барьеров определяет динамику экономического роста и благосостояния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е барьеров или их предотвращение становится элементом конкурентной политики государ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AD6-9C18-49F4-AD41-3C981A0160A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полнительное инвестирование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полнительные инвестиции в оборудование для новой фирмы можно рассматривать как необратимые издержки. Фирма вынуждена их оплачивать, даже не выпуская проду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действующая фирма обладает избыточными производственными мощностями, по сравнению с величиной спроса, то при угрозе появления нового конкурента, она может увеличить объем выпуска до уровня, ограничивающего   вход. При этом новая фирма потеряет величину необратимых издер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5A6-801C-412D-8E57-70E3D45678A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ифференциация продукт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ующие на рынке фирмы для предотвращения входа новых фирм могут  наполнить рынок значительным количеством товаров-заменителей, чтобы потенциальным конкурентам было труднее в этом изобилии найти свою ниш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вою очередь новая фирма будет вынуждена увеличивать свои расходы на рекламу, тем самым минимальный объем выпуска в отрасли, необходимый для организации эффективного производства возрастает, а ожидаемая прибыль понижа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BA5-94B4-4A00-BE2D-5B40B185DAE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лгосрочные контрак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третьими лицами, в частности, с поставщиками ресурсов, потребителями товаров, а также с работниками отрасли (например, с отраслевым профсоюзом) ограничивают возможности потенциальных конкурентов найти поставщиков ресурсов, рынки сбыта и т.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A76C-8105-4712-994C-7EB4554381A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ртикальная интеграция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ая интеграция представляет собой процесс объединения в рамках одной фирмы более одной стадии производства конечной продукц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о интегрированная фирма, в отличие от неинтегрированной фирмы, избавлена от необходимости заключать контракты с поставщиками и покупателями – представителями смежных производственных стадий. Тем самым, у вертикально интегрированной фирмы снижаются трансакционные издерж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неинтегрированных производителей такие контракты, в которых кроме цен оговариваются вопросы особых условий поставки, особых условий реализации продукции и другие условия,  выступают как вертикальные огранич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6346-BE3C-468C-BDF3-E78556907E1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556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облемы, связанные со стратегическими барьерам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79640" y="1439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ализация стратегических барьеров на практике связана с рядом пробле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, при проведении политики ценообразования, ограничивающего вход новых участников на рынок, действующие на рынке фирмы должны правильно оцен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действующих фирм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потенциальных конкурентов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ловия спроса и, прежде всего, ценовую эластичность  спрос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DA3-7A54-4D9D-AE65-99A2AB0700F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173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Необходимость поддержания в отрасли определённого объема выпус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 в отрасль будет эффективным только в случае поддержания в отрасли определённого объема выпус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условиях невозможности согласованной деятельности маловероятно обеспечить равенство отраслевого выпуска уровню, ограничивающему вхо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ирование рыночных долей участников отрасли затруднительно, из-за различий в уровнях издержек производства, и изменениями спроса с течением времен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1A6-CCE7-48CA-AF5F-AB56255B1F3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Непредсказуемость конкурен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явление в отрасли новых участников может повлечь сокращение объемов выпуска уже действующих фирм, особенно если в отрасль входит не новичок в предпринимательстве, а крупный диверсифицированный концерн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таком случае исход конкуренции, вплоть до ценовых войн – непредсказуе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E83-2250-4754-AFFC-F9B53402078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Ускоряющиеся технологические иннов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коряющиеся технологические инновации позволяют новым фирмам снизить издержки производства. Данный фактор не позволяет действующим фирмам адекватно оценить ценовые ориентиры, то есть возможна переоценка уровня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BB4-413A-40E7-B543-96EF3B4CF6C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«Поведение безбилетника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7600" y="1800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успешная реализация стратегических барьеров оказывает положительный эффект на всех участников отрасли, вне зависимости от того чьими усилиями и средствами она была обеспечена, фирмы не свободны от искушения воспользоваться результатами “чужих” барьер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C975-C7F1-48F8-B97A-13BFCBF01664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7600" y="1290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входа - все факторы объективного или субъективного характера, которые препятствуют новым фирмам организовать рентабельное производство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формальной возможности организовать производство в большинстве отраслей еще не означает отсутствие барьеров в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5ED7-7929-47F3-9694-A138A5D2207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31896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ы барьеров в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7600" y="117324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обенности отрасли или рынка (технология производства, стартовые и текущие затраты, объём спроса, зрелость и развитость рынка, тип конкуренции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ведение хозяйствующих субъектов (антиконкурентные действий и соглаше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 органов государственной власти (лицензирование, налогообложение, фиксация цен,  государственная помощь отдельным субъектам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гие причины (сужение географических границ рынка вследствие роста транспортных расходов, возрастание международной конкуренции в условиях ограниченного спроса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9030-D9EA-4B32-90C8-FFB256EEE4B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ы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 объективные или субъективные факторы, которые препятствуют фирме уйти из отрасли без существенных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связаны с, так называемыми, необратимыми издержками, которые делают невозможным уход фирмы из отрасли без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0F26-E69C-44D9-8C3C-DECEE6F35AD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0360" y="304920"/>
            <a:ext cx="71992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Барьеры выхода связаны со структурными характеристиками того или иного вида хозяйственной деятельности, такими как: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иквидность активо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зможность диверсификации производства с использованием имеющегося оборудования, технологий, источников сырь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мкнутость и связанность технологических цепоч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D616-EF61-41B7-AD0C-3253F5ECDAA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 выхода - составная часть барьеров вход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увеличивают риск хозяйствования в отрасли, а значит создают дополнительные барьеры входа в отрасл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фирма знает, что уйти из отрасли без значительных потерь невозможно, то это может оказать влияние на её решение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им образом, барьеры выхода следует рассматривать как составную часть отраслевых барьеров, препятствующих входу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1A4-E9B5-4D6C-A628-4DE0AFCBCFE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9808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Барьеры входа и вы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76400" y="1571760"/>
            <a:ext cx="7466040" cy="4521240"/>
            <a:chOff x="1076400" y="1571760"/>
            <a:chExt cx="7466040" cy="4521240"/>
          </a:xfrm>
        </p:grpSpPr>
        <p:sp>
          <p:nvSpPr>
            <p:cNvPr id="141" name=""/>
            <p:cNvSpPr/>
            <p:nvPr/>
          </p:nvSpPr>
          <p:spPr>
            <a:xfrm>
              <a:off x="1076400" y="1571760"/>
              <a:ext cx="7466040" cy="45212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3" idx="0"/>
              <a:endCxn id="144" idx="2"/>
            </p:cNvCxnSpPr>
            <p:nvPr/>
          </p:nvCxnSpPr>
          <p:spPr>
            <a:xfrm flipV="1">
              <a:off x="68194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5" name=""/>
            <p:cNvCxnSpPr>
              <a:stCxn id="146" idx="0"/>
              <a:endCxn id="147" idx="2"/>
            </p:cNvCxnSpPr>
            <p:nvPr/>
          </p:nvCxnSpPr>
          <p:spPr>
            <a:xfrm flipV="1">
              <a:off x="27982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8" name=""/>
            <p:cNvCxnSpPr>
              <a:stCxn id="144" idx="0"/>
              <a:endCxn id="149" idx="2"/>
            </p:cNvCxnSpPr>
            <p:nvPr/>
          </p:nvCxnSpPr>
          <p:spPr>
            <a:xfrm flipV="1">
              <a:off x="68194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0" name=""/>
            <p:cNvCxnSpPr>
              <a:stCxn id="147" idx="0"/>
              <a:endCxn id="151" idx="2"/>
            </p:cNvCxnSpPr>
            <p:nvPr/>
          </p:nvCxnSpPr>
          <p:spPr>
            <a:xfrm flipV="1">
              <a:off x="27982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2" name=""/>
            <p:cNvCxnSpPr>
              <a:stCxn id="149" idx="0"/>
              <a:endCxn id="153" idx="2"/>
            </p:cNvCxnSpPr>
            <p:nvPr/>
          </p:nvCxnSpPr>
          <p:spPr>
            <a:xfrm rot="10800000">
              <a:off x="4809240" y="2393280"/>
              <a:ext cx="201060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4" name=""/>
            <p:cNvCxnSpPr>
              <a:stCxn id="151" idx="0"/>
              <a:endCxn id="153" idx="2"/>
            </p:cNvCxnSpPr>
            <p:nvPr/>
          </p:nvCxnSpPr>
          <p:spPr>
            <a:xfrm flipV="1">
              <a:off x="2798280" y="2393640"/>
              <a:ext cx="201204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53" name=""/>
            <p:cNvSpPr/>
            <p:nvPr/>
          </p:nvSpPr>
          <p:spPr>
            <a:xfrm>
              <a:off x="3086280" y="1571760"/>
              <a:ext cx="3446280" cy="822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барь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76400" y="2805120"/>
              <a:ext cx="3446280" cy="82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а рынок новых фир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95800" y="2805120"/>
              <a:ext cx="3446640" cy="822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ы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з отрасли без потер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6400" y="4037040"/>
              <a:ext cx="3446280" cy="82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нижают угрозы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тенциальной конкуренци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95800" y="4037040"/>
              <a:ext cx="3446640" cy="822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граничивают количество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  в отрасл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76400" y="5270400"/>
              <a:ext cx="3446280" cy="822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95800" y="5270400"/>
              <a:ext cx="3446640" cy="819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A55-E624-4360-9738-C28B4708AAC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cturer</cp:lastModifiedBy>
  <cp:revision>0</cp:revision>
  <dc:subject/>
  <dc:title>Анализ отраслевых барьеров в рыночной экономике</dc:title>
</cp:coreProperties>
</file>