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7CFE58-5777-4759-9A86-483A8712A5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7B23-6437-49A0-846B-A61AAFFC7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45EB-38DE-4073-8526-E810198E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5893-FA9B-4DD3-B4B4-081388583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32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160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32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160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5DCE-A4D3-431A-9B27-5CA73EE57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886D-76F4-45F2-9CF5-0487D63C5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26E8-FB35-4B86-B224-8A4714AB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8B42-DA45-4059-8487-192ED5E3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8212-46EE-4A93-9CD6-F4A5E899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0D03-A322-47CF-8335-5B71A00C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25416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69A4-FB24-4267-8430-D41905EF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2F55-595A-4BC3-AB40-8EE97241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4CFE-DBEE-4AFA-B760-671144CB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1677-EE1F-42AB-8493-F92D1B74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EB10-8841-4DFE-B495-471F9DB6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C004-2788-4AA8-9613-835DB7E3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AEB5-CDD3-45CA-88A7-C3B82A08E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32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160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32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160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A117-9BDA-4E7B-BB7B-24E1D7B0B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ACF1-0403-4FD6-9A1E-1CFA9540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AF12-F242-40E9-8FD7-BE6CB061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E5F5-DF58-47BB-AC8C-380014C2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25416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FCC3-77ED-4356-B15A-4E3231BB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F899-9ABD-4E26-8941-4B929986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332D-EDC7-4CF7-A822-949BB724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3502-955E-45AB-B8A7-66F53B6E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4760" cy="6743880"/>
            <a:chOff x="0" y="50760"/>
            <a:chExt cx="8924760" cy="674388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4760" cy="6743880"/>
              <a:chOff x="0" y="50760"/>
              <a:chExt cx="8924760" cy="6743880"/>
            </a:xfrm>
          </p:grpSpPr>
          <p:sp>
            <p:nvSpPr>
              <p:cNvPr id="2" name=""/>
              <p:cNvSpPr/>
              <p:nvPr/>
            </p:nvSpPr>
            <p:spPr>
              <a:xfrm>
                <a:off x="528480" y="201600"/>
                <a:ext cx="8396280" cy="64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30640"/>
                <a:ext cx="1041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480" y="1542960"/>
              <a:ext cx="7742160" cy="4802400"/>
              <a:chOff x="1149480" y="1542960"/>
              <a:chExt cx="7742160" cy="48024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480" y="1542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480" y="1771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480" y="2000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480" y="2228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480" y="2457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480" y="2685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480" y="2914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480" y="3143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480" y="3371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480" y="3600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480" y="3828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480" y="4057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480" y="4286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480" y="4514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480" y="4743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480" y="4971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480" y="5200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480" y="5429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480" y="5657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480" y="5886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480" y="6114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480" y="6343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854042-C212-4C47-9945-6B5401603047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911240"/>
            <a:ext cx="7719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440" y="6113520"/>
            <a:ext cx="19288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3520"/>
            <a:ext cx="28432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3520"/>
            <a:ext cx="18273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9DD4010-A2F0-463F-9570-DEF2B79D950A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1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8.png"/><Relationship Id="rId11" Type="http://schemas.openxmlformats.org/officeDocument/2006/relationships/image" Target="../media/image20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Анализ отраслевых барьеров в рыночной экономике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Отраслевые барьеры и их классификац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Нестратегические барье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Стратегические барье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Проблемы, связанные со стратегическими барьер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EE2D-8E8A-45AA-9942-D0436CECE5C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29016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Классификация барьеров в зависимости от  влияния на рыночную структуру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079640" y="1619280"/>
            <a:ext cx="7740360" cy="5041800"/>
            <a:chOff x="1079640" y="1619280"/>
            <a:chExt cx="7740360" cy="5041800"/>
          </a:xfrm>
        </p:grpSpPr>
        <p:sp>
          <p:nvSpPr>
            <p:cNvPr id="157" name=""/>
            <p:cNvSpPr/>
            <p:nvPr/>
          </p:nvSpPr>
          <p:spPr>
            <a:xfrm>
              <a:off x="1252440" y="1706400"/>
              <a:ext cx="7567560" cy="4954680"/>
            </a:xfrm>
            <a:prstGeom prst="roundRect">
              <a:avLst>
                <a:gd name="adj" fmla="val 2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9" idx="0"/>
              <a:endCxn id="160" idx="2"/>
            </p:cNvCxnSpPr>
            <p:nvPr/>
          </p:nvCxnSpPr>
          <p:spPr>
            <a:xfrm rot="10800000">
              <a:off x="6593760" y="5400720"/>
              <a:ext cx="105480" cy="358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61" name=""/>
            <p:cNvCxnSpPr>
              <a:stCxn id="162" idx="0"/>
              <a:endCxn id="163" idx="2"/>
            </p:cNvCxnSpPr>
            <p:nvPr/>
          </p:nvCxnSpPr>
          <p:spPr>
            <a:xfrm flipV="1">
              <a:off x="4946400" y="5400720"/>
              <a:ext cx="91080" cy="358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64" name=""/>
            <p:cNvCxnSpPr>
              <a:stCxn id="165" idx="0"/>
              <a:endCxn id="166" idx="2"/>
            </p:cNvCxnSpPr>
            <p:nvPr/>
          </p:nvCxnSpPr>
          <p:spPr>
            <a:xfrm rot="10800000">
              <a:off x="8151120" y="3956760"/>
              <a:ext cx="2160" cy="450000"/>
            </a:xfrm>
            <a:prstGeom prst="bentConnector3">
              <a:avLst>
                <a:gd name="adj1" fmla="val 4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67" name=""/>
            <p:cNvCxnSpPr>
              <a:stCxn id="160" idx="0"/>
              <a:endCxn id="168" idx="2"/>
            </p:cNvCxnSpPr>
            <p:nvPr/>
          </p:nvCxnSpPr>
          <p:spPr>
            <a:xfrm rot="10800000">
              <a:off x="6544440" y="4147560"/>
              <a:ext cx="50040" cy="259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69" name=""/>
            <p:cNvCxnSpPr>
              <a:stCxn id="163" idx="0"/>
              <a:endCxn id="170" idx="2"/>
            </p:cNvCxnSpPr>
            <p:nvPr/>
          </p:nvCxnSpPr>
          <p:spPr>
            <a:xfrm rot="10800000">
              <a:off x="4652280" y="4139640"/>
              <a:ext cx="384840" cy="268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1" name=""/>
            <p:cNvCxnSpPr>
              <a:stCxn id="172" idx="0"/>
              <a:endCxn id="173" idx="2"/>
            </p:cNvCxnSpPr>
            <p:nvPr/>
          </p:nvCxnSpPr>
          <p:spPr>
            <a:xfrm rot="10800000">
              <a:off x="2567880" y="3956760"/>
              <a:ext cx="907200" cy="450000"/>
            </a:xfrm>
            <a:prstGeom prst="bentConnector3">
              <a:avLst>
                <a:gd name="adj1" fmla="val 4998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4" name=""/>
            <p:cNvCxnSpPr>
              <a:stCxn id="175" idx="0"/>
              <a:endCxn id="173" idx="2"/>
            </p:cNvCxnSpPr>
            <p:nvPr/>
          </p:nvCxnSpPr>
          <p:spPr>
            <a:xfrm flipV="1">
              <a:off x="1833480" y="3957120"/>
              <a:ext cx="735840" cy="450000"/>
            </a:xfrm>
            <a:prstGeom prst="bentConnector3">
              <a:avLst>
                <a:gd name="adj1" fmla="val 49975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6" name=""/>
            <p:cNvCxnSpPr>
              <a:stCxn id="166" idx="0"/>
              <a:endCxn id="177" idx="2"/>
            </p:cNvCxnSpPr>
            <p:nvPr/>
          </p:nvCxnSpPr>
          <p:spPr>
            <a:xfrm rot="10800000">
              <a:off x="5425200" y="2518560"/>
              <a:ext cx="2726640" cy="537480"/>
            </a:xfrm>
            <a:prstGeom prst="bentConnector3">
              <a:avLst>
                <a:gd name="adj1" fmla="val 49993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8" name=""/>
            <p:cNvCxnSpPr>
              <a:stCxn id="168" idx="0"/>
              <a:endCxn id="177" idx="2"/>
            </p:cNvCxnSpPr>
            <p:nvPr/>
          </p:nvCxnSpPr>
          <p:spPr>
            <a:xfrm rot="10800000">
              <a:off x="5425200" y="2518560"/>
              <a:ext cx="1119960" cy="551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9" name=""/>
            <p:cNvCxnSpPr>
              <a:stCxn id="170" idx="0"/>
              <a:endCxn id="177" idx="2"/>
            </p:cNvCxnSpPr>
            <p:nvPr/>
          </p:nvCxnSpPr>
          <p:spPr>
            <a:xfrm flipV="1">
              <a:off x="4653000" y="2518920"/>
              <a:ext cx="775440" cy="54072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80" name=""/>
            <p:cNvCxnSpPr>
              <a:stCxn id="173" idx="0"/>
              <a:endCxn id="177" idx="2"/>
            </p:cNvCxnSpPr>
            <p:nvPr/>
          </p:nvCxnSpPr>
          <p:spPr>
            <a:xfrm flipV="1">
              <a:off x="2568240" y="2518920"/>
              <a:ext cx="2858040" cy="540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sp>
          <p:nvSpPr>
            <p:cNvPr id="177" name=""/>
            <p:cNvSpPr/>
            <p:nvPr/>
          </p:nvSpPr>
          <p:spPr>
            <a:xfrm>
              <a:off x="4757760" y="1619280"/>
              <a:ext cx="1335240" cy="900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ffcc"/>
              </a:solidFill>
              <a:miter/>
            </a:ln>
            <a:effectLst>
              <a:outerShdw dist="63504" dir="19383909" blurRad="0" rotWithShape="0">
                <a:srgbClr val="00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иды отраслевых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барьеров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70120" y="3060720"/>
              <a:ext cx="1596960" cy="898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Не препятствующие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ходу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рынок совершенной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онкуренци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80000" y="3060720"/>
              <a:ext cx="1744560" cy="1079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Неэффективно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удняющие вход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рынок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монополистической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онкуренци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1320" y="3071880"/>
              <a:ext cx="1508040" cy="107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Эффективно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удняющие вход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рынок доминрироую-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щей фирмы или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лигополи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85120" y="3057480"/>
              <a:ext cx="1334880" cy="900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Блокирующие вход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рынок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абсолютной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монополи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79640" y="4408560"/>
              <a:ext cx="1508040" cy="900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вободный доступ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 ресурсам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06560" y="4408560"/>
              <a:ext cx="1338480" cy="900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вободный доступ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 рынку</a:t>
              </a:r>
              <a:br>
                <a:rPr sz="1300"/>
              </a:b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368960" y="4408560"/>
              <a:ext cx="1334880" cy="9921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озможность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деятельности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 краткосрочном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ериоде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27760" y="4408560"/>
              <a:ext cx="1333440" cy="99216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удняющие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деятельность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 долгосрочном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ериоде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86560" y="4408560"/>
              <a:ext cx="1333440" cy="900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Делающие вход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невозможным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89320" y="5759280"/>
              <a:ext cx="1514520" cy="90036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тсутствие реакции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онкурентов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27760" y="5759280"/>
              <a:ext cx="1542960" cy="90036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Требуются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дополнительные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аты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6AA0-1C07-4A62-AC22-18B4757F545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Нестратегические и стратегические барьеры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79640" y="161928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Нестратегическ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барьеры, создаваемые условиями отрасли, факторами объективного характера и по большей части независимые от деятельности фирмы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Стратегические барьеры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появляются в результате стратегических действий самих фирм на рынке или в отрасли и, в силу этого, имеют субъективный характер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9B4C-2E22-49A0-8994-FF7C260A12E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29844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Нестратегические и стратегические барьеры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720720" y="1440000"/>
            <a:ext cx="8099280" cy="4859280"/>
            <a:chOff x="720720" y="1440000"/>
            <a:chExt cx="8099280" cy="4859280"/>
          </a:xfrm>
        </p:grpSpPr>
        <p:sp>
          <p:nvSpPr>
            <p:cNvPr id="185" name=""/>
            <p:cNvSpPr/>
            <p:nvPr/>
          </p:nvSpPr>
          <p:spPr>
            <a:xfrm>
              <a:off x="720720" y="1440000"/>
              <a:ext cx="8099280" cy="485928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6" name=""/>
            <p:cNvCxnSpPr>
              <a:stCxn id="187" idx="0"/>
              <a:endCxn id="188" idx="2"/>
            </p:cNvCxnSpPr>
            <p:nvPr/>
          </p:nvCxnSpPr>
          <p:spPr>
            <a:xfrm rot="10800000">
              <a:off x="7601760" y="3648960"/>
              <a:ext cx="67212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89" name=""/>
            <p:cNvCxnSpPr>
              <a:stCxn id="190" idx="0"/>
              <a:endCxn id="188" idx="2"/>
            </p:cNvCxnSpPr>
            <p:nvPr/>
          </p:nvCxnSpPr>
          <p:spPr>
            <a:xfrm flipV="1">
              <a:off x="7000560" y="3649320"/>
              <a:ext cx="60228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91" name=""/>
            <p:cNvCxnSpPr>
              <a:stCxn id="192" idx="0"/>
              <a:endCxn id="193" idx="2"/>
            </p:cNvCxnSpPr>
            <p:nvPr/>
          </p:nvCxnSpPr>
          <p:spPr>
            <a:xfrm rot="10800000">
              <a:off x="5725440" y="4974480"/>
              <a:ext cx="228996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94" name=""/>
            <p:cNvCxnSpPr>
              <a:stCxn id="195" idx="0"/>
              <a:endCxn id="193" idx="2"/>
            </p:cNvCxnSpPr>
            <p:nvPr/>
          </p:nvCxnSpPr>
          <p:spPr>
            <a:xfrm rot="10800000">
              <a:off x="5725440" y="4974480"/>
              <a:ext cx="92772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96" name=""/>
            <p:cNvCxnSpPr>
              <a:stCxn id="197" idx="0"/>
              <a:endCxn id="193" idx="2"/>
            </p:cNvCxnSpPr>
            <p:nvPr/>
          </p:nvCxnSpPr>
          <p:spPr>
            <a:xfrm flipV="1">
              <a:off x="5219280" y="4974840"/>
              <a:ext cx="506880" cy="442080"/>
            </a:xfrm>
            <a:prstGeom prst="bentConnector3">
              <a:avLst>
                <a:gd name="adj1" fmla="val 49964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98" name=""/>
            <p:cNvCxnSpPr>
              <a:stCxn id="199" idx="0"/>
              <a:endCxn id="193" idx="2"/>
            </p:cNvCxnSpPr>
            <p:nvPr/>
          </p:nvCxnSpPr>
          <p:spPr>
            <a:xfrm flipV="1">
              <a:off x="3814560" y="4974840"/>
              <a:ext cx="191196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0" name=""/>
            <p:cNvCxnSpPr>
              <a:stCxn id="201" idx="0"/>
              <a:endCxn id="202" idx="2"/>
            </p:cNvCxnSpPr>
            <p:nvPr/>
          </p:nvCxnSpPr>
          <p:spPr>
            <a:xfrm rot="10800000">
              <a:off x="1902600" y="4974480"/>
              <a:ext cx="63756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3" name=""/>
            <p:cNvCxnSpPr>
              <a:stCxn id="204" idx="0"/>
              <a:endCxn id="202" idx="2"/>
            </p:cNvCxnSpPr>
            <p:nvPr/>
          </p:nvCxnSpPr>
          <p:spPr>
            <a:xfrm flipV="1">
              <a:off x="1266480" y="4974840"/>
              <a:ext cx="63900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5" name=""/>
            <p:cNvCxnSpPr>
              <a:stCxn id="193" idx="0"/>
              <a:endCxn id="206" idx="2"/>
            </p:cNvCxnSpPr>
            <p:nvPr/>
          </p:nvCxnSpPr>
          <p:spPr>
            <a:xfrm rot="10800000">
              <a:off x="3779280" y="3648960"/>
              <a:ext cx="1946880" cy="442080"/>
            </a:xfrm>
            <a:prstGeom prst="bentConnector3">
              <a:avLst>
                <a:gd name="adj1" fmla="val 4999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7" name=""/>
            <p:cNvCxnSpPr>
              <a:stCxn id="202" idx="0"/>
              <a:endCxn id="206" idx="2"/>
            </p:cNvCxnSpPr>
            <p:nvPr/>
          </p:nvCxnSpPr>
          <p:spPr>
            <a:xfrm flipV="1">
              <a:off x="1902960" y="3649320"/>
              <a:ext cx="187740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8" name=""/>
            <p:cNvCxnSpPr>
              <a:stCxn id="188" idx="0"/>
              <a:endCxn id="209" idx="2"/>
            </p:cNvCxnSpPr>
            <p:nvPr/>
          </p:nvCxnSpPr>
          <p:spPr>
            <a:xfrm rot="10800000">
              <a:off x="5723640" y="2323440"/>
              <a:ext cx="187740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10" name=""/>
            <p:cNvCxnSpPr>
              <a:stCxn id="206" idx="0"/>
              <a:endCxn id="209" idx="2"/>
            </p:cNvCxnSpPr>
            <p:nvPr/>
          </p:nvCxnSpPr>
          <p:spPr>
            <a:xfrm flipV="1">
              <a:off x="3779640" y="2323800"/>
              <a:ext cx="194508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sp>
          <p:nvSpPr>
            <p:cNvPr id="209" name=""/>
            <p:cNvSpPr/>
            <p:nvPr/>
          </p:nvSpPr>
          <p:spPr>
            <a:xfrm>
              <a:off x="5178600" y="1440000"/>
              <a:ext cx="1091880" cy="882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ffcc"/>
              </a:solidFill>
              <a:miter/>
            </a:ln>
            <a:effectLst>
              <a:outerShdw dist="63504" dir="19383909" blurRad="0" rotWithShape="0">
                <a:srgbClr val="00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траслевые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барьер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60720" y="2765520"/>
              <a:ext cx="1440000" cy="88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Нестратегические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обусловленные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бъективными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факторам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020000" y="2765520"/>
              <a:ext cx="1163520" cy="8827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тратегические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создаваемые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участниками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рынка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57200" y="4091040"/>
              <a:ext cx="1092240" cy="88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траслевые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собенност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80040" y="4091040"/>
              <a:ext cx="1092240" cy="8827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собенности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рынк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0720" y="5416560"/>
              <a:ext cx="1092240" cy="8827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Технолог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95480" y="5416560"/>
              <a:ext cx="1092240" cy="8827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Уровень 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а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68800" y="5416560"/>
              <a:ext cx="1092240" cy="88272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бъём спрос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00720" y="5416560"/>
              <a:ext cx="1439640" cy="8827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Развитость рынк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07040" y="5416560"/>
              <a:ext cx="1092240" cy="88272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Иностранная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онкуренц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80360" y="5416560"/>
              <a:ext cx="1271520" cy="88272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Тип конкуренци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54800" y="4091040"/>
              <a:ext cx="1090440" cy="88272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оведение фирм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28120" y="4091040"/>
              <a:ext cx="1090440" cy="88272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оглашения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фирм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E28B-E1D1-4D81-8A9D-E27FF7DE80B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219320" y="228600"/>
            <a:ext cx="7467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2. Нестратегические барье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1143000"/>
            <a:ext cx="76960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тратегические, или объективные барьеры можно свести в три групп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технологические (барьеры, основанные на абсолютном преимуществе в уровне затрат и барьеры, основанные на относительном преимуществе в уровне затрат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кономические (ограниченность спроса, барьеры капитальных затрат или объёмы первоначальных инвестиций, состояние инфраструктуры рынк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нституциональные (административные барьеры и криминализация экономик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7A03-C229-4E7C-9DBE-D45771364CF4}" type="slidenum">
              <a:t>1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35676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Барьеры, основанные на абсолютном преимуществе в уровне затрат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бсолютные преимущества в отношении издержек означают, что кривая долгосрочных средних издержек фирм, уже действующих в отрасли, на всём своём протяжении лежит выше кривой издержек потенциальных конкурентов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ледовательно цена, необходимая для возмещения инвестиций потенциальных конкурентов будет выше, чем средняя цена в отрасл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CBDA-3959-4CBA-B42D-4C7C109A848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36360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ричины абсолютных преимуществ в уровне затра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йствующих фирм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47600" y="161928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ля новых фирм могут быть недоступны наиболее дешевые и наиболее качественные источники ресурсов, которые используются уже действующими в отрасли фирмам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акже преимущества создаются самим процессом функционирования старых фирм в отрасли; накапливания опыта экономии издержек и оптимального распределения ресурсов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BB05-701A-4A85-A5C6-D07832BF35B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Барьеры, основанные на относительном преимуществе в уровне затрат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7600" y="1979640"/>
            <a:ext cx="77724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сительные преимущества в издержках возникают за счёт производства уже существующими в отрасли фирмами большего объёма выпуска, нежели может освоить потенциальный конкурен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и заключаются в таких особенностях производственного процесса которые проявляются в положительном эффекте масштаба производства и минимально эффективном объеме выпуска продук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103A-ABD2-4D82-A073-4286B5ACF2B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371600" y="228600"/>
            <a:ext cx="7264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221304"/>
                </a:solidFill>
                <a:latin typeface="Times New Roman"/>
              </a:rPr>
              <a:t>Минимально эффективный выпус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900000"/>
            <a:ext cx="44082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разная функция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LRA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4120" y="838080"/>
            <a:ext cx="350496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разная функция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LRA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066680" y="1371600"/>
            <a:ext cx="7701120" cy="3412440"/>
            <a:chOff x="1066680" y="1371600"/>
            <a:chExt cx="7701120" cy="3412440"/>
          </a:xfrm>
        </p:grpSpPr>
        <p:sp>
          <p:nvSpPr>
            <p:cNvPr id="223" name=""/>
            <p:cNvSpPr/>
            <p:nvPr/>
          </p:nvSpPr>
          <p:spPr>
            <a:xfrm flipV="1">
              <a:off x="5391000" y="1514160"/>
              <a:ext cx="1800" cy="28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91000" y="4324320"/>
              <a:ext cx="3040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92600" y="2811600"/>
              <a:ext cx="2432160" cy="863640"/>
            </a:xfrm>
            <a:custGeom>
              <a:avLst/>
              <a:gdLst/>
              <a:ahLst/>
              <a:rect l="l" t="t" r="r" b="b"/>
              <a:pathLst>
                <a:path w="1633" h="544">
                  <a:moveTo>
                    <a:pt x="0" y="0"/>
                  </a:moveTo>
                  <a:cubicBezTo>
                    <a:pt x="75" y="102"/>
                    <a:pt x="151" y="204"/>
                    <a:pt x="226" y="272"/>
                  </a:cubicBezTo>
                  <a:cubicBezTo>
                    <a:pt x="301" y="340"/>
                    <a:pt x="370" y="370"/>
                    <a:pt x="453" y="408"/>
                  </a:cubicBezTo>
                  <a:cubicBezTo>
                    <a:pt x="536" y="446"/>
                    <a:pt x="642" y="476"/>
                    <a:pt x="725" y="499"/>
                  </a:cubicBezTo>
                  <a:cubicBezTo>
                    <a:pt x="808" y="522"/>
                    <a:pt x="876" y="544"/>
                    <a:pt x="952" y="544"/>
                  </a:cubicBezTo>
                  <a:cubicBezTo>
                    <a:pt x="1028" y="544"/>
                    <a:pt x="1096" y="529"/>
                    <a:pt x="1179" y="499"/>
                  </a:cubicBezTo>
                  <a:cubicBezTo>
                    <a:pt x="1262" y="469"/>
                    <a:pt x="1376" y="416"/>
                    <a:pt x="1451" y="363"/>
                  </a:cubicBezTo>
                  <a:cubicBezTo>
                    <a:pt x="1526" y="310"/>
                    <a:pt x="1579" y="245"/>
                    <a:pt x="1633" y="18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39040" y="2308320"/>
              <a:ext cx="1012680" cy="647640"/>
            </a:xfrm>
            <a:prstGeom prst="wedgeRoundRectCallout">
              <a:avLst>
                <a:gd name="adj1" fmla="val -4560"/>
                <a:gd name="adj2" fmla="val 152939"/>
                <a:gd name="adj3" fmla="val 16667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42080" y="2451240"/>
              <a:ext cx="74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Times New Roman"/>
                </a:rPr>
                <a:t>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17960" y="137160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62800" y="4251240"/>
              <a:ext cx="40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1066680" y="1442880"/>
              <a:ext cx="3781440" cy="3341160"/>
              <a:chOff x="1066680" y="1442880"/>
              <a:chExt cx="3781440" cy="3341160"/>
            </a:xfrm>
          </p:grpSpPr>
          <p:sp>
            <p:nvSpPr>
              <p:cNvPr id="231" name=""/>
              <p:cNvSpPr/>
              <p:nvPr/>
            </p:nvSpPr>
            <p:spPr>
              <a:xfrm flipV="1">
                <a:off x="1471680" y="1514160"/>
                <a:ext cx="1440" cy="281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71680" y="4324320"/>
                <a:ext cx="30398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741320" y="2595600"/>
                <a:ext cx="2567160" cy="1103400"/>
              </a:xfrm>
              <a:custGeom>
                <a:avLst/>
                <a:gdLst/>
                <a:ahLst/>
                <a:rect l="l" t="t" r="r" b="b"/>
                <a:pathLst>
                  <a:path w="1723" h="695">
                    <a:moveTo>
                      <a:pt x="0" y="0"/>
                    </a:moveTo>
                    <a:cubicBezTo>
                      <a:pt x="18" y="75"/>
                      <a:pt x="37" y="151"/>
                      <a:pt x="90" y="227"/>
                    </a:cubicBezTo>
                    <a:cubicBezTo>
                      <a:pt x="143" y="303"/>
                      <a:pt x="226" y="394"/>
                      <a:pt x="317" y="454"/>
                    </a:cubicBezTo>
                    <a:cubicBezTo>
                      <a:pt x="408" y="514"/>
                      <a:pt x="507" y="552"/>
                      <a:pt x="635" y="590"/>
                    </a:cubicBezTo>
                    <a:cubicBezTo>
                      <a:pt x="763" y="628"/>
                      <a:pt x="907" y="665"/>
                      <a:pt x="1088" y="680"/>
                    </a:cubicBezTo>
                    <a:cubicBezTo>
                      <a:pt x="1269" y="695"/>
                      <a:pt x="1610" y="680"/>
                      <a:pt x="1723" y="68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227400" y="2235240"/>
                <a:ext cx="1012680" cy="647640"/>
              </a:xfrm>
              <a:prstGeom prst="wedgeRoundRectCallout">
                <a:avLst>
                  <a:gd name="adj1" fmla="val -15296"/>
                  <a:gd name="adj2" fmla="val 170833"/>
                  <a:gd name="adj3" fmla="val 16667"/>
                </a:avLst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430440" y="2308320"/>
                <a:ext cx="676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M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066680" y="1442880"/>
                <a:ext cx="40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443480" y="4324320"/>
                <a:ext cx="40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133640" y="4324320"/>
                <a:ext cx="26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5121360" y="4251240"/>
              <a:ext cx="26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074600" y="4748040"/>
            <a:ext cx="774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инимально эффективный выпуск 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ME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– это такой объем производства, при котором положительный эффект масштаба сменяется на постоянный эффект масштаба (в случае 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L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ной функции издержек), или на отрицательный эффект масштаба (в случае </a:t>
            </a:r>
            <a:r>
              <a:rPr b="0" i="1" lang="lv-LV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ной функции издержек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15BF-2DE3-4AEB-99BA-3BEE624E4E2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011240" y="228600"/>
            <a:ext cx="767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221304"/>
                </a:solidFill>
                <a:latin typeface="Times New Roman"/>
              </a:rPr>
              <a:t>Количество фирм, действующих в отрасл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17720" y="1371600"/>
            <a:ext cx="7669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личество фирм (</a:t>
            </a: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действующих в отрасли в состоянии долгосрочного равновесия, можно определить отношением объема рыночного спроса при цене, равной минимальному значению долгосрочных средних издержек (</a:t>
            </a: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lv-LV" sz="2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(P=minLRAC)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к 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MES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разумеется, при допущении, что производственная функция и структура издержек у всех фирм в отрасли идентичны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5960" y="3214800"/>
            <a:ext cx="85280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3581280" y="5486400"/>
                <a:ext cx="35593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RA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AB4C-44BA-44C4-A411-B534D756C3F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914400" y="533520"/>
            <a:ext cx="797400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число фирм в отрасли окажется больше </a:t>
            </a:r>
            <a:r>
              <a:rPr b="0" i="1" lang="lv-LV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часть из них будет производить продукцию с издержками, превышающими минимальные значения долгосрочных средних издержек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ценовая конкуренция приведет к снижению цены до уровня минимальных средних издержек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часть фирм, оказавшись убыточными, вынуждены будут оставить отрасль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им образом, положительный эффект масштаба является барьером входа в отрасль, однако для  определения «высоты» барьеров необходима информация о разнице в уровнях средних издержек у крупных и малых фирм в отрасл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E19D-A00C-49A8-A220-D911A0851941}" type="slidenum">
              <a:t>19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 fill="hold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332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1. Отраслевые барьеры и их классификация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ход новых фирм – это существенная характеристика отрасли, влияющая на её развит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ожительная экономическая прибыль в равновесии является стимулом к входу в отрасль новых фир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4410-58E1-4E86-9D09-6645DCFD073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399600"/>
            <a:ext cx="78483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Ограниченность спроса (ёмкость рынка)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Ёмкость рынка как барьер входа включает в себя следующие фактор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сокая насыщенность рынка товарам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изкая платёжеспособность населен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ие иностранных конкурен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74C6-D886-41E2-9E1C-3A3B4E30F20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9640" y="24912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арьеры капитальных затрат или объёмы первоначальных инвестиций, необходимых для входа на рынок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79640" y="1671480"/>
            <a:ext cx="77724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ъёмы первоначальных инвестиций определяют саму возможность или невозможность организации нового производства в отрасл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реди капитальных затрат следует выделить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атраты на освоение выпуска данного товара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оимость нового строительства и технического перевооружения действующих мощностей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сходы на НИОКР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дготовка и найм персонала, организация сбытовой сети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лительность освоения производств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4DEB-9F4D-4DF8-BF21-2846E2731D6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200240" y="720360"/>
            <a:ext cx="7619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а капитальных затрат зависит от таких факторов, как степень развитости, организованности и открытости рынков ресурсов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ка труда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ка инвестиционных товаров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ка технологий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ка капитал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05AF-9000-4970-80F2-CAC4F7D3A0F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Состояние инфраструктуры рынка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стояние инфраструктуры рынка определяется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стоянием транспортной системы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щностью складской базы, - складов, необходимых на всем пути продвижения товара от производителя до конечного потребител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достаточность инфраструктурных составляющих следует рассматривать как высокие барьеры входа в отрасл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A4BA-6B75-4B73-A376-D341DBBFC3A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680" y="317160"/>
            <a:ext cx="7772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Административные барьеры</a:t>
            </a:r>
            <a:r>
              <a:rPr b="0" lang="ru-RU" sz="26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79280" y="947880"/>
            <a:ext cx="784836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Создаются органами государственной власти различных уровней и включают в себя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лицензирование деятельности предприятий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квотирование производства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усложнённый порядок регистрации новых предприятий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сертификацию продукции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процедуру отвода земельных участков под промышленное строительство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наличие неформальных отношений между органами государственной власти и предприятиями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экологические нормы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ограничения на использование земель, лесных угодий, недр, запасов полезных ископаемых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9249-CF0A-4AD1-8FBF-3D842263A4C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Криминализация экономик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Если для ведения дела предпринимателю требуется “крыша”, некое неофициальное прикрытие со стороны криминальных структур, то расходы на поддержание подобного рода отношений составляют значительные барьеры вход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D55F-E123-4F8D-956D-B7D17EFE021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720" y="50004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3. Стратегические барьеры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47600" y="1440000"/>
            <a:ext cx="777240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атегические барьеры сознательно создаются фирмами, действующими в отрасли, что является инструментом их стратегического поведения, препятствующим новым участникам входу в отрасль. К ним можно отнести такие мероприятия фирм, как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сурсосберегающие инновац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лгосрочные контракты с поставщиками ресурсов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учение лицензий и патентов на определенный вид деятельност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хранение незагруженных мощностей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величение затрат на рекламу и НИОКР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держки по созданию имиджа и фир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E721-C686-424E-8B88-B6C9A6E1A01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атегические барьеры входа, проявляющиеся в виде стратегического поведения, можно разделить на ценовые и неценовые (дополнительные инвестиции в оборудование, дифференциация продукта, долгосрочные контракты, вертикальная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теграция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70F4-B40E-48AE-AB11-AE4CA83A01C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9640" y="304920"/>
            <a:ext cx="783576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Ценообразование, ограничивающее вход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66680" y="1079280"/>
            <a:ext cx="77724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Фирмы, уже действующие в отрасли, зная отраслевой спрос и отраслевое предложение могут назначить такую цену, которая ограничит появление новых конкурентов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Такие барьеры получили название “ценообразование, ограничивающее вход” и сводятся к установлению действующими фирмами цен ниже уровня, обеспечивающего им  максимизацию прибыли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Фирмам, которые проводят такую политику, приходится делать выбор между сокращением своей краткосрочной прибыли в результате снижения цен и потерей долгосрочной прибыли в результате входа на рынок новых участников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C867-5AB2-4A00-8F5E-D894A92756D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680" y="35676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ценовые стратегии создания барьеров в отрасли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47600" y="1465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Если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– уровень монопольной прибыли старой фирмы, действующей в отрасли в условиях отсутствия потенциального конкурента, А – расходы на проведение неценовых стратегий по созданию барьеров,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– ожидаемая прибыль новой фирмы в случае её проникновения на рынок, то старая фирма будет делать вложения по созданию неценовых барьеров только тогда, когда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– А &gt;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–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, то есть выгода барьеров превышает угрозу снижения прибыли в результате конкуренции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9A8E-A2DD-4EEB-BB08-932EA4ED820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3603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Значение входа новых фирм в отрасль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79640" y="119808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 появления новых фирм в отрасли уровни прибыльности и цен возвращаются к их долгосрочному конкурентному значен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ход новых фирм рассматривается как фактор технологических изменений в отрасл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им образом, наличие отраслевых барьеров определяет динамику экономического роста и благосостояния насе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жение барьеров или их предотвращение становится элементом конкурентной политики государ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0B24-AFFB-44E7-B69B-9BDBAC37368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Дополнительное инвестирование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полнительные инвестиции в оборудование для новой фирмы можно рассматривать как необратимые издержки. Фирма вынуждена их оплачивать, даже не выпуская продук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действующая фирма обладает избыточными производственными мощностями, по сравнению с величиной спроса, то при угрозе появления нового конкурента, она может увеличить объем выпуска до уровня, ограничивающего   вход. При этом новая фирма потеряет величину необратимых издерже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1646-A720-4165-97C3-F03B1EBF6A6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Дифференциация продукта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йствующие на рынке фирмы для предотвращения входа новых фирм могут  наполнить рынок значительным количеством товаров-заменителей, чтобы потенциальным конкурентам было труднее в этом изобилии найти свою ниш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вою очередь новая фирма будет вынуждена увеличивать свои расходы на рекламу, тем самым минимальный объем выпуска в отрасли, необходимый для организации эффективного производства возрастает, а ожидаемая прибыль понижает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4F41-BD40-4E5B-9D27-3267532CA340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43000" y="22860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Долгосрочные контрак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4300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госрочные контракты с третьими лицами, в частности, с поставщиками ресурсов, потребителями товаров, а также с работниками отрасли (например, с отраслевым профсоюзом) ограничивают возможности потенциальных конкурентов найти поставщиков ресурсов, рынки сбыта и т.д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49C0-5F5C-4C77-A928-368E2D7A6BDB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ертикальная интеграция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47600" y="143964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ртикальная интеграция представляет собой процесс объединения в рамках одной фирмы более одной стадии производства конечной продукци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ртикально интегрированная фирма, в отличие от неинтегрированной фирмы, избавлена от необходимости заключать контракты с поставщиками и покупателями – представителями смежных производственных стадий. Тем самым, у вертикально интегрированной фирмы снижаются трансакционные издержк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неинтегрированных производителей такие контракты, в которых кроме цен оговариваются вопросы особых условий поставки, особых условий реализации продукции и другие условия,  выступают как вертикальные ограниче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FC97-9372-4931-9603-4F3DCE74E8F8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680" y="3556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роблемы, связанные со стратегическими барьерами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79640" y="1439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еализация стратегических барьеров на практике связана с рядом пробле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ак, при проведении политики ценообразования, ограничивающего вход новых участников на рынок, действующие на рынке фирмы должны правильно оценить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держки производства в отношении действующих фирм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держки производства в отношении потенциальных конкурентов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словия спроса и, прежде всего, ценовую эластичность  спрос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91BC-E4A1-4E30-9D8B-9A6B69C07B5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1731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Необходимость поддержания в отрасли определённого объема выпуска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47600" y="1439640"/>
            <a:ext cx="777240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Ценообразование, ограничивающее вход в отрасль будет эффективным только в случае поддержания в отрасли определённого объема выпуск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условиях невозможности согласованной деятельности маловероятно обеспечить равенство отраслевого выпуска уровню, ограничивающему вход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иксирование рыночных долей участников отрасли затруднительно, из-за различий в уровнях издержек производства, и изменениями спроса с течением времен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451D-6E64-41F5-9A67-9986C06A7FA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Непредсказуемость конкурен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68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явление в отрасли новых участников может повлечь сокращение объемов выпуска уже действующих фирм, особенно если в отрасль входит не новичок в предпринимательстве, а крупный диверсифицированный концерн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таком случае исход конкуренции, вплоть до ценовых войн – непредсказуе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8846-81D8-4A55-80D9-54A78D90E89E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Ускоряющиеся технологические иннова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коряющиеся технологические инновации позволяют новым фирмам снизить издержки производства. Данный фактор не позволяет действующим фирмам адекватно оценить ценовые ориентиры, то есть возможна переоценка уровня издерже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912D-CD2C-4843-BD19-D5C4B668D3E6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9640" y="36036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«Поведение безбилетника»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47600" y="1800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кольку успешная реализация стратегических барьеров оказывает положительный эффект на всех участников отрасли, вне зависимости от того чьими усилиями и средствами она была обеспечена, фирмы не свободны от искушения воспользоваться результатами “чужих” барьер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2665-A829-48EA-B391-11FF80A48752}" type="slidenum">
              <a:t>38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Барьеры вход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7600" y="1290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рьеры входа - все факторы объективного или субъективного характера, которые препятствуют новым фирмам организовать рентабельное производство в отрас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ие формальной возможности организовать производство в большинстве отраслей еще не означает отсутствие барьеров вхо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2B67-9257-453D-B034-D167875C36E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31896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ричины барьеров входа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7600" y="117324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собенности отрасли или рынка (технология производства, стартовые и текущие затраты, объём спроса, зрелость и развитость рынка, тип конкуренции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ведение хозяйствующих субъектов (антиконкурентные действий и соглашения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ействия органов государственной власти (лицензирование, налогообложение, фиксация цен,  государственная помощь отдельным субъектам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ругие причины (сужение географических границ рынка вследствие роста транспортных расходов, возрастание международной конкуренции в условиях ограниченного спроса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49F1-71FC-4860-8AD9-EADBAF979D6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Барьеры выход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арьеры выхода  объективные или субъективные факторы, которые препятствуют фирме уйти из отрасли без существенных потерь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арьеры выхода связаны с, так называемыми, необратимыми издержками, которые делают невозможным уход фирмы из отрасли без потерь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92C1-E3AC-43BF-AAA0-16595BF47A1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0360" y="304920"/>
            <a:ext cx="71992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Барьеры выхода связаны со структурными характеристиками того или иного вида хозяйственной деятельности, такими как: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361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ликвидность активов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озможность диверсификации производства с использованием имеющегося оборудования, технологий, источников сырья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мкнутость и связанность технологических цепочек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7513-45A2-42F9-83C1-15D312D7425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Барьеры выхода - составная часть барьеров вход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арьеры выхода увеличивают риск хозяйствования в отрасли, а значит создают дополнительные барьеры входа в отрасль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фирма знает, что уйти из отрасли без значительных потерь невозможно, то это может оказать влияние на её решение входа в отрасл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аким образом, барьеры выхода следует рассматривать как составную часть отраслевых барьеров, препятствующих входу в отрасл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F041-65CD-4C9E-AD56-BACD2DF9F8B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29808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Барьеры входа и выхода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076400" y="1571760"/>
            <a:ext cx="7466040" cy="4521240"/>
            <a:chOff x="1076400" y="1571760"/>
            <a:chExt cx="7466040" cy="4521240"/>
          </a:xfrm>
        </p:grpSpPr>
        <p:sp>
          <p:nvSpPr>
            <p:cNvPr id="141" name=""/>
            <p:cNvSpPr/>
            <p:nvPr/>
          </p:nvSpPr>
          <p:spPr>
            <a:xfrm>
              <a:off x="1076400" y="1571760"/>
              <a:ext cx="7466040" cy="452124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2" name=""/>
            <p:cNvCxnSpPr>
              <a:stCxn id="143" idx="0"/>
              <a:endCxn id="144" idx="2"/>
            </p:cNvCxnSpPr>
            <p:nvPr/>
          </p:nvCxnSpPr>
          <p:spPr>
            <a:xfrm flipV="1">
              <a:off x="6819480" y="4858920"/>
              <a:ext cx="252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45" name=""/>
            <p:cNvCxnSpPr>
              <a:stCxn id="146" idx="0"/>
              <a:endCxn id="147" idx="2"/>
            </p:cNvCxnSpPr>
            <p:nvPr/>
          </p:nvCxnSpPr>
          <p:spPr>
            <a:xfrm flipV="1">
              <a:off x="2798280" y="4858920"/>
              <a:ext cx="252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48" name=""/>
            <p:cNvCxnSpPr>
              <a:stCxn id="144" idx="0"/>
              <a:endCxn id="149" idx="2"/>
            </p:cNvCxnSpPr>
            <p:nvPr/>
          </p:nvCxnSpPr>
          <p:spPr>
            <a:xfrm flipV="1">
              <a:off x="6819480" y="3625560"/>
              <a:ext cx="252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50" name=""/>
            <p:cNvCxnSpPr>
              <a:stCxn id="147" idx="0"/>
              <a:endCxn id="151" idx="2"/>
            </p:cNvCxnSpPr>
            <p:nvPr/>
          </p:nvCxnSpPr>
          <p:spPr>
            <a:xfrm flipV="1">
              <a:off x="2798280" y="3625560"/>
              <a:ext cx="252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52" name=""/>
            <p:cNvCxnSpPr>
              <a:stCxn id="149" idx="0"/>
              <a:endCxn id="153" idx="2"/>
            </p:cNvCxnSpPr>
            <p:nvPr/>
          </p:nvCxnSpPr>
          <p:spPr>
            <a:xfrm rot="10800000">
              <a:off x="4809240" y="2393280"/>
              <a:ext cx="201060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54" name=""/>
            <p:cNvCxnSpPr>
              <a:stCxn id="151" idx="0"/>
              <a:endCxn id="153" idx="2"/>
            </p:cNvCxnSpPr>
            <p:nvPr/>
          </p:nvCxnSpPr>
          <p:spPr>
            <a:xfrm flipV="1">
              <a:off x="2798280" y="2393640"/>
              <a:ext cx="201204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sp>
          <p:nvSpPr>
            <p:cNvPr id="153" name=""/>
            <p:cNvSpPr/>
            <p:nvPr/>
          </p:nvSpPr>
          <p:spPr>
            <a:xfrm>
              <a:off x="3086280" y="1571760"/>
              <a:ext cx="3446280" cy="822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ffcc"/>
              </a:solidFill>
              <a:miter/>
            </a:ln>
            <a:effectLst>
              <a:outerShdw dist="63504" dir="19383909" blurRad="0" rotWithShape="0">
                <a:srgbClr val="00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траслевые барьер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76400" y="2805120"/>
              <a:ext cx="3446280" cy="822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репятствуют входу 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на рынок новых фир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95800" y="2805120"/>
              <a:ext cx="3446640" cy="822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репятствуют выходу 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из отрасли без потер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76400" y="4037040"/>
              <a:ext cx="3446280" cy="822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нижают угрозы 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отенциальной конкуренци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95800" y="4037040"/>
              <a:ext cx="3446640" cy="8222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граничивают количество 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фирм  в отрасл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76400" y="5270400"/>
              <a:ext cx="3446280" cy="8226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Рост рыночной власт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95800" y="5270400"/>
              <a:ext cx="3446640" cy="819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Рост рыночной власт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82C6-9C2B-455C-8FB0-727054AE93C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cturer</cp:lastModifiedBy>
  <cp:revision>0</cp:revision>
  <dc:subject/>
  <dc:title>Анализ отраслевых барьеров в рыночной экономике</dc:title>
</cp:coreProperties>
</file>