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FDD1-0C58-4B4E-A451-3C469C00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E623-4B20-44CE-89AF-6D4F01B3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E2D-72E2-4A11-97B7-A74F8C52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25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1908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3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25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1908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2CE2-007A-4F7B-8953-90155DEC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8867-C7EB-451E-886F-BAA77DD2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2B9B-BE21-40EA-9E9F-DE533723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C12C-BC5F-4BAC-AFAC-3E02B393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2CAC-A7E0-4DB7-9C0A-AFF7679C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BE75-A8B4-41CA-B84B-B9144011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320" y="25416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-33984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DEE4-9FFD-4457-A897-B3245150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DA76-C372-4421-9BFD-5B00C49F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6EC1-F4C4-45CD-889F-0BA4EE8D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53AE-F58B-4F2F-88A6-78D6EAD0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A582-80FF-4D74-BC0B-607EE5EB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7822-7954-404E-A7CF-BBD9C64F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7EA6-F8AF-42E7-BA99-79DA79EF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25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1908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3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25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1908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C3D2-929A-4C19-AB01-CB8DE5D3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DD77-7744-428F-ABAC-C6EC3433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F9C8-F23F-4414-AE07-5CABE191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B3DF-8437-45BA-94F2-2FE24E7D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320" y="25416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-33984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D62F-B331-4CAC-BBCE-2422C5D2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1282-6A4D-45CB-A678-7A242C25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429B-43EB-42D0-B79C-E3446004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C85C-A762-4909-858C-B76EB4E4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480" y="615600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5320" y="6156000"/>
            <a:ext cx="2890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4320" y="615600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FA409-396E-4DA4-AC6D-BCB15E1202C9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91124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3160"/>
            <a:ext cx="19256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5720" y="6113160"/>
            <a:ext cx="28400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09920" y="6113160"/>
            <a:ext cx="18241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19C996E-63B5-4667-AFA0-A3D91CD0BF1B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38000"/>
            <a:ext cx="77216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егулирование отраслевых рынков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00000" y="1798560"/>
            <a:ext cx="79250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Цели отраслевой политики государ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Антимонопольная политика государств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Особенности антимонопольной политики в различных стран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1.Антимонопольная политика в странах 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2. Антимонопольная политика в Росс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3. Антимонопольная политика в СШ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C502-8568-454E-8CFD-867B62FF212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ассивная защитная отраслевая полити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800360"/>
            <a:ext cx="777240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ая цель  - борьба с монополиями, деятельность которых приводит к неэффективному размещению ресурсов и создает потери общественного благосостоя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антимонопольное регулирование, контроль над горизонтальными и вертикальными слияниями и поглощениям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15BC-ADD8-4F30-BA5C-CC91B36475F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39760"/>
            <a:ext cx="77724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образовательная пассивная отраслевая политика (концепция “благоприятного экономического климата”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234000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едполагает не просто ограничение и борьбу с монопольной властью, но и содействие конкретным типам экономической активности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, налоговые и финансовые льготы для мелких и средних предприятий не укладываются в рамки собственно антимонопольного регулирования, но безусловно содействуют развитию конкурен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C422-6B3A-4E73-8559-77D33824750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тивная защитная отраслевая политик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мероприятий, имеющих конкретную направленность, но  целях предотвращения тех или иных решений фирм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ром может послужить протекционистская внешнеторговая политика, оказывающая существенное воздействие на развитие отраслевых структу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79D1-02D9-4FC6-99A8-82D8334F516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Активная преобразовательная полити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мероприятий, имеющих как общее, так и конкретное направление, в том числе и воздействующих на решения экономических субъект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акова отраслевая политика в любой реформируемой экономике. Данная отраслевая политика оказывает наиболее существенное влияние - как положительное, так и отрицательное, - на развитие экономической системы в цело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7AA9-1AAD-4986-8BAC-03A1DB9BC50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17928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2. Цели антимонопольной политики государства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еспечение эффективности производства и распределения ресурсов в экономик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едотвращение или ликвидация нежелательных рыночных структур и нежелательного поведения экономических агенто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то есть таких ситуаций, которые рассматриваются как нарушающие общественное благосостояние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мощь одним группам экономических агентов за счёт других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например, содействие малым фирмам в их конкуренции с крупными, независимо от их эффективности, или фирмам одних отраслей по сравнению с другими сферами деятельности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AB35-BEAC-46A5-A133-15CF705A70B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7600" y="179280"/>
            <a:ext cx="77724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законные действий фирм согласно традиционной антимонопольной политик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171432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фиксирование продажных цен, тайное и явно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ограничения покупк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ограничения продаж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связанные продажи - продажа одного товара клиенту при условии, что он покупает какой-либо еще продукт данной фирм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) недобросовестная реклам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) недобросовестная маркировка товар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) вертикальные или горизонтальные ограничения конкурен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E75F-E9B5-40BC-9A0F-6C8AF613848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271440"/>
            <a:ext cx="77724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3. Особенности антимонопольной политики в различных странах.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1.Антимонопольная политика в странах ЕС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7600" y="2340000"/>
            <a:ext cx="777240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запрет монополий в Европе мало распространен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в основном происходит регулирование монополий и доминирующих фир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при проведении отраслевой политики активно используется концепция “эффективной конкуренции” - конкуренции, которая способствует структурной перестройке национальной экономи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EB3B-9EDC-4391-BD09-B3B98FF235D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10152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ой регулирующих мероприятий стран-членов Европейского Сообщества является Римский договор, который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7600" y="2033640"/>
            <a:ext cx="77724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ещает картели и другие ограничительные соглашения между фирмами (ст. 85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уждает злоупотребления доминирующим положением на рынке (ст. 8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усматривает регулирование слияний, запрет слияний, которые могут создать доминирующее положение для данной фирм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ещает государственную помощь фирмам, которая искажает торговлю между странами (ст. 9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F1F4-564E-4A85-ABEB-2EA4561E4B2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нтимонопольная политика в Латвии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1079280"/>
            <a:ext cx="774072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Цель государственной отраслевой политики Латвии - защита, сохранение и развитие свободной, честной и равной конкуренции в интересах общества во всех отраслях народного хозяйств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, ограничивая рыночную концентрацию и не допуская недобросовестной конкуренции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сновной регулирующий орган - Совет по конкуренци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сновные задачи Совета по конкуренции касаются надзора за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лоупотреблениями доминирующим положением на рынк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добросовестной конкуренцией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ияниями и объединениями, запрещенными  законом, другими нормативными актами и международными договора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граничением рыночной концентрац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CA63-865C-4DBF-A48B-1E475002C68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1584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Германии  органами проведения отраслевой политики являются:</a:t>
            </a:r>
            <a:endParaRPr b="0" lang="en-US" sz="2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99640" y="1079640"/>
            <a:ext cx="807732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нистерство экономики; федеральный орган по картелям; антимонопольный комитет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тролю подвергаются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бретения активов предприятия полностью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бретение долей акций фирмы, в размерах 25, 50 и более процент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ая сделка, в результате которой фирма приобретает прямой или косвенный контроль над предприятием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ая сделка, включая приобретение менее 25 процентов акций предприятия, если это дает возможность фирме-покупателю влиять на конкурентное поведение другой фир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рма (или группа фирм) рассматривается как доминирующая на рынке если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одной фирмы 1/3 рынк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рынка у трёх фирм не менее 50 процентов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рынка у пяти фирм не менее, чем 2/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C274-E0D7-4164-B747-4B7738B87F7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880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Основная функция государственной отраслевой политики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79640" y="1800360"/>
            <a:ext cx="7772400" cy="45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о определяет правила, по которым совершаются деловые операции экономических агентов, оказывает воздействие на потоки товаров и ресурсов в экономике, поддерживает или препятствует той или иной деятельности индивидов и институтов экономической систе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DDD8-492F-4363-84E3-917C125FF7B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Великобритании органами контроля при проведении антимонопольной политики являются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инистерство торговли и промышленности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итет по слияниям и монополиям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итет по свободной торговле (наблюдает за проведением конкурентной политики, проводит предварительное расследование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ритерием доминирования на рынке служит доля фирмы в 25 процентов рынк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A679-486C-4BDA-8B1C-D304CCCD3A8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45600"/>
            <a:ext cx="7772400" cy="10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Франции органами регулирования отраслевых структур являютс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иссия по конкуренци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истерство эконом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ко, в целом   “антимонопольную” политику Франции скорее можно назвать  “промонопольной”. Политика правительства направлена на стимулирование слияний, поощрение НИОКР, производство на экспорт, поскольку предполагается, что крупные предприятия могут способствовать развитию высоких технологий и повышению конкурентоспособности отечественных товаров как на внутреннем, так и на внешнем рын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13B0-003F-4512-8DA9-DF424F089BB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26496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3.1. Антимонопольная политика в России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вариант антимонопольного законодательства в России - закон “О конкуренции и ограничении монополистической деятельности на товарных рынках” - был принят в 1991 году.  Он базировался на принципах конкурентной политики, изложенных в Римском договоре ЕС (ст. 85 и 86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имонопольный орган - Государственный комитет Российской Федерации по антимонопольной политике и поддержке новых экономических структур (ГКАП),  а в настоящее время это Федеральная антимонопольная  служба (ФАС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B95B-0C9D-4FDE-AD76-2F098264921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ия фирмы, которые запрещаются антимонопольным законодательство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815328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ъятие товаров из обращения с целью создания или поддержания дефицита на рынке либо для повышения це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вязывание контрагенту условий договора, не выгодных для него или не относящихся к предмету договора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ключение в договор дискриминирующих условий, которые ставят контрагента в неравное положение по сравнению с другими экономическими субъектами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гласие заключить договор лишь при условии внесения в него положений, касающихся товаров, в которых потребитель не заинтересова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811A-8B83-4348-ADCD-5BCB63B8390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9640" y="3780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йствия фирмы, которые запрещаются антимонопольным законодательств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00000" y="124632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здание препятствий доступу на рынок или выходу с рынка другим фирмам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рушение установленного нормативными актами порядка ценообразования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становление монопольно высоких или монопольно низких це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кращение или прекращение производства товаров, на которые имеется спрос или заказы потребителей при наличии возможности их безубыточного производства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обоснованный отказ от заключения договора с отдельными покупателями при наличии возможности производства или поставки соответствующего товар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DAD-F1B5-44F7-8CCA-706532D208B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26496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 структуры товарного рынк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79280" y="1619280"/>
            <a:ext cx="759276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соответствии с различными значениями коэффициентов концентрации и индексов Герфиндаля-Хиршмана в России выделяются три типа рынка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 тип - высоко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70 проц. &lt; CR-3 &lt; 100 проц.; 2000 &lt; HHI &lt; 1000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I тип - умеренно 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45 проц. &lt; CR-3 &lt; 70 проц.; 1000 &lt; HHI &lt; 2000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II тип - низко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CR-3 &lt; 45 проц.; HHI &lt; 1000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BEC5-B672-4C14-8108-999484E0D98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806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высококонцентрированных рынков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440000"/>
            <a:ext cx="8001000" cy="50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разработка отраслевых программ демонополизации, контроль за их реализацией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онтроль за рыночным поведением хозяйствующих субъектов, имеющих на рынке определенного товара долю более 35%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ействия по предупреждению и пресечению монополистической деятельности хозяйствующих субъектов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ействия по снижению барьеров входа на товарные рынки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величение числа хозяйствующих субъектов, действующих на данном товарном рынке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запреты на слияния и создание объединений юридических лиц 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AB40-D7E1-4527-A821-AC9BA30C961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9640" y="179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умеренно концентрированных рынков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1619280"/>
            <a:ext cx="784836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блюдение за динамикой показателей концентрации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нтроль за деятельностью хозяйствующих субъектов, имеющих на рынке определенного товара долю более 35%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йствия, направленные на ограничение рыночного потенциала хозяйствующих субъектов, занимающих доминирующее положение на товарных рынках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лияние и создание объединений юридических лиц допускается, но при условии, что рыночный потенциал не увеличитс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7D5C-A6A2-4E37-976E-D84C9388AA1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4560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низкоконцентрированных рынков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79640" y="200484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блюдение за состоянием концентрации производства и товарного рын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1AFA-4325-45CC-B041-C966F406DC9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3.3. Антимонопольная политика в США.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Цель антимонопольной политики в США заключается в том, чтобы определять допустимость той или иной практики экономических агентов с точки зрения ее воздействия на конкуренцию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нтимонопольную политику в данной стране проводят федеральные и местные суды; антитрестовский отдел Министерства юстиции; Федеральная торговая комисс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7261-DE0B-40E0-B6CE-6A07FA8DC6A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05920"/>
            <a:ext cx="77724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ая причина необходимости государственной отраслевой и промышленной политики - провалы рынк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провалам рынк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ьная власть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шние эффект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возможность производства рыночной системой общественных благ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совершенство системы информа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321F-E2FE-4E07-878B-F07EEB54F20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87280" y="189000"/>
            <a:ext cx="77281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16000" y="1619280"/>
            <a:ext cx="7704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 Шермана (1890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предполагает запрет трестов, запрет практики монополизации торговли между штата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Антиконкурентные действия фирм трактуются в качестве объекта уголовного преступле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онополия здесь понимается как доминирующее положение фирмы на рынк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6400" y="1371600"/>
            <a:ext cx="5209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A1DA-D086-43C6-B69C-646773978D7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42920" y="189000"/>
            <a:ext cx="787248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т Клейтона (1914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делает акцент на поддержку конкурентной ситуации в цел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н запрещает слияния при угрозе конкуренции и направлен главным образом против горизонтальных слиян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2485-EC64-4A59-918C-24E6FEFF78B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42920" y="189000"/>
            <a:ext cx="787248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1981080"/>
            <a:ext cx="780444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т Робинсона-Пэтмана (1936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предполагает запрет ценовой дискриминации и уголовную ответственность за политику хищнических (грабительских) це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становление цены ниже уровня средних/предельных издержек с целью вытеснения конкурента с ры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06C7-5A29-4616-A48F-2E7C7BD5E0E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95280" y="38088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нтиконкурентные действий фирм согласно законодательной классификации СШ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1800360"/>
            <a:ext cx="794880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законные как таковые (незаконные по сути, на основании буквы закона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ти действия не обладают какими-либо достоинствами, позволяющими компенсировать их антиконкурентное воздействие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законные на основании правила разумности (духа закона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шения суда по данным действиям принимаются на основе сравнения и сопоставления положительных и отрицательных последствий антиконкурентного действ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8E71-E00E-4693-92D7-61F36602920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60360" y="539640"/>
            <a:ext cx="7559640" cy="61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первому виду (незаконные как таковые) относятся такие  виды взаимодействий фирм как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оризонтальное фиксирование цен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оризонтальный сговор о доле рынк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рупповой бойкот (согласованный отказ фирм торговать с третьей фирмой с целью вытеснения ее с рынка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оговоренность о взаимных продажах и закупках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вязанные продаж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еправильная информация о товар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 второму виду (несоответствующие духу закона) могут отнести такие действия, как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гулирование цен в рамках вертикальных контрактов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тказ в поставках со стороны одной отдельной фирмы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сключительное право покупки или продаж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B2D8-FDF3-4A37-98AC-30770D072A8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обой сферой действия отраслевой политики США является регулирование слияний и поглощений фир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2339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иконкурентным считается при индексе Герфиндаля-Хиршмана (HHI) от 1000 до 1800 каждая сделка, которая увеличивает индекс на более чем 100 пунктов; при индексе для отрасли более 1800 - сделка, которая может увеличить индекс на 50 и более пунктов. Если индекс Герфиндаля-Хиршмана меньше 1000, такой рынок считается слабо концентрированным и не регулирует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226D-167D-46AB-8E80-A2587D11317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66680" y="539640"/>
            <a:ext cx="780444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угим направлением государственной политики служит регулирование информационного обеспечения рын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добная проблема возникает в связи с наличием у фирм стимулов к искажению информации в тех случаях, когда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рудно проверить качество товар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фирмы выпускают экспериментальные товар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оисходят одноразовые продажи издел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овершаются спекулятивные операции краткосрочного характе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62BD-C9FC-4745-BACE-B3695E1EAAA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239760"/>
            <a:ext cx="77724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всех подобных ситуациях органы регулирования 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оказывают влияние на параметры поведения фирмы 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79640" y="197964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качества (обязательное установление, в частности, для пищевых продуктов и лекарств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упаковки: требования маркировки товара (обязательное указание ингредиентов издел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гарантии срока службы (устанавливаются для товаров длительного пользован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использования товара (обязательное приложение инструкции по пользованию товаром повышенной сложности с указанием того, что потребитель может и чего не должен делать с продуктом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67C2-C69A-4959-B167-4B97D30DF56B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щая цель государственной отраслевой полити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 проблем, связанных с провалами рынка, для повышения общественного благосостоя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4667-C758-4CBB-8EC9-C781C055F4A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ые задачи государственной отраслевой полити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тимизация поведения экономических агент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учшее функционирование общества в цел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BEF8-80EA-4B0A-BA1C-D4A5F95D855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стижение экономической эффективности общества возможно при наличии конкуренции, которая является средством создания среды, благоприятствующей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ю издержек производства, созданию новых продукт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х видов деятельн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х методов производства и организации, развития НИОКР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ического прогресса и инновац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FF92-AF14-4616-ABDE-47908C82BC5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тимизация поведения экономических агентов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раслевая политика должна создавать условия благоприятные для конкуренции такие как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вобода выхода и входа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имулы к инновациям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держка определенной степени соперничества между фирма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FD67-F0B2-438B-AC7B-FA639C7A1E2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ля лучшего функционирования общества необходимы: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9280" y="1793880"/>
            <a:ext cx="7592760" cy="54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национальной промышленност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ощь фирмам и отраслям в трудных ситуация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регион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занят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от иностранного капитал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малого и среднего бизнес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прав потребителе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ление правил добросовестной конкурен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7B40-45B7-4416-B414-7D9BD2965EA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74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ипы отраслевой политик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9246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1B46-965A-4D4D-92E5-A305E7AF61F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vgenij</cp:lastModifiedBy>
  <cp:revision>0</cp:revision>
  <dc:subject/>
  <dc:title>Регулирование отраслевых рынков </dc:title>
</cp:coreProperties>
</file>