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5.png" ContentType="image/png"/>
  <Override PartName="/ppt/media/image6.png" ContentType="image/png"/>
  <Override PartName="/ppt/media/image14.wmf" ContentType="image/x-wmf"/>
  <Override PartName="/ppt/media/image10.wmf" ContentType="image/x-wmf"/>
  <Override PartName="/ppt/media/image25.png" ContentType="image/png"/>
  <Override PartName="/ppt/media/image11.png" ContentType="image/png"/>
  <Override PartName="/ppt/media/image31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wmf" ContentType="image/x-wmf"/>
  <Override PartName="/ppt/media/image21.png" ContentType="image/png"/>
  <Override PartName="/ppt/media/image22.wmf" ContentType="image/x-wmf"/>
  <Override PartName="/ppt/media/image23.png" ContentType="image/png"/>
  <Override PartName="/ppt/media/image24.wmf" ContentType="image/x-wmf"/>
  <Override PartName="/ppt/media/image2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D5C9-2FAF-4C46-A029-145FF234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68D7-D905-4450-9A74-ACF91415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CBA8-25C4-44FE-B231-6FF95E7A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BDFD-AF31-41C9-ACF5-2A2BA5BD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324A-CE05-40B1-AF86-14AFF656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72E9-73AC-4894-B388-794642C4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D89C-1FA9-423F-A026-144B802E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429F-74A6-4ED3-8662-CD846C04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CCEC-3A64-4A31-A8EE-7AF5A05C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0C84-215F-4107-9105-98364837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0F19-2138-4B6F-90B5-BC7FFD01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90BC-8E97-4701-A257-204AB13B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88BE-AF44-4AA7-8ED7-6E0F2232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71FD-5DB8-4F02-BFA5-3B734C71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1851-A1EE-4867-8F63-566436F5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F256-2495-43E3-9B1B-B685451A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53AA-87C1-4F6E-BD5C-9D1C67F4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211D-6875-4135-BADA-47ED5FBD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0AF1-B711-4DFD-8A64-2C34F976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BFA2-150E-47D0-A855-CCF16913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E7FE-9B9A-4C88-8154-D060239B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21E3-7DFA-4A0C-9B1B-2D2BFA89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3407-F71D-42EA-AAF7-561D3AC5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8BC9-097B-471D-8A37-CC175707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minispir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minispir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2BB2-168A-4E69-AA6B-86EA1174CC48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B2BD-BD38-414E-A2EC-8D58FBFD3233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721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ма 2.  Методологические вопросы исследования структуры отраслевых рынков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7315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Рынок и рыночные структур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Концентрация продавцов на рынке и ее показате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Показатели монопольной вла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Структура рынка определяетс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м и размерами фир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ом продукци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гкостью входа на рыно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упностью информац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ычно в экономической литературе рассматривается четыре типа рыночных структур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ершенная конкурен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стическая конкурен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лигопол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олее детализированная характеристика рыночных структур по Штакельбергу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7724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Основные типы структур рынка продавц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7724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Фундаментальные предпосылки основных моделей рын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7724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Характеристика основных рыночных структур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69644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онцентрация продавцов на рынке и ее показател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ыночная концентрация отражает удельный вес отдельных участников рынка или отрас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ыночная концентрация определяется двумя основными параметрам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енностью продавцов на рынке (или производителей в отрасли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ением между ними рыночных долей (долей  в производстве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ень концентрации тем выше, чем меньше количество фирм на рынке (или в отрасли).  При одинаковом количестве фирм уровень концентрации будет тем выше, чем больше неравномерность в распределении между фирмами их до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Требования первого порядка </a:t>
            </a: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 показателям концентраци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концентрации не должен изменяться в зависимости от размера ры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концентрации должен легко рассчитываться и легко интерпретироватьс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ения индекса должны меняться в диапазоне от нуля до единицы, экстремальные значения должны соответствовать случаям совершенной конкуренции (значение близкое нулю) и монополии (значение равное единице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Требования второго порядка </a:t>
            </a: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азработаны на основе кривых концентрации, которые построены в координатах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бсцисса - кумулятивное число фирм, предварительно ранжированных по размеру от большей к меньшей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а - нарастающим итогом процент выпуска (или процент реализации) продукции, отражающий размеры фир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я рын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представляет собой систему отношений, в которой связи покупателей и продавцов столь свободны, что цены на один и тот же товар имеют тенденцию быстро выравниватьс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представляет собой совокупность покупателей и продавцов, взаимодействия которых приводит в итоге к возможности обмен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это механизм передачи прав собственност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совокупность экономических условий, при которых покупатели и продавцы взаимодействуют для осуществления взаимовыгодных торговых сделок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Кривые концентр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772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редположим для дальнейшей характеристики показателей концентрации, что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7724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концентрации - обратная величина к числу фирм в отрасл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3885840"/>
            <a:ext cx="6095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n - число фирм на рын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352680" y="1905120"/>
            <a:ext cx="244602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оэффициент концентрации- это сумма рыночных долей крупнейших фирм, действующих на рынке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4920" y="41148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рыночная доля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той фирм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ло фирм, для которых определяется этот показател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объем продаж фирм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ъем рыночных прода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505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1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Для измерения степени неравенства размеров фирм, действующих на рынке, используется показатель дисперсии рыночных долей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5867280" cy="1128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219320" y="4572000"/>
            <a:ext cx="70102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спользуется показатель и дисперсии логарифмов рыночных долей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777240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9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Герфиндаля-Хиршмана (HHI) определяется как сумма квадратов долей всех фирм. действующих на рынке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41144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рыночная доля фирм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ло фирм на рынке (в отрасли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объем продаж фирм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ъем рыночных продаж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38102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Герфиндаля-Хиршмана можно представить и в иной форме, с использованием коэффициента вариации (с) размеров фир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78483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399960"/>
            <a:ext cx="7848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Ханна и Кей предложили несколько критериев для оценки показателей рыночной концентраци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ы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ранжирование рынков (отраслей) с помощью кривых концентр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торо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принцип трансферта объема прода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ти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словие входа и вых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тверты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условие поглощения или слияния фирм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Ханна и Кея  аналогичен индексу Герфиндаля и Хиршмана, но позволяет присваивать различные веса фирмам отрасл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4920" y="38858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R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Ханна и Ке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α – положительная констан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ваемая исследователе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α=2 индекс Ханна и Кея совпадает с индексом Герфиндаля Хиршма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821040" y="2514600"/>
            <a:ext cx="1882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ынки можно классифицировать по следующим признака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объектам торговых сделок - товарные, факторов производства, денежные и т.д.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однородности товара - гомогенные и дифференцированные;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условиям функционирования - закрытые и открытые, организованные и стихийны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екс Джин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тистический показатель, основанный на кривой Лорен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Кривая Лоренц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ажает неравномерность распределения какого-либо признак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случая концентрации продавцов на рынке - взаимосвязь межд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ей рынка, подсчитанной нарастающим итогом (показываемой по ординате),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нтом фирм, обеспечивающих эту долю и ранжированных от мелких до крупных (представлены по абсциссе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иаграмма Лоренц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9528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екс Джини представляет собой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ношение площади, ограниченной фактической кривой Лоренца и кривой Лоренца для абсолютно равномерного распределения рыночных долей (так называемой “кривой абсолютного равенства”) к площади треугольника, ограниченного кривой Лоренца для абсолютно равномерного распределения долей и осями абсцисс и ордина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ричины того или иного уровн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рыночной концентр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менение концентрации может быть результатом как изменения числа продавцов, так и изменений в распределении их рыночных долей. Следовательн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акторами изменения структуры рынка – рыночной концентрации являются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ход на рынок новых участников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 с рынка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яния и поглощения фир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т объемов производства фи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 анализе отраслевых рынков важным являетс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татация состояния и изменений структуры рын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татация факторов, влияющих на структуру ры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ление первопричин, влияющих на  повышение или снижение концентрации продавцов на рынке или фирм в отрас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Два подхода в выявлении и объяснении причин изменения рыночной концентр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ерминистский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охастический (вероятностный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Детерминистский подхо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ходит из того, что в каждый данный момент должен существовать определенный равновесный уровень концентрации на рынке. Он определяется условиями спроса и предложения и поведением субъектов рынка, для которых наиболее существенными факторами являю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хнологические возможности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ффект масштаб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Эффект масштаба и рыночная концентрация при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U-образной кривой долгосрочных средних издержек</a:t>
            </a: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5257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D - спрос на продукцию конкурентной отрасл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LRAC1 - U-образная кривая долгосрочных средних издерже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746748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ервоначально в соответствии с эффектом масштаба, фирма выбирает объем производства равны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, при котором средние издержки минимальны. Тогда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8305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очная цена в условиях долгосрочного равновесия установится на уровн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= LAC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одновременно равной долгосрочным предельным издержкам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ровень рыночного спроса составит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= D(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е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конкурентных фирм будут работать при минимальных издержках производства, производить одинаковый объем продукции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каждой фирмы в отрасли будет равна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а уровень концентрации в отрасли будет равен 1/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n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Типы границ рынк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дуктов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тражают способность товаров заменять друг друга в потреблен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ременн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характеризуют исследуемый временной интервал, а также границы эксплуатации продаваемого това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кальн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пределяют пространственные границы рын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следствия изменений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в отрасли в результате технологических усовершенствований кривая долгосрочных средних издержек перемещается в положени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LRAC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оптимальный масштаб производства возрастет до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а рыночная цена снизится до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g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lt;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условии, что отношение оптимальных объемов производства до и после технологических изменений (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больше, чем отношение соответствующих размеров рынка (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, определяемое рыночным спросом, то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&g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уровень концентрации действительно возрастет, а количество фирм в отрасли уменьшитс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ущественные допущения, которым реальная ситуация может не соответствовать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-перв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экзогенно заданные условия спроса и издержки производства в реальной действительности могут быть переменны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-втор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образование более крупных фирм, в результате изменения минимально эффективного выпуска, при достаточно крупных размерах рынка, могут не повлечь за собой уменьшения общего количества фирм на рынк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третьи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рассматривает U-образную форму кривой долгосрочных средних издержек, хотя в действительности она часто имеет L-образную фор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ффект масштаба и рыночная концентрация пр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образной кривой долгосрочных средни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807732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ущественные допущения, которым реальная ситуация может не соответствовать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четверт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рассматривает только условия совершенной конкуренции. В условиях олигополии равновесная цена может быть выше конкурентной цены 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. Если на рынке олигополии установилась цена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gt;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о на рынке могут работать фирмы одинакового размера с объемами производства ниже минимально эффективного выпуска: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l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ак как их издержки окупаются при цен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пят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не учитывает распределение фирм по размерам, предполагая их одинаковость, что также далеко от реальност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тохастический (вероятностный) подхо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ходит из того, что влияние на уровень концентрации оказывают множество случайных факторов, действующих разнонаправле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оцесс Жибр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оится при следующих предпосылка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звитие каждой фирмы происходит в соответствии заданным вероятностным распределением пропорционального изменения объем выпуска продукци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данная вероятность пропорционального изменения не зависит от размера фирмы в текущий момент времен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Рассмотрим процесс Жибра на условном пример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ачальный момент времени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=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в отрасли действуют 256 фирм одинакового размера – мощностью 57600 единиц продукции в год каждая. Любая фирма мож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5 - сохранить свой размер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25 – увеличить свой размер в 16/15 раза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25 – уменьшить свой размер в 15/16 раз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менения в распределении размеров фирм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концу первого этапа  (t=1)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ловина фирм (128 из 256) сохраняют свой размер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етвертая часть фирм (64 из 256) уменьшают свой размер до 54000 (57600*15/16)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 столько же фирм (64 из 256) увеличивают свой размер до 61440 (57600*16/15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концу следующего этапа (при t=2) проце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олжается в отношении каждой фирмы пр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 же вероятностных распределен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ллюстрация изменения в распределении размеров фирм в несколько этапов процесса Жиб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92468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результате распределение фирм по размерам становится ассиметричным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-226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ьшие фирмы изменяются на большую абсолютную величину, чем меньши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рост мощностей составил 3840 (61440-57600) и 4096 (65536-6144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нижение мощностей составило 3600 (57600- 54000) и 3375 (54000-50625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ритерии для определения границ отраслевого рынка, предложенные Дж.Робинсон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границах одного отраслевого рынка рассматриваю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заменители товар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заменители заменителей товар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лее заменители очередных заменител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так до тех пор пока в цепи товаров-заменителей не обнаружится значительный разрыв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поставление двух метод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772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охастический подход придает большее значение распределению рыночных до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ерминистский подход больше акцентирует изменения числа фирм на рын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казатели рыночной власт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Бэйна  (норма экономической прибыли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Лернер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Тобина 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бин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Папандре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эффициент (индекс) Бейна (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54380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зывает экономическую прибыль на одну денежную единицу собственного капита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066680" y="2963880"/>
            <a:ext cx="777240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ндекс (коэффициент) Лерне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240" y="297180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монопольная цен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предельные издерж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ценовая эластичность спро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лучае монополии значение индекса Лернера приближается к единице, а в случае совершенной конкуренции этот показатель равен нул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8098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3996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евышение монопольной цены над предельными издержками 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зависимости от ценовой эластичности спрос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4952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ценовая эластичность спроса велика, то цена, которая максимизирует прибыль монополиста, будет лишь немного превышать предельные издержки – рис. 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нее эластичный рыночный спрос обеспечивает большую монопольную надбавку к конкурентной цене – рис. 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78168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ценовая эластичность спроса рав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-20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екс Лернера принимает значе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0.0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бавка составляет только 5% от цен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же ценовая эластичность спрос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-1,6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екс Лернера состави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0,62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бавка увеличится до 62,5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399960"/>
            <a:ext cx="784872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скольку в долгосрочном периоде в условиях равновесия предельные издержки (МС) равны средним (АС), то индекс Лернера можно определить и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5349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99960"/>
            <a:ext cx="762012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Лернера показывает также долю монопольной прибыли (П</a:t>
            </a:r>
            <a:r>
              <a:rPr b="1" lang="ru-RU" sz="3600" spc="-1" strike="noStrike" baseline="-25000">
                <a:solidFill>
                  <a:srgbClr val="221304"/>
                </a:solidFill>
                <a:latin typeface="Times New Roman"/>
              </a:rPr>
              <a:t>m</a:t>
            </a: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) от общей выручки (TR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464832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399600"/>
            <a:ext cx="830556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Модификации индекса Лернера для рынка олигополии ( если рынок описывается моделью Курно)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95280" y="51811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объем выпус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го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игополис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рыночный спро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69608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ножив второе слагаемое н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/p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затем на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ле несложных преобразований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лучим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7391520" cy="1143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447920" y="4594320"/>
            <a:ext cx="701028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качестве критериев определения границ отраслевого рынка Э.Чемберлин предложил коэффициенты перекрестной эластичности, а именно оценивается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заимозаменяемость товара - с помощью коэффициента перекрестной эластичности спроса на товар по цене товара-заменителя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заимозависимость фирм-производителей товара - с помощью коэффициента перекрестной эластичности цены данного товара по объему выпуска товара-заменителя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редний для отрасли индекс Лернера можно вычислить, умножив левую и правую части 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 и суммированием по всем фирмам отрасл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066680" y="2017800"/>
            <a:ext cx="7162920" cy="14698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219320" y="3581280"/>
            <a:ext cx="76197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 результате средний по отрасли индекс Лернера равен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75438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Коэффициент Тобина (q Тобина) связывает рыночную стоимость фирмы (измеряемой рыночной ценой ее акций) с восстановительной стоимостью ее активов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433680" y="2362320"/>
                <a:ext cx="2046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обина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36576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P- рыночная стоимость активов фирм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обычно определяется по курсу акций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- восстановительная стоимость актив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, равная сумме расходов, необходимых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приобретения активов фирмы по текущим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на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qТобина&gt; 1 - свидетельство полученной или ожидаемой положительной экономической прибыл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индекса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азируется на гипотезе эффективного финансового рын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 с высоким значением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бычно обладают уникальными факторами производства или выпускают уникальные товары, то есть для этих фирм характерно наличие монопольной рент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 с небольшими значениями </a:t>
            </a:r>
            <a:r>
              <a:rPr b="0" i="1" lang="en-GB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действуют в конкурентных или регулируемых отрасля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Коэффициент монопольной власти Папандреу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ывается на концепции перекрестной эластичности остаточного спроса на товар фир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ко сам по себе показатель перекрестной эластичности остаточного спроса не может служить показателем монопольной власти, так как его величина зависит от двух факторов, оказывающих противоположное влияние на монопольную власть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числа фирм на рынк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уровня заменимости товара рассматриваемого продавца и товаров других фир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еличение числа фирм на рынке приводит к снижению их взаимозависимости и соответствующему снижению показателя перекрестной эластичности остаточного спрос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Чем выше значения коэффициентов перекрестной эластичности, те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ее близкими заменителями, т.е. более однородными являются рассматриваемые товар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взаимозависимость фирм производител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одход антимонопольных комитетов ряда стран -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перекрестная эластичность спроса по цене становится меньше определенной заданной величины, считается, что в цепи товаров-заменителей имеет место разрыв, который является границей рын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азграничение между понятиями «рынок» и «отрасль»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ок объединен удовлетворяемой потребность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ок объединяет фирмы, предлагающие товары, являющиеся близкими заменителям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 точки зрения покупате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о стороны спроса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расль объединена производимыми продукт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расль объединяет фирмы, производящие продукты, являющиеся близкими заменителям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 точки зрения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о стороны предлож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5:56:02Z</dcterms:created>
  <dc:creator>Jevgenij</dc:creator>
  <dc:description/>
  <dc:language>en-US</dc:language>
  <cp:lastModifiedBy>Евгений</cp:lastModifiedBy>
  <dcterms:modified xsi:type="dcterms:W3CDTF">2008-09-17T10:06:28Z</dcterms:modified>
  <cp:revision>102</cp:revision>
  <dc:subject/>
  <dc:title>Заголовок слайда отсутствует</dc:title>
</cp:coreProperties>
</file>