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16.png" ContentType="image/png"/>
  <Override PartName="/ppt/media/image15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11.png" ContentType="image/png"/>
  <Override PartName="/ppt/media/image6.wmf" ContentType="image/x-wmf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13.wmf" ContentType="image/x-wmf"/>
  <Override PartName="/ppt/media/image9.wmf" ContentType="image/x-wmf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BA35-FFBE-430E-9410-0903419B8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C3CC-EA00-4EDC-BF2C-35297CD21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98FD-6C8B-4EA0-A0B3-1B86BAA50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3BDD-D505-4393-A2F9-70348FD01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A31ED-B24D-462A-B2DB-33A0B5466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3E021-FFCD-4372-B512-75BE1665D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CF363-8207-4DDC-8A27-B970AF43C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62F4F-FBDE-429A-96B1-560B44863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E1665-87EE-4B1F-82C1-B73DAEAC8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0EB39-56DC-48FE-AE41-D30259949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DC81B-4907-4A62-9411-B53A78E9F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1AC7-F1E9-46D0-9363-A6A30E283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976AB-418D-44C0-AC18-99AC48F2D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FF373-E621-42A2-887A-2575AA0DC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ECF78-6F9D-439E-981F-D630EA2C4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F8B5A-A77D-4A4F-9FEE-DBE8CBD5D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BE2F8-762D-4624-8103-9D1D7F8C0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5971-0735-4F98-BA98-7D5D69DA2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B03B-696D-4DAC-B140-C4BC01E1E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6671-CEDD-4298-8043-77DE520BA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A6C6-7222-461A-9615-4D4F8BF2C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8A56-D22E-494F-8FC1-A3582B717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5516-2BAB-483C-A76C-83461E8C5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8FBA-9165-4D79-93A1-B7EEB80D5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50760"/>
            <a:ext cx="8925840" cy="6743520"/>
            <a:chOff x="0" y="50760"/>
            <a:chExt cx="8925840" cy="6743520"/>
          </a:xfrm>
        </p:grpSpPr>
        <p:grpSp>
          <p:nvGrpSpPr>
            <p:cNvPr id="1" name=""/>
            <p:cNvGrpSpPr/>
            <p:nvPr/>
          </p:nvGrpSpPr>
          <p:grpSpPr>
            <a:xfrm>
              <a:off x="0" y="50760"/>
              <a:ext cx="8925840" cy="6743520"/>
              <a:chOff x="0" y="50760"/>
              <a:chExt cx="8925840" cy="6743520"/>
            </a:xfrm>
          </p:grpSpPr>
          <p:sp>
            <p:nvSpPr>
              <p:cNvPr id="2" name=""/>
              <p:cNvSpPr/>
              <p:nvPr/>
            </p:nvSpPr>
            <p:spPr>
              <a:xfrm>
                <a:off x="528840" y="201960"/>
                <a:ext cx="8397000" cy="6466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minispir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50760"/>
                <a:ext cx="1181160" cy="428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"/>
              <p:cNvSpPr/>
              <p:nvPr/>
            </p:nvSpPr>
            <p:spPr>
              <a:xfrm>
                <a:off x="596880" y="4129920"/>
                <a:ext cx="1041120" cy="456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" name="minispir" descr=""/>
              <p:cNvPicPr/>
              <p:nvPr/>
            </p:nvPicPr>
            <p:blipFill>
              <a:blip r:embed="rId3"/>
              <a:srcRect l="0" t="40000" r="0" b="0"/>
              <a:stretch/>
            </p:blipFill>
            <p:spPr>
              <a:xfrm>
                <a:off x="0" y="4222800"/>
                <a:ext cx="1181160" cy="2571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" name=""/>
            <p:cNvGrpSpPr/>
            <p:nvPr/>
          </p:nvGrpSpPr>
          <p:grpSpPr>
            <a:xfrm>
              <a:off x="1149120" y="1543680"/>
              <a:ext cx="7742520" cy="4800600"/>
              <a:chOff x="1149120" y="1543680"/>
              <a:chExt cx="7742520" cy="4800600"/>
            </a:xfrm>
          </p:grpSpPr>
          <p:sp>
            <p:nvSpPr>
              <p:cNvPr id="7" name=""/>
              <p:cNvSpPr/>
              <p:nvPr/>
            </p:nvSpPr>
            <p:spPr>
              <a:xfrm>
                <a:off x="1149120" y="1543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1149120" y="1772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149120" y="20005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1149120" y="2229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149120" y="2458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149120" y="26863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1149120" y="2915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1149120" y="3143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149120" y="33721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49120" y="3601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149120" y="3829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1149120" y="40579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149120" y="4286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149120" y="4515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149120" y="47437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149120" y="4972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49120" y="5201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1149120" y="54295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1149120" y="5658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1149120" y="5887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149120" y="61153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149120" y="6344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body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 type="dt" idx="1"/>
          </p:nvPr>
        </p:nvSpPr>
        <p:spPr>
          <a:xfrm>
            <a:off x="104112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 type="ftr" idx="2"/>
          </p:nvPr>
        </p:nvSpPr>
        <p:spPr>
          <a:xfrm>
            <a:off x="350496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 type="sldNum" idx="3"/>
          </p:nvPr>
        </p:nvSpPr>
        <p:spPr>
          <a:xfrm>
            <a:off x="693396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FDD4C-0BAE-4FCA-B7B8-597B95B0E7B9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minispir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minispir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dt" idx="4"/>
          </p:nvPr>
        </p:nvSpPr>
        <p:spPr>
          <a:xfrm>
            <a:off x="1117080" y="6114600"/>
            <a:ext cx="193068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ftr" idx="5"/>
          </p:nvPr>
        </p:nvSpPr>
        <p:spPr>
          <a:xfrm>
            <a:off x="3556080" y="611460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sldNum" idx="6"/>
          </p:nvPr>
        </p:nvSpPr>
        <p:spPr>
          <a:xfrm>
            <a:off x="7010280" y="611460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24F8D-C98D-4530-98E4-44A70A48DD57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456840"/>
            <a:ext cx="77216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Оценка</a:t>
            </a:r>
            <a:r>
              <a:rPr b="1" lang="lv-LV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отерь</a:t>
            </a:r>
            <a:r>
              <a:rPr b="1" lang="lv-LV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благосостояния</a:t>
            </a:r>
            <a:r>
              <a:rPr b="1" lang="lv-LV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lang="lv-LV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результате</a:t>
            </a:r>
            <a:r>
              <a:rPr b="1" lang="lv-LV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деятельности</a:t>
            </a:r>
            <a:r>
              <a:rPr b="1" lang="lv-LV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монополии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9144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аксимизация</a:t>
            </a: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ибыли</a:t>
            </a: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онополист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тери</a:t>
            </a: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благосостояния</a:t>
            </a: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озникающие</a:t>
            </a: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следствие</a:t>
            </a: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онополиза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льтернативные</a:t>
            </a: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здержки</a:t>
            </a: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онополиза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4. X-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еэффективность</a:t>
            </a: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 X-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эффективность</a:t>
            </a: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онопол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пособы</a:t>
            </a: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здания</a:t>
            </a: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ддержания</a:t>
            </a: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онополии</a:t>
            </a: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трасли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Взаимосвязь предельного дохода и цены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7315200" cy="15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еобразуем  выражение предельной выручки (МR) как первой производной совокупной выручки (TR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219320" y="3200400"/>
            <a:ext cx="7086600" cy="32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Взаимосвязь предельного дохода и цены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43000" y="1676520"/>
            <a:ext cx="6400800" cy="15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скольку, по условию максимизации прибыли MR=MC, выражение можно преобразовать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219320" y="3627360"/>
            <a:ext cx="7619760" cy="21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92468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221304"/>
                </a:solidFill>
                <a:latin typeface="Times New Roman"/>
              </a:rPr>
              <a:t>Взаимосвязь предельного дохода и цены</a:t>
            </a:r>
            <a:endParaRPr b="0" lang="en-US" sz="3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оскольку Ed &lt; -1 (спрос эластичен), цена монополиста всегда будет больше его предельных издержек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онополист будет действовать только на эластичном участке кривой спроса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Надбавка к предельным издержкам в цене будет  тем меньше, чем выше эластичность спроса, т.е. превышение цены над предельными издержками находится в обратной зависимости от эластичности спроса по цене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733920" y="5486400"/>
            <a:ext cx="25398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221304"/>
                </a:solidFill>
                <a:latin typeface="Times New Roman"/>
              </a:rPr>
              <a:t>Взаимосвязь предельного дохода и цены</a:t>
            </a:r>
            <a:endParaRPr b="0" lang="en-US" sz="3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анное выражение представляет собой индекс Лернера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к видно из этого показателя, если спрос чрезвычайно эластичен, то цена будет близка к предельным издержкам, и, следовательно, монополизированный рынок будет похож на рынок совершенной конкуренци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Потери благосостояния, возникающие вследствие монополизации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 условиях свободной конкуренции достигается оптимальное (по Парето) размещение ресурсов между альтернативными возможностями использования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Когда же рынок монополизирован, условие равенства цен предельным издержкам не выполняется, так как цена монополии всегда выше предельных издержек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Это приводит неэффективному распределению ресурсов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о сравнению с рынком свободной конкуренции рынок монополии приводит к определенным потерям благосостояния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80880"/>
            <a:ext cx="807732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Потери благосостояния от монополизации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1239840"/>
            <a:ext cx="7543800" cy="55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Потери благосостояния от монополизации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680" y="14475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сли бы в отрасли была совершенная конкуренция, то объем выпуска отрасли достиг бы значения Qc - величины, соответствующей условию равенства цены предельным издержкам. А цена была бы равна Рc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условиях монополии объем производства в отрасли соответствует значению Qm - такому, когда предельная выручка монополиста равна его предельным издержкам. А монопольная цена составляет Р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Потери благосостояния от монополизации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7720" y="18288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аким образом, в результате  монополизации отрасли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сокращаются объёмы выпуска и объемы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даж (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Qm&lt;Qc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)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повышается рыночная цена (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&gt;P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потребительский излишек сокращается на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еличину, равную площади фигуры 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РmРсС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Графическое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редставление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отребительского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излишка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лощадь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граниченная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ривой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проса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рдинатой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инией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екции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еличины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проса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рдинату</a:t>
            </a:r>
            <a:r>
              <a:rPr b="0" lang="lv-LV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отери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отребительского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излишка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6668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лощадь фигуры РmРсСМ - совокупные потери потребителей от монополии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Часть потребительского излишка (величина РmРсЕМ) превращается в монопольную прибыль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Другая часть (величина МЕС) представляет собой чистые потери потребителей от монополии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Чистые потери от монополии называют также "омертвленными затратами" или "мертвым грузом" монополии (DWL)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Эти потери, утраченные потребителями, не достаются никому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Определение монополии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онополия - это такой тип рынка, на котором только одна фирма является продавцом товара на который не существует близких заменителей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условиях чистой монополии отрасль состоит из одной фирмы, то есть понятия «фирма» и «отрасль» совпадают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Величина чистых потерь от монополии в общем виде при нелинейных функциях спроса и предельной выручки  определяется как: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19320" y="4038480"/>
            <a:ext cx="71625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д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d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- обратная функция  спроса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C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- функция предельных  издержек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309680" y="1771560"/>
            <a:ext cx="698040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В случае линейных функций спроса и предельной выручки величину чистых потерь от монополии можно определить по формуле: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066680" y="1905120"/>
            <a:ext cx="7620120" cy="66672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66320" y="3352680"/>
            <a:ext cx="7543800" cy="26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еличина мертвого груза монополии зависит от того, насколько действия монополиста повышают цену и сокращают объем продаж по сравнению с рынком совершенной конкуренци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Чистые потери от монополизации можно выразить также через индекс Лернера (L)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Эластичность спроса по цене определяется по формуле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Ed= -(ΔQ/Qm)*(Pm/ΔP),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з данной формулы получим зависимость сокращения объема продаж от ценовой эластичности спрос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ΔQ= -Ed*Qm*(ΔP/P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Тогда мертвый груз монополии в зависимости от ценовой эластичноcти спроса  можно выразить как: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39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DWL = 0,5*Ed*Qm*(ΔP/Pm)*Δ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Умножив выражение на Pm/Pm, получим: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6324840" cy="192564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1371600" y="4648320"/>
            <a:ext cx="716292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Таким образом, мы получим зависимость мертвых потерь от общей выручки монополии и индекса Лернера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251424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DWL = 0,5 *Ed*TR *L</a:t>
            </a:r>
            <a:r>
              <a:rPr b="0" i="1" lang="ru-RU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Чистые потери от монопольной власти тем выше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чем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: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ше эластичность спроса при цене, которую назначает монополист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ше общая выручка монополиста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ше индекс Лернера монопольной власти, отражающий долю прибыли в цене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Эмпирические исследования</a:t>
            </a:r>
            <a:br>
              <a:rPr sz="3200"/>
            </a:b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величины чистых потерь от монополизации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 оценкам Харбергера, чистые потери от монополизации в обрабатывающей промышленности США в 1954 году составили около 0,1% ВНП СШ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 оценкам Камершена в начале 60-х годов чистые потери от монополизации составляли 6% ВНП СШ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сследования Коулинга и Мюллера показали, что в 1978 г. чистые потери от монополизации составляли 4% ВНП США и приблизительно 10% ВНП Великобритани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66680" y="399960"/>
            <a:ext cx="777240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ичины заниженных результатов Харбергера: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90360" y="1371600"/>
            <a:ext cx="78483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Харбергер при вычислениях принимал эластичность спроса равной 1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отери благосостояния вычислялись Харбергером только для обрабатывающей промышленности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еличина ΔР – изменение цены – принималась на уровне отклонения норм доходности исследуемой отрасли от средней по промышленности, которая разумеется выше, чем в конкурентных отраслях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редполагалось, что все фирмы продают товар конечным потребителям. Но монопольная власть может возникать благодаря созданию вертикально интегрированных фирм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Факторы, неучтённые в исследованиях величины чистых потерь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784836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ежотраслевое взаимодействие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Исследование мертвого груза ограничивается только рынком, где господствует монополия, без учета взаимного влияния отраслей друг на друга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ффект дохода.                                              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ри повышении цен монополистом возникает отрицательный эффект дохода для потребителей. Реальные доходы покупателей сокращаются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Основные причины возникновения монополий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Конкурентное противоборство приводит к тому что крупные фирмы вытесняют из отрасли или поглощают малые фирмы, в результате отрасль становится более монополизированной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Научно-технический прогресс приводит к монополизации отрасли, поскольку, внедрение новых технологий требует дополнительных затрат, и кроме того, увеличивается минимально эффективный объём производства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 ХХ веке стали быстро развиваться типы долевой и общественной собственности (ООО, АО), что позволяет привлечь дополнительные финансовые ресурсы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221304"/>
                </a:solidFill>
                <a:latin typeface="Times New Roman"/>
              </a:rPr>
              <a:t>Факторы, неучтённые в исследованиях величины чистых потерь</a:t>
            </a:r>
            <a:endParaRPr b="0" lang="en-US" sz="3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040" y="1219320"/>
            <a:ext cx="80010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зменение предельной полезности денег.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оскольку, сокращение потребительского излишка в результате монополизации рынка частично превращается в монопольную прибыль, монополист становится богаче, а потребитель беднее и одинаковая денежная единица приносит монополисту меньшую предельную полезность, чем потребителю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ведение монополиста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 исследованиях предполагалось, что поведение монополиста в отношении качества продукта, видов продукта и методов ценообразования такое же, что и у фирмы на рынке совершенной конкуренции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Поведение монополиста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2640" y="137160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онополист может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роводить совершенную дискриминацию по цене. В таком случае потребительский излишек полностью превратится в монопольную прибыль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тратить огромные суммы на рекламу или излишнюю дифференциацию продукции, что следует рассматривать как растрату ресурсов, имеющих альтернативное производственное применение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роводить политику создания стратегических барьеров входа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221304"/>
                </a:solidFill>
                <a:latin typeface="Times New Roman"/>
              </a:rPr>
              <a:t>Факторы, неучтённые в исследованиях величины чистых потерь</a:t>
            </a:r>
            <a:endParaRPr b="0" lang="en-US" sz="3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стественная монополия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 отдельных отраслях технология производства такова, что средние издержки убывают с ростом выпуска, так что эффективность обеспечивается только большим масштабом производства. Поэтому в данном случае сопоставление монополии и условий свободной конкуренции не является корректным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лительность монопольной власти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Чистые потери благосостояния существенны для экономики только в том случае, если они продолжительны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Потери общественного благосостояния в зависимости от длительности монопольной власти можно определить по формуле: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90360" y="2286000"/>
            <a:ext cx="78483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где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DWL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SR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- чистые потери благосостояния в краткосрочном периоде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DWL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LR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- чистые потери благосостояния в долгосрочном периоде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- ставка дисконтирования, используемая для капитализации будущих потерь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- ежегодный процентный разрыв между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DWL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SR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DWL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LR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, показывающий степень ослабления монопольной власти на рынке с течением времени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219320" y="1447920"/>
            <a:ext cx="7619760" cy="91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Альтернативные издержки монополизации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онопольная прибыль также является составляющей общественного благосостоян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озможность монополизации отрасли порождает конкуренцию за будущую экономическую прибыль, что отвлекает ресурсы от других видов использования, так что альтернативную ценность этих ресурсов надо учитывать в качестве издержек от монополизаци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Затраты на сохранение монопольной позиции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здержки на создание барьеров входа на рынок для потенциальных конкуренто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Способы достижения монопольной позиции в отрасли: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формирование картеля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лучение патента или лицензии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оббирование в целях установления импортных квот или тарифов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зятки государственным чиновникам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громные затраты на рекламу и продвижение товара на рынок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личие незагруженных мощносте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Результатом достижения монопольной позиции является получение монопольной прибыли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38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Предприниматели будут конкурировать за возможность монопольного положения в отрасли до тех пор, пока издержки такой конкуренции не окажутся равными ожидаемым выгодам от монополизации, то есть в долгосрочном периоде монопольная прибыль расходуется на поддержание монопольной позиции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Альтернативные издержки монополизации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скольку, монопольная прибыль расходуется на поддержание монопольной позиции в отрасли она может служить показателем альтернативных издержек монополизации, и поэтому должна быть включена в величину чистых потерь от монополи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Мертвый груз монополии с учетом альтернативных издержек (DWLS)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едставляет из себя сумму собственно чистых потерь (0,5*ΔP*ΔQ) и монопольной прибыли (ΔP*Qm), которая является альтернативными издержками монополизации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DWLS</a:t>
            </a:r>
            <a:r>
              <a:rPr b="0" i="1" lang="ru-RU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= 0,5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ΔP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ΔQ + ΔP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Qm =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=0,5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ΔP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ΔQ + ΔP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(Qc - ΔQ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Виды монополии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1629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Естественная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ткрыта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крыта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Мертвый груз монополии с учетом альтернативных издержек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066320" y="1771560"/>
            <a:ext cx="716292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оля собственно мертвого груза монополии в альтернативных издержках монополизации равна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2362320" y="3657600"/>
            <a:ext cx="508608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Мертвый груз монополии с учетом альтернативных издержек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90360" y="1143000"/>
            <a:ext cx="78483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усть E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) - ценовая эластичность спроса в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условиях совершенной конкуренции (при цене Рс и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объеме продаж Qc)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) = (ΔQ/ΔP)*(Pc/Qc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откуда объем продаж на рынке совершенной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конкуренции составляет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= 1/E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)*[ΔQ*(Pc/ΔP)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Тогда доля собственно мертвого груза монополии в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альтернативных издержках монополизации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оставит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1066680" y="5257800"/>
            <a:ext cx="7772400" cy="12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Мертвый груз монополии с учетом альтернативных издержек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467840" cy="17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скольку ΔР/Рс составляет индекс Лернера монопольной власти, полученное выражение можно записать в виде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1523880" y="3962520"/>
            <a:ext cx="6951960" cy="19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Мертвый груз монополии с учетом альтернативных издержек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ледовательно, доля чистых потерь в альтернативных издержках монополизации тем ниже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ем ниже ценовая эластичность спроса в условиях совершенной конкуренции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ем ниже коэффициент Лернера монопольной власти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Мертвый груз монополии с учетом альтернативных издержек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14040" y="990360"/>
            <a:ext cx="80010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ожно получить ещё одну формулу для вычисления совокупных потерь от монополии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DWLS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= 0,5*ΔP*ΔQ + ΔP*(Qc - ΔQ) = =ΔP*(0,5*ΔQ + Qc – ΔQ) =  ΔP*(Qc - 0,5*ΔQ) = =L*(Pc*Qc - 0,5*Pc*ΔQ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оскольку Pc*Qc представляет собой общую выручку производителей в условиях свободной конкуренции (TRc), то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DWLS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= L*TRc - 0,5*L*P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*ΔQ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=L*TRc - 0,5*ΔP*ΔQ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=L*TRc - 0,5*E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Times New Roman"/>
              </a:rPr>
              <a:t>d(c)*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Pc*Qc*L</a:t>
            </a:r>
            <a:r>
              <a:rPr b="0" i="1" lang="ru-RU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=TRc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*(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L - 0,5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i="1" lang="ru-RU" sz="2800" spc="-1" strike="noStrike" baseline="-25000">
                <a:solidFill>
                  <a:srgbClr val="000000"/>
                </a:solidFill>
                <a:latin typeface="Times New Roman"/>
              </a:rPr>
              <a:t>d(c)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Мертвый груз монополии с учетом альтернативных издержек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Таким образом, совокупные потери от монополии тем выше: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чем больше общая выручка производителей в конкурентной отрасли (TRc);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чем выше индекс Лернера монопольной власти (L);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чем выше ценовая эластичность спроса в условиях совершенной конкуренции (E</a:t>
            </a:r>
            <a:r>
              <a:rPr b="0" lang="ru-RU" sz="3000" spc="-1" strike="noStrike" baseline="-25000">
                <a:solidFill>
                  <a:srgbClr val="000000"/>
                </a:solidFill>
                <a:latin typeface="Times New Roman"/>
              </a:rPr>
              <a:t>d(c)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)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Альтернативные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издержки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монополизации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-277200" algn="just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Однако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еличина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онопольной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рибыли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не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сегда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ожет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точно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указать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еличину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альтернативных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издержек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онополизации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 algn="just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Некоторые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издержки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онополизации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непосредственно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затрагивают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непроизводительные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издержки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онополии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например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расходы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адвокатов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или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рекламу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стречи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редставителями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государственной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ласти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этих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лучаях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они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ключаются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не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рибыль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онополии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ее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издержки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хотя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их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еличину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должны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быть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увеличены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чистые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отери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от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онополии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Альтернативные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издержки</a:t>
            </a:r>
            <a:r>
              <a:rPr b="1" lang="lv-LV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монополизации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09480" y="18284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были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егулируемой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онополии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огут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ыть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начительно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еньше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былей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регулируемой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о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скольку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асть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лучаемого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осударством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онополии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лога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ратится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егулирование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той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амой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онополии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о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еличину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атрат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ведение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егулирования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нтроль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а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ведением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онополии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бор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лога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.)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акже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ледует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тносить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льтернативным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здержкам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онополизации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льтернативные</a:t>
            </a: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здержки</a:t>
            </a:r>
            <a:r>
              <a:rPr b="1" lang="lv-LV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онополизации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90360" y="1143000"/>
            <a:ext cx="78483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 другой стороны, альтернативные издержки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онополизации нельзя рассматривать только как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негативный фактор экономики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онопольная прибыль может возникать за счет более эффективного использования ресурсов данной фирмой по сравнению с мелкими фирмами-конкурентами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онополия может быть создана за счет инноваций (склонность к инвестированию у крупной фирмы-монополиста выше, чем у мелкой фирмы-конкурента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данных случаях монопольная прибыль будет служить стимулом к динамизму рынка, а конкуренция за достижение монопольной власти на рынке будет способствовать развитию производства в данной отрасл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3996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Определение Х-неэффективности монополии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Х-неэффективность производства в условиях монополии - представляет собой разницу между минимально возможным для данного выпуска уровнем издержек и реальным уровнем издержек монополист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Поведение монополист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онополист может влиять на цену продаваемой продукции, изменяя объём производства в соответствии с убывающей функцией рыночного спроса. Монополии намеренно уменьшают объём предложения, чтобы создать искусственный дефицит товаров. А нехватка рыночных благ ведёт к росту монопольной цены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996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Причина Х-неэффективности монополии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Монополия является технически менее эффективной, чем конкуренция, поскольку наличие барьеров для входа защищает фирму-монополиста от конкурентного давления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Поэтому монополист может использовать ресурсы отрасли неэффективно, а его издержки для производства каждого объема выпуска выше соответствующих издержек фирмы на рынке совершенной конкуренции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Иллюстрация Х-неэффективности монополии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876920" y="1523880"/>
            <a:ext cx="3962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Издержки в условиях совершенной конкуренции равны АСс =МСс, а выпуск составляет величину Qc при цене Рс. В условиях монополии уровень издержек возрастает до величины ACm=MCm. Соответственно, выпуск становится равным Qm, а цена Рm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990720" y="1600200"/>
            <a:ext cx="418932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Иллюстрация Х-неэффективности монополии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требительский излишек сокращается с величины АРсС до величины АРmМ. При этом величина МЕС составляет чистые потери от монополии, а величина ВРсЕК представляет собой потери в результате Х-неэффективности. В условиях свободной конкуренции объем производства Qm мог бы быть произведен при более низких издержках (равных Рс=МСс=АСс), а монополия затрачивает на этот выпуск ACm=MCm&gt;MCc. Ресурсы в размере ВРсЕК используются неэффективно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92468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Другие причины Х-неэффективности монополии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040" y="1218960"/>
            <a:ext cx="8001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онополист может не стремится минимизировать издержки вообще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Например, целью менеджеров может стать увеличение собственной власти, престижа и безопасности в рамках фирмы. В этом случае фирма-монополист наймет больше персонала и будет производить любой объем выпуска с большими издержками, чем конкурентная фирма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Если к Х-неэффективности стремятся сами собственники фирмы, это может означать, что они готовы уступить часть прибыли за возможность иметь больше свободного времени и меньше работать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Х-эффективность монополии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066680" y="8377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озможна и обратная ситуация: издержки производства в условиях монополии ниже, чем в условиях конкуренции, то есть имеет место         Х-эффективность монополи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акое происходит там, где монополизация отрасли позволяет фирме использовать преимущества экономии на масштабах производства, например в случае естественной монополи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роме того, инновационная активность монополиста может быть выше, чем конкурента, что также способствует понижению издержек отрасли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Иллюстрация Х-эффективности монополии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9246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ертвый груз монополии без учета альтернативных издержек монополизации равен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DWL = 0,5*E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Times New Roman"/>
              </a:rPr>
              <a:t>d*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TR*L</a:t>
            </a:r>
            <a:r>
              <a:rPr b="0" i="1" lang="ru-RU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Если монополизация приносит выгоду экономике, то должно быть верным выражение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Qm*ΔАС &gt; 0,5*E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Times New Roman"/>
              </a:rPr>
              <a:t>d*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TR*L</a:t>
            </a:r>
            <a:r>
              <a:rPr b="0" i="1" lang="ru-RU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где ΔАС - экономия затрат монополистом на единицу выпуска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Отсюда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ΔAC/Pm &gt; 0,5*E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Times New Roman"/>
              </a:rPr>
              <a:t>d*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ru-RU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Иллюстрация Х-эффективности монополии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ледовательно, чем больше эластичность спроса по цене, тем в большей степени должна проявляться экономия на издержках в условиях монополии по сравнению с условиями конкуренции, чтобы компенсировать потери благосостояния от монополии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пособы создания и поддержания монополии в отрасли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онопольную власть в отрасли удаётся поддержать благодаря наличию определенных условий и определенных действий фирм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оздание открытой монополии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ткрытая монополия возникает при наличии у фирмы неких уникальных знаний, технологий, позволяющих производить новый продукт или продукт более высокого качества. В случае появления у других фирм технологий для производства такого же продукта, они войдут в отрасль, и монополия в отрасли на этом закончится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Создание естественной монополии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случае естественной монополии одна фирма способна производить продукт с более низкими издержками, чем при наличии большого количества фирм, т. е. проявляется Х-эффективность монополизаци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Поведение монополист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В свою очередь, для увеличения объёма производства монополист вынужден снижать цену, поскольку кривая спроса, с которой он встречается, имеет отрицательный наклон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Чтобы общая выручка монополиста при этом не уменьшалась,  снижение цены должно компенсироваться большим процентным увеличением объема продаж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В свою очередь, это возможно только при эластичном спросе, что в определенной мере ограничивает деятельность монополий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Создание закрытой монополии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крытая монополия предполагает поддержание монопольного положения фирмы на рынке за счет наличия у нее патента, лицензии или других видов законных ограничений на производство данного продукта. Тем самым не допускается или ограничивается доступ конкурентов в отрасль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Поведение монополист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680" y="15238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 мере роста выпуска растут (или по крайней мере неизменны) предельные издержки (МС) монополист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Фирма будет расширять выпуск до тех пор, пока дополнительная выручка от продажи дополнительной единицы (М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)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товара превышает или, по крайней мере, не меньше дополнительных издержек (МС), связанных с ее производство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Условие максимизации прибыли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90360" y="1294920"/>
            <a:ext cx="78483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быль любой фирмы достигает своего наибольшего значения, при таком объёме производства при котором предельные издержки равны предельной выручке, т. е.       МС = М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условиях монополии цена будет больше предельных издержек, т.е. МС = МR&lt;Р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отличии от монополии при совершенной конкуренции предельные издержки и предельная выручка равны цене, т.е.                 МС = МR=Р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Максимизация прибыли монополией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952520" y="182880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едельные издержки (МС) равны предельной выручке (MR) при объёме производства - Q</a:t>
            </a:r>
            <a:r>
              <a:rPr b="0" lang="lv-LV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,  т. е. цена установится на уровне - 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lv-LV" sz="2800" spc="-1" strike="noStrike" baseline="-25000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066680" y="2111400"/>
            <a:ext cx="3810240" cy="34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evgenij</cp:lastModifiedBy>
  <dcterms:modified xsi:type="dcterms:W3CDTF">2007-10-11T07:45:06Z</dcterms:modified>
  <cp:revision>92</cp:revision>
  <dc:subject/>
  <dc:title>Оценка потерь благосостояния в результате деятельности монополии</dc:title>
</cp:coreProperties>
</file>