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46D-CB3D-4B8C-90DA-E314E960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4D6A-8C94-497C-8A9D-2E742B37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608-4DFE-4C09-B7A7-7F5D6F19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664-B3E5-4B3C-BA34-69EA44EB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9140-19D3-466E-9544-2CF9C1D9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6C67-7E93-4031-8DB6-4E3FAE16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F992-05A8-4E86-87E8-0E9B0D1A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BC2F-EE25-42DB-82FB-77EEA684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08DB-238A-4CC8-B7B6-11880B99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D5D9-D9F0-4313-AB33-A660700A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91DF-A5BD-4C9B-836F-84CF85BB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F0E-D5C6-48BE-B380-1ACED7C4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85F7-6DF1-4998-B6C2-4F4AE90B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47C2-03A9-4762-8465-E8AD4337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9843-A959-4D7B-B71A-604281A0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4582-1685-48F7-810D-08E92A97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DEAD-DFE6-423E-A27E-09ADC744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487-6BA0-4C36-9AFF-266A5CFC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965D-97C9-404D-B911-EBF5139D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00E-53E1-4C8C-BD62-7437D2B7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32E4-174C-4CBC-BDBB-921113EA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120F-5361-42FB-B974-C3A07FE7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301-F255-4D3E-A508-1B1FD6CF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A34-497C-4ACB-A2F5-F2A7D65E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48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5320" y="6156000"/>
            <a:ext cx="2890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432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4B188-B5E1-44C4-B9DA-DF148C0282CE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3160"/>
            <a:ext cx="19256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5720" y="6113160"/>
            <a:ext cx="28400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09920" y="6113160"/>
            <a:ext cx="18241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4573B82-7D53-4747-B478-409C37FEBAF7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38000"/>
            <a:ext cx="77216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егулирование отраслевых рынков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00000" y="1798560"/>
            <a:ext cx="79250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Цели отраслевой политики государ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Антимонопольная политика государст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2. Антимонопольная политика в Росс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3. Антимонопольная политика в СШ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634B-F178-4A1C-AF6E-DB2EF0DECCF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ассивная защитная отраслев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800360"/>
            <a:ext cx="777240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ая цель  - борьба с монополиями, деятельность которых приводит к неэффективному размещению ресурсов и создает потери общественного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антимонопольное регулирование, контроль над горизонтальными и вертикальными слияниями и поглощениям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DC8-B323-428E-8B03-CEE490A559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образовательная пассивная отраслевая политика (концепция “благоприятного экономического климата”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234000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едполагает не просто ограничение и борьбу с монопольной властью, но и содействие конкретным типам экономической активности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, налоговые и финансовые льготы для мелких и средних предприятий не укладываются в рамки собственно антимонопольного регулирования, но безусловно содействуют развитию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750-9839-4EB6-9337-3216AF1749C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ивная защитная отраслевая политик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онкретную направленность, но  целях предотвращения тех или иных решений фирм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ром может послужить протекционистская внешнеторговая политика, оказывающая существенное воздействие на развитие отраслевых структ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DFC-32F7-48AA-A750-94C2149CD95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Активная преобразовательн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ак общее, так и конкретное направление, в том числе и воздействующих на решения экономических субъект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ова отраслевая политика в любой реформируемой экономике. Данная отраслевая политика оказывает наиболее существенное влияние - как положительное, так и отрицательное, - на развитие экономической системы в цел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BAFA-FD29-4322-B377-73CDD05B2FC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17928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. Цели антимонопольной политики государства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еспечение эффективности производства и распределения ресурсов в экономик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едотвращение или ликвидация нежелательных рыночных структур и нежелательного поведения экономических агенто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то есть таких ситуаций, которые рассматриваются как нарушающие общественное благосостояни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мощь одним группам экономических агентов за счёт други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например, содействие малым фирмам в их конкуренции с крупными, независимо от их эффективности, или фирмам одних отраслей по сравнению с другими сферами деятельности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DCAB-2EA2-4446-82E0-FE5B154206B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7600" y="179280"/>
            <a:ext cx="7772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законные действий фирм согласно традиционной антимонопольной полити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171432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фиксирование продажных цен, тайное и явно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ограничения покупк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ограничения продаж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связанные продажи - продажа одного товара клиенту при условии, что он покупает какой-либо еще продукт данной фирм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недобросовестная реклам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) недобросовестная маркировка това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) вертикальные или горизонтальные ограничения конкурен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472-A1D2-4114-B80F-3BF11895E7F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27144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7600" y="234000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запрет монополий в Европе мало распространен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в основном происходит регулирование монополий и доминирующих фир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ри проведении отраслевой политики активно используется концепция “эффективной конкуренции” - конкуренции, которая способствует структурной перестройке национальной экономи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C63-E9F3-4611-A785-2070CDA3F39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10152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ой регулирующих мероприятий стран-членов Европейского Сообщества является Римский договор, который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7600" y="2033640"/>
            <a:ext cx="77724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картели и другие ограничительные соглашения между фирмами (ст. 85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ждает злоупотребления доминирующим положением на рынке (ст. 8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сматривает регулирование слияний, запрет слияний, которые могут создать доминирующее положение для данной фир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государственную помощь фирмам, которая искажает торговлю между странами (ст. 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6A20-0B4F-464B-BE24-4D292857723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 в Латв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079280"/>
            <a:ext cx="774072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Цель государственной отраслевой политики Латвии - защита, сохранение и развитие свободной, честной и равной конкуренции в интересах общества во всех отраслях народного хозяйств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, ограничивая рыночную концентрацию и не допуская недобросовестной конкуренци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ой регулирующий орган - Совет по конкуренци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ые задачи Совета по конкуренции касаются надзора з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лоупотреблениями доминирующим положением на рынк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добросовестной конкуренци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ияниями и объединениями, запрещенными  законом, другими нормативными актами и международными договор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граничением рыночной концентра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584E-4524-44A3-942B-D973FF242D3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1584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Германии  органами проведения отраслевой политики являются: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9640" y="1079640"/>
            <a:ext cx="807732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нистерство экономики; федеральный орган по картелям; антимонопольный комите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тролю подвергаются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я активов предприятия полностью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е долей акций фирмы, в размерах 25, 50 и более процент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 результате которой фирма приобретает прямой или косвенный контроль над предприятием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ключая приобретение менее 25 процентов акций предприятия, если это дает возможность фирме-покупателю влиять на конкурентное поведение другой фир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рма (или группа фирм) рассматривается как доминирующая на рынке если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одной фирмы 1/3 рынк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трёх фирм не менее 50 процент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пяти фирм не менее, чем 2/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79E9-87C8-49F4-A348-70872AEB7F1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880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Основная функция государственной отраслевой политики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640" y="1800360"/>
            <a:ext cx="7772400" cy="45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 определяет правила, по которым совершаются деловые операции экономических агентов, оказывает воздействие на потоки товаров и ресурсов в экономике, поддерживает или препятствует той или иной деятельности индивидов и институтов экономической систе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843A-406A-49C5-B448-F1F68CA985F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Великобритании органами контроля при проведении антимонопольной политики являются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инистерство торговли и промышлен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лияниям и монополия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вободной торговле (наблюдает за проведением конкурентной политики, проводит предварительное расследование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ритерием доминирования на рынке служит доля фирмы в 25 процентов рын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193-D8DF-430D-A0E6-F6DEA4C23AE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0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Франции органами регулирования отраслевых структур являютс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иссия по конкуренци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стерство эконом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, в целом   “антимонопольную” политику Франции скорее можно назвать  “промонопольной”. Политика правительства направлена на стимулирование слияний, поощрение НИОКР, производство на экспорт, поскольку предполагается, что крупные предприятия могут способствовать развитию высоких технологий и повышению конкурентоспособности отечественных товаров как на внутреннем, так и на внешнем рын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2858-453C-4605-B68E-311029D7EB2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3.1. Антимонопольная политика в Росс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вариант антимонопольного законодательства в России - закон “О конкуренции и ограничении монополистической деятельности на товарных рынках” - был принят в 1991 году.  Он базировался на принципах конкурентной политики, изложенных в Римском договоре ЕС (ст. 85 и 8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монопольный орган - Государственный комитет Российской Федерации по антимонопольной политике и поддержке новых экономических структур (ГКАП),  а в настоящее время это Федеральная антимонопольная  служба (ФАС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3762-34FA-4018-A696-09A58FE6764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ъятие товаров из обращения с целью создания или поддержания дефицита на рынке либо для повышения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вязывание контрагенту условий договора, не выгодных для него или не относящихся к предмету договор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ключение в договор дискриминирующих условий, которые ставят контрагента в неравное положение по сравнению с другими экономическими субъектам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гласие заключить договор лишь при условии внесения в него положений, касающихся товаров, в которых потребитель не заинтересова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26E-CBAA-4985-A2B7-A2E0B3D4B24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9640" y="3780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124632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здание препятствий доступу на рынок или выходу с рынка другим фирмам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рушение установленного нормативными актами порядка ценообразования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тановление монопольно высоких или монопольно низких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кращение или прекращение производства товаров, на которые имеется спрос или заказы потребителей при наличии возможности их безубыточного производств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обоснованный отказ от заключения договора с отдельными покупателями при наличии возможности производства или поставки соответствующего това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067-B9C4-44A2-A641-995B1AE70D9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структуры товарного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79280" y="1619280"/>
            <a:ext cx="759276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соответствии с различными значениями коэффициентов концентрации и индексов Герфиндаля-Хиршмана в России выделяются три типа рынка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 тип - высо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70 проц. &lt; CR-3 &lt; 100 проц.; 2000 &lt; HHI &lt; 1000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 тип - умеренно 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45 проц. &lt; CR-3 &lt; 70 проц.; 1000 &lt; HHI &lt; 2000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I тип - низ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CR-3 &lt; 45 проц.; HHI &lt; 1000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C36D-01C5-4A39-AFBB-1BE1A7782AE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806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высококонцентрированных рынков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0000"/>
            <a:ext cx="800100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зработка отраслевых программ демонополизации, контроль за их реализацией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нтроль за рыночным поведением хозяйствующих субъектов, имеющих на рынке определенного товара долю более 35%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предупреждению и пресечению монополистической деятельности хозяйствующих субъектов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снижению барьеров входа на товарные рынки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величение числа хозяйствующих субъектов, действующих на данном товарном рынке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апреты на слияния и создание объединений юридических лиц 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B3D-271D-4C04-8BB6-B7C29670114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640" y="179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умеренно концентрированных рынков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16192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блюдение за динамикой показателей концентраци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троль за деятельностью хозяйствующих субъектов, имеющих на рынке определенного товара долю более 35%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, направленные на ограничение рыночного потенциала хозяйствующих субъектов, занимающих доминирующее положение на товарных рынка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ияние и создание объединений юридических лиц допускается, но при условии, что рыночный потенциал не увеличитс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F8D-3A3F-43CB-8A71-63ABD050FC7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низкоконцентрированных рынков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79640" y="200484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блюдение за состоянием концентрации производства и товарного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1C57-7223-427A-A23D-7B445C70BB6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3.3. Антимонопольная политика в США.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Цель антимонопольной политики в США заключается в том, чтобы определять допустимость той или иной практики экономических агентов с точки зрения ее воздействия на конкуренци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ую политику в данной стране проводят федеральные и местные суды; антитрестовский отдел Министерства юстиции; Федеральная торговая комисс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93E0-5F40-450F-A717-76829CDE5EE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05920"/>
            <a:ext cx="77724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ая причина необходимости государственной отраслевой и промышленной политики - провалы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провалам рынк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власт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шние эффек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возможность производства рыночной системой общественных бла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совершенство системы информ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77C-9D39-4E86-B153-5D53B5605EA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87280" y="189000"/>
            <a:ext cx="77281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1619280"/>
            <a:ext cx="7704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 Шермана (1890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трестов, запрет практики монополизации торговли между штат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нтиконкурентные действия фирм трактуются в качестве объекта уголовного преступл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онополия здесь понимается как доминирующее положение фирмы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6400" y="1371600"/>
            <a:ext cx="5209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866-2CCF-4604-B5F2-A7B9AB99295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Клейтона (1914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делает акцент на поддержку конкурентной ситуации в цел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запрещает слияния при угрозе конкуренции и направлен главным образом против горизонтальных слия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FFE6-2E24-4C08-99CB-217CB84E8F8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981080"/>
            <a:ext cx="780444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Робинсона-Пэтмана (1936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ценовой дискриминации и уголовную ответственность за политику хищнических (грабительских) ц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становление цены ниже уровня средних/предельных издержек с целью вытеснения конкурента с ры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6BD-0A02-4C0F-AD02-9DF6EC0EC51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95280" y="38088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конкурентные действий фирм согласно законодательной классификации СШ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1800360"/>
            <a:ext cx="794880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как таковые (незаконные по сути, на основании буквы закона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и действия не обладают какими-либо достоинствами, позволяющими компенсировать их антиконкурентное воздействие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на основании правила разумности (духа закона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шения суда по данным действиям принимаются на основе сравнения и сопоставления положительных и отрицательных последствий антиконкурентного действ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7CE-F4F3-4DF4-A590-AC0670DBEE2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60360" y="539640"/>
            <a:ext cx="755964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первому виду (незаконные как таковые) относятся такие  виды взаимодействий фирм как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ое фиксирование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ый сговор о доле рынк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рупповой бойкот (согласованный отказ фирм торговать с третьей фирмой с целью вытеснения ее с рынка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оговоренность о взаимных продажах и закупках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вязанные продаж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правильная информация о товар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 второму виду (несоответствующие духу закона) могут отнести такие действия,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гулирование цен в рамках вертикальных контрактов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тказ в поставках со стороны одной отдельной фирмы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сключительное право покупки или продаж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48F2-9942-4611-B7BE-ACCAFDCD051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ой сферой действия отраслевой политики США является регулирование слияний и поглощений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2339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конкурентным считается при индексе Герфиндаля-Хиршмана (HHI) от 1000 до 1800 каждая сделка, которая увеличивает индекс на более чем 100 пунктов; при индексе для отрасли более 1800 - сделка, которая может увеличить индекс на 50 и более пунктов. Если индекс Герфиндаля-Хиршмана меньше 1000, такой рынок считается слабо концентрированным и не регулируе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ABF7-F530-4531-9596-D0FB14330C3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539640"/>
            <a:ext cx="780444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угим направлением государственной политики служит регулирование информационного обеспечения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добная проблема возникает в связи с наличием у фирм стимулов к искажению информации в тех случаях, когда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удно проверить качество товар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фирмы выпускают экспериментальные товар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оисходят одноразовые продажи издел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овершаются спекулятивные операции краткосрочного характ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B7B-226B-49F1-9F7E-9EF89AE5555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сех подобных ситуациях органы регулирования 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казывают влияние на параметры поведения фирмы 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79640" y="197964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качества (обязательное установление, в частности, для пищевых продуктов и лекарств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упаковки: требования маркировки товара (обязательное указание ингредиентов издел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гарантии срока службы (устанавливаются для товаров длительного пользова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использования товара (обязательное приложение инструкции по пользованию товаром повышенной сложности с указанием того, что потребитель может и чего не должен делать с продуктом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5B16-F802-46CA-8C45-F4435F91619D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щая цель государственной отраслевой полити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 проблем, связанных с провалами рынка, для повышения общественного благосостоя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AF5-2162-4696-A22A-BE0079DA30B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задачи государственной отраслевой полити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учшее функционирование общества в це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281-32A7-4986-97D6-40F6598E488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ижение экономической эффективности общества возможно при наличии конкуренции, которая является средством создания среды, благоприятствующей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ю издержек производства, созданию новых продукт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видов деятель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методов производства и организации, развития НИОКР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ого прогресса и инновац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9DE-2667-4A7E-9AB2-A38745E9301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раслевая политика должна создавать условия благоприятные для конкуренции такие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вобода выхода и вхо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имулы к инновациям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держка определенной степени соперничества между фирма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A3B-F6A2-4A80-804F-899B999E446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ля лучшего функционирования общества необходимы: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9280" y="1793880"/>
            <a:ext cx="759276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национальной промышленно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щь фирмам и отраслям в трудных ситуация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регион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занят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от иностранного капитал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малого и среднего бизнес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прав потребителе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правил добросовестной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F835-5066-40CA-A271-36FE1E8BEAA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74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ипы отраслевой политик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924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3BDE-BC8B-4E62-9A6D-F4F96AB23CB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cp:revision>0</cp:revision>
  <dc:subject/>
  <dc:title>Регулирование отраслевых рынков </dc:title>
</cp:coreProperties>
</file>