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050-AE7D-4B74-B112-707A2446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430-EAFE-4127-B859-27F6E257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8796-7F19-46BF-87D8-3E3F1318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D492-6C13-4D66-A204-857C9C50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2D2D-A90E-49CE-B461-C8F23A9B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B650-1EE0-4B0A-B3FC-BEA0CA75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61AD-7414-4701-8B9D-F47172A96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6B4D-AB54-4CFE-BBB3-B10CC8EA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4CA8B-8B59-434F-B5A9-C1D74A7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3A0A-F1D4-40E0-91EB-CC5E344C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AF34-3D86-4FC0-BBCB-E12B7F38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B5D-D6BC-4AC5-8E37-576EB63E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1738B-76B1-4CA1-8AE1-36D2C293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49296-EB09-4B9C-BA2D-0D5DDD8B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4C070-49EA-44A2-A704-9A9A3A7A7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0D31-270D-417A-9185-60584D26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9432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321600" y="177156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06668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9432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321600" y="392040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9962-84A2-4CF4-96D9-686BD7F5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B0D0-ECC6-41D8-9F32-27716FCA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ED36-1A8C-4165-83A0-814291CD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900E-1AA5-49C2-9A39-DC5105C2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3DCD-0864-4861-984A-1D452172A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D3BB-7778-484C-9ECE-3D5A460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8640" y="392040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7A09-EA9F-4D5D-827E-C98F5FBC3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8640" y="177156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040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C601-50E8-4E08-A2AE-4795DC94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50760"/>
            <a:ext cx="8924760" cy="6743880"/>
            <a:chOff x="0" y="50760"/>
            <a:chExt cx="8924760" cy="6743880"/>
          </a:xfrm>
        </p:grpSpPr>
        <p:grpSp>
          <p:nvGrpSpPr>
            <p:cNvPr id="1" name=""/>
            <p:cNvGrpSpPr/>
            <p:nvPr/>
          </p:nvGrpSpPr>
          <p:grpSpPr>
            <a:xfrm>
              <a:off x="0" y="50760"/>
              <a:ext cx="8924760" cy="6743880"/>
              <a:chOff x="0" y="50760"/>
              <a:chExt cx="8924760" cy="6743880"/>
            </a:xfrm>
          </p:grpSpPr>
          <p:sp>
            <p:nvSpPr>
              <p:cNvPr id="2" name=""/>
              <p:cNvSpPr/>
              <p:nvPr/>
            </p:nvSpPr>
            <p:spPr>
              <a:xfrm>
                <a:off x="528480" y="201600"/>
                <a:ext cx="8396280" cy="6465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596880" y="4130640"/>
                <a:ext cx="104148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" descr="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"/>
            <p:cNvGrpSpPr/>
            <p:nvPr/>
          </p:nvGrpSpPr>
          <p:grpSpPr>
            <a:xfrm>
              <a:off x="1149480" y="1542960"/>
              <a:ext cx="7742160" cy="4802400"/>
              <a:chOff x="1149480" y="1542960"/>
              <a:chExt cx="7742160" cy="4802400"/>
            </a:xfrm>
          </p:grpSpPr>
          <p:sp>
            <p:nvSpPr>
              <p:cNvPr id="7" name=""/>
              <p:cNvSpPr/>
              <p:nvPr/>
            </p:nvSpPr>
            <p:spPr>
              <a:xfrm>
                <a:off x="1149480" y="1542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1149480" y="1771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149480" y="2000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149480" y="2228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149480" y="2457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149480" y="2685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149480" y="2914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149480" y="3143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149480" y="3371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49480" y="3600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149480" y="3828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149480" y="4057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149480" y="4286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149480" y="4514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149480" y="4743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149480" y="4971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49480" y="5200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149480" y="54291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1149480" y="56577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1149480" y="58863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149480" y="61149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149480" y="6343560"/>
                <a:ext cx="7742160" cy="180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FDA7215-14AF-4BD5-8B50-CE4D55308CF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057040"/>
            <a:ext cx="77198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1117440" y="6113520"/>
            <a:ext cx="19288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556080" y="6113520"/>
            <a:ext cx="284328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7010280" y="6113520"/>
            <a:ext cx="18273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2F1E8A-97AC-4E4C-9F64-358457E7BC18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-%20http://www.economics.boom.ru/Lecture.htm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90720" y="304920"/>
            <a:ext cx="777240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Литерату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1143000"/>
            <a:ext cx="81532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Авдашева С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Розанова Н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Теория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: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Магистр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,1998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Вольчик В.В. Лекции по экономике отраслевых рынков. </a:t>
            </a:r>
            <a:r>
              <a:rPr b="0" lang="ru-RU" sz="2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- http://www.economics.boom.ru/Lecture.ht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Кабраль Л.М.Б.  Организация отраслевых рынков: вводный курс. Минск: Новое знание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6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Порезанова Е.В. Экономика отраслевых рынков. Учебно-методическое пособие для студентов экономических специальностей. Саратов: Лотос, 2003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Шерер Ф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Росс Д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Структура отраслевых рынков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.: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НФРА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-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2600" spc="-1" strike="noStrike">
                <a:solidFill>
                  <a:srgbClr val="000000"/>
                </a:solidFill>
                <a:latin typeface="TimesNewRomanPSMT;TimesNewRoman"/>
              </a:rPr>
              <a:t>, 1997.</a:t>
            </a:r>
            <a:r>
              <a:rPr b="0" lang="ru-RU" sz="3200" spc="-1" strike="noStrike">
                <a:solidFill>
                  <a:srgbClr val="000000"/>
                </a:solidFill>
                <a:latin typeface="TimesNewRomanPSMT;TimesNew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89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первоначальный вариант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Парадигма «Структура - поведение -результат» (уточнённый вариант)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09588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7584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Необходимость государственного регулирования рынк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звана ситуациями, когда рынок, в силу различных причин, оказывается в кризисной ситу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8483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Роль государственной политики в отношении отраслевых рынков определяется ответами на вопросы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77240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серьёзным является кризис ры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времени необходимо рыночному механизму для самостоятельного возвращения в нормальное состоя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эффективным будет вмешательство государства в улучшение ситуации на рынк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олько  времени потребуется для реализации государственной политик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сколько велики затраты на проведение государственного вмешательств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Направления государственной полити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тимонополь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арьеры для входа на рын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логи и субсид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вестиционная политик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итика в области занятост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роэкономическая полит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40920"/>
            <a:ext cx="769644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Факторы, которые способствовали развитию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2895120"/>
            <a:ext cx="7772400" cy="36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ижение в области теории ценообразования - в структурах, отличных от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ступность статистической информации на микроэкономическом уровн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205920"/>
            <a:ext cx="784836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Исследования поведения фирм и функционирования отраслевых рынков, в условиях, отличных от совершенной конкуренции (до выделения экономики отраслевых рынков в самостоятельную научную дисциплину)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312408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Х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Х ве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стижения А. Курно и Ж. Бертрана в теории олигопол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28840" y="3124080"/>
            <a:ext cx="38098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в 30-х годах ХХ 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Э. Чемберлином модели монополистической конкурен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Модель монополистической конкуренци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формировала концепцию дифференциации продук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казала роль входа на рынок новых фирм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ала в одном типе рынка черты совершенной конкуренции и монопол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явила новые возможности теоретического анализа монополистической конкуренции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680" y="2440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221304"/>
                </a:solidFill>
                <a:latin typeface="Times New Roman"/>
              </a:rPr>
              <a:t>Основные направления развития микроэкономического подхода в изучении отраслевых рынков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9072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нение теории игр к моделям олигополии, что позволило анализировать стратегическое взаимодействие фирм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ка формальных моделей, позволяющих оценить влияние различных параметров рынка на равновесные цены и объёмы производств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витие эконометрических исследова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320" y="177156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1) Что представляет собой рынок отдельного товара в мире дифференцированных продуктов, где пролегают его границы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28840" y="1771200"/>
            <a:ext cx="380988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 обозначив границы рынка, невозможно оценить степень его монополизации (концентрации) и определить адекватные формы государственного вмешательст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696080" cy="287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Тема 1. Возникновение и развитие научной дисциплины «Экономика отраслевых рынков»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43000" y="380988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. Предмет и метод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. Основные проблемы экономики отраслевых рын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381024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2) Какие факторы определяют размер фирм, или почему отдается предпочтение внутрифирменной координации, в одних случаях, а рыночной в других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28840" y="1600200"/>
            <a:ext cx="3809880" cy="50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мпирической и теоретической проверке подвергаю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я от масштаба и разнообрази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ертикальная интеграция фир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акционные издержк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3) Какой элемент рыночной структуры является ключевым?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28840" y="1828800"/>
            <a:ext cx="3809880" cy="41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следованию подвергаютс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рьеры для входа и выхо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фференциации продук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нтрация покупателей и продав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4) Действительно ли фирмы максимизируют прибыль или они преследуют иные цел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43400" y="17715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ряду с традиционной гипотезой исследуются предположения 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ксимизации выручк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мпов рост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емление управляющих к расширению вла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3200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5) Каков характер практического ценообразования фирм с рыночной властью и каковы его последствия для благосостояния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114440" y="1599840"/>
            <a:ext cx="472428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внимания уделяется изучению положительных и отрицательных с точки зрения благосостояния последствий различных форм ценовой дискриминации, н также разнообразных условии, которые производители навязывают оптовым и розничным торговца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38102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6) Способны ли уже существующие фирмы предотвратить вход в отрасль новичков или вытеснить часть имеющихся фир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24280" y="1828440"/>
            <a:ext cx="411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десь внимание уделяется стратегическому взаимодействию фирм, а также различного рода барьерам, как институциональным так и неинституциональным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66320" y="1828800"/>
            <a:ext cx="358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7) Какие факторы облегчают или затрудняют сговор и иные формы координац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800600" y="1828440"/>
            <a:ext cx="40384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и вопросы затрагивают способность фирм воздействовать на структуру рынка и тем самым активно воздействовать на свою прибыль и положение на рынке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1392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221304"/>
                </a:solidFill>
                <a:latin typeface="Times New Roman"/>
              </a:rPr>
              <a:t>Основные проблемы теори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3581640" cy="40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8) Насколько значительно отклонение от конкурентного идеала рынков с рыночной властью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440" y="1828440"/>
            <a:ext cx="480060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лагаются различные подходы к оценке ущерба, который терпит общество от монополизма. Результаты существенно зависят от предположений, закладываемых в расчеты, и значительно расходятся - от нескольких до десятков процент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320400"/>
            <a:ext cx="77724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221304"/>
                </a:solidFill>
                <a:latin typeface="Times New Roman"/>
              </a:rPr>
              <a:t>В последние десятилетия в экономике отраслевых рынков получили существенное развитие 3 направления исследований: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теоретико-игровых моделей в анализе олигополистических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ние теории трансакционных издержек при сравнительном анализе рынк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ка теории состязательных, или квазиконкурентных, рын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320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ыделяют два типа состязательных рынков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превышают предельные и средние издержки, в результате чего многие фирмы могут войти на рынок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ынки, где цены упали ниже средних издержек, и многие фирмы могут оставить рынок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3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ажность изучения экономики отраслевых рынков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520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сследования в этой области оказывают непосредственное влияние на определение и внедрение государственной политики 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Многие аспекты данной дисциплины остаются недостаточно исследованным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Изучение экономики отраслевых рынков могло бы оживить эмпирические исследования национальной экономик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ерспективы преподавания микроэкономики без изучения экономики отраслевых рынков, представляющей её эмпирическую основу, существенно ограничиваютс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Возникновение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 как самостоятельная научная дисциплина ведёт свою историю от середины ХХ века. Многие связывают  её возникновение с представителями двух экономических школ - Гарвардской и Чикагс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Тематика курсовых работ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221304"/>
                </a:solidFill>
                <a:latin typeface="TimesNewRoman;TimesNew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680" y="1771200"/>
            <a:ext cx="77724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следование отрасли (отраслевого рынка) в экономике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сто фирмы в системе отраслевых рынков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волюционные аспекты развития отрас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входа и выхода на отраслевой рынок страны (региона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Различные варианты названия дисциплины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Economics (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al Organizatio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организация отрасл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ория организации промышленн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ческая теория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Times New Roman"/>
              </a:rPr>
              <a:t>Nozaru tirgus ekonom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Предмет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писание того, как хозяйственная деятельность разделена между фирмами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9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. Коу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пределение экономик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828440"/>
            <a:ext cx="777240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ука о том , как в различных рыночных условиях производственная деятельность посредством рыночного механизма приводится в соответствии со спросом на товары и услуги, и как несовершенство рыночного механизма и изменения в нём влияют на прогресс, достигнутый в удовлетворении экономических потребносте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 algn="r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М. Шерер, Д. Ро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156960"/>
            <a:ext cx="7924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бщие признаки экономики отраслевых рынков с микроэкономик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учение взаимодействия потребителя и производ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влияния рынка на действия производителя и потребител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ценообразования в различных услови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ёт различных переменных, влияющих на результат деятель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Отличительные признак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30481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наиболее сущ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общих модел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114440" y="1295280"/>
            <a:ext cx="4724280" cy="496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Экономика отраслевых рын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чёт многочисленных дополнительных количественных и качественных переме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здание более конкретных моделей, опираясь на микроэкономику, с наиболее полным учётом практики (эксперимент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541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221304"/>
                </a:solidFill>
                <a:latin typeface="Times New Roman"/>
              </a:rPr>
              <a:t>Два подхода в изучении отраслевых рынк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419076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стемны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Гарвардской школы, профессора Э. Майсон и Д. Бей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работана парадигма «Структура - поведение - результат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05160" y="1599840"/>
            <a:ext cx="380988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икроэкономический подх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кономисты Чикагской школы, Д. Стиглер и др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ход с точки зрения теории ценообразования, использующий микроэкономические мод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13:56:10Z</dcterms:created>
  <dc:creator>Jevgenij</dc:creator>
  <dc:description/>
  <dc:language>en-US</dc:language>
  <cp:lastModifiedBy>Jevgenij</cp:lastModifiedBy>
  <dcterms:modified xsi:type="dcterms:W3CDTF">2008-09-08T06:46:21Z</dcterms:modified>
  <cp:revision>38</cp:revision>
  <dc:subject/>
  <dc:title>Тема 1. Возникновение и развитие научной дисциплины «Экономика отраслевых рынков»</dc:title>
</cp:coreProperties>
</file>