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AA77-414F-4E6A-8446-6E9202FAA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54B1-06A8-4F94-A473-9E5AF956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4E7A-246A-4650-8533-464A988D3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53DF-D5CF-449C-9224-142591B9A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9A9E-8AB4-402B-A0DD-AEB9BE58B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44A7-A25E-4071-8797-EB4DFBD3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BF3D-1207-447F-AC9A-18BDD99B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23BF-2677-4A49-821E-D8B07E06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7AEA-15A6-4A08-BF87-FC49DB99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A5EA-582F-499B-8F11-CB69F6A9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A04D-D8B6-41CD-8151-C8EA5C08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1AB9-B2C7-4717-B69B-3B0D86CA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E803-6861-4923-B0F0-700A1254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ECCA-9E53-4F27-91C5-90870CE3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7BD3-FDC5-4D21-8E95-6BB5BA25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471F-5BE2-4F59-B620-C7C5BDE9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2C4B-E813-40FC-8151-857659B7C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8B1D-263C-4381-8045-7E98AF29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BA5B-425B-4CEE-A254-C3B98C19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7A11-BFA6-4577-B178-5EA9D446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9563-3FB2-4B8D-991D-F9F21FDA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D60B-7939-43FC-A8A5-B27F770C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B4B9-F227-414F-BF3D-C29AE68E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6CCC-1AA7-4EE6-BFEC-6F62C423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4760" cy="6743880"/>
            <a:chOff x="0" y="50760"/>
            <a:chExt cx="8924760" cy="674388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4760" cy="6743880"/>
              <a:chOff x="0" y="50760"/>
              <a:chExt cx="8924760" cy="6743880"/>
            </a:xfrm>
          </p:grpSpPr>
          <p:sp>
            <p:nvSpPr>
              <p:cNvPr id="2" name=""/>
              <p:cNvSpPr/>
              <p:nvPr/>
            </p:nvSpPr>
            <p:spPr>
              <a:xfrm>
                <a:off x="528480" y="201600"/>
                <a:ext cx="83962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3064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480" y="1542960"/>
              <a:ext cx="7742160" cy="4802400"/>
              <a:chOff x="1149480" y="1542960"/>
              <a:chExt cx="7742160" cy="48024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480" y="1542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480" y="1771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480" y="2000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480" y="2228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480" y="2457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480" y="2685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480" y="2914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480" y="3143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480" y="3371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480" y="3600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480" y="3828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480" y="4057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480" y="4286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480" y="4514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480" y="4743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480" y="4971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480" y="5200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480" y="5429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480" y="5657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480" y="5886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480" y="6114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480" y="6343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86C7D4-479B-4C6F-91E5-01F082925C48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057040"/>
            <a:ext cx="77198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440" y="6113520"/>
            <a:ext cx="19288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3520"/>
            <a:ext cx="28432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3520"/>
            <a:ext cx="1827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1085430-C909-46CB-B357-18946E3034CE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-%20http://www.economics.boom.ru/Lecture.htm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90720" y="304920"/>
            <a:ext cx="77724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Литерату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143000"/>
            <a:ext cx="81532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Авдашева С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Б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,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Розанова Н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Теория отраслевых рынков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: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Магистр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1998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. Вольчик В.В. Лекции по экономике отраслевых рынков. </a:t>
            </a:r>
            <a:r>
              <a:rPr b="0" lang="ru-RU" sz="2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- http://www.economics.boom.ru/Lecture.ht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. Кабраль Л.М.Б.  Организация отраслевых рынков: вводный курс. Минск: Новое знание, 200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4. Порезанова Е.В. Экономика отраслевых рынков. Учебно-методическое пособие для студентов экономических специальностей. Саратов: Лотос, 200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5. Шерер Ф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осс Д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руктура отраслевых рынков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: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НФРА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-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, 1997.</a:t>
            </a:r>
            <a:r>
              <a:rPr b="0" lang="ru-RU" sz="3200" spc="-1" strike="noStrike">
                <a:solidFill>
                  <a:srgbClr val="000000"/>
                </a:solidFill>
                <a:latin typeface="TimesNewRomanPSMT;TimesNew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890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арадигма «Структура - поведение -результат» (первоначальный вариант)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26744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848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221304"/>
                </a:solidFill>
                <a:latin typeface="Times New Roman"/>
              </a:rPr>
              <a:t>Парадигма «Структура - поведение -результат» (уточнённый вариант)</a:t>
            </a:r>
            <a:endParaRPr b="0" lang="en-US" sz="1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0958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75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Необходимость государственного регулирования рын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звана ситуациями, когда рынок, в силу различных причин, оказывается в кризисной ситу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260280"/>
            <a:ext cx="78483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Роль государственной политики в отношении отраслевых рынков определяется ответами на вопросы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колько серьёзным является кризис рынк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лько времени необходимо рыночному механизму для самостоятельного возвращения в нормальное состояни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колько эффективным будет вмешательство государства в улучшение ситуации на рынк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лько  времени потребуется для реализации государственной политик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колько велики затраты на проведение государственного вмешательств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Направления государственной политик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тимонопольная полити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рьеры для входа на рынок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оги и субсид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вестиционная полити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итика в области занятост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кроэкономическая полит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40920"/>
            <a:ext cx="769644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Факторы, которые способствовали развитию микроэкономического подхода в изучении отраслевых рынков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2895120"/>
            <a:ext cx="7772400" cy="36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ижение в области теории ценообразования - в структурах, отличных от совершенной конкуренции и монопол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упность статистической информации на микроэкономическом уров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360" y="205920"/>
            <a:ext cx="784836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Исследования поведения фирм и функционирования отраслевых рынков, в условиях, отличных от совершенной конкуренции (до выделения экономики отраслевых рынков в самостоятельную научную дисциплину)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3810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 Х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Х ве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стижения А. Курно и Ж. Бертрана в теории олигопол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28840" y="312408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 30-х годах ХХ 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ка Э. Чемберлином модели монополистической конкурен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Модель монополистической конкурен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формировала концепцию дифференциации продук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казала роль входа на рынок новых фир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зала в одном типе рынка черты совершенной конкуренции и монопол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явила новые возможности теоретического анализа монополистической конкуренции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2440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Основные направления развития микроэкономического подхода в изучении отраслевых рынков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нение теории игр к моделям олигополии, что позволило анализировать стратегическое взаимодействие фир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ка формальных моделей, позволяющих оценить влияние различных параметров рынка на равновесные цены и объёмы производств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 эконометрических исследова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7156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Что представляет собой рынок отдельного товара в мире дифференцированных продуктов, где пролегают его границы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28840" y="1771200"/>
            <a:ext cx="38098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обозначив границы рынка, невозможно оценить степень его монополизации (концентрации) и определить адекватные формы государственного вмешатель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69608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Тема 1. Возникновение и развитие научной дисциплины «Экономика отраслевых рынков»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3809880"/>
            <a:ext cx="777240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Предмет и методы экономики отраслевых рын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Основные проблемы экономики отраслевых рын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81024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Какие факторы определяют размер фирм, или почему отдается предпочтение внутрифирменной координации, в одних случаях, а рыночной в других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28840" y="1600200"/>
            <a:ext cx="3809880" cy="50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мпирической и теоретической проверке подвергаю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я от масштаба и разнообрази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ртикальная интеграция фир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акционные издержк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Какой элемент рыночной структуры является ключевым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28840" y="1828800"/>
            <a:ext cx="380988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следованию подвергаю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рьеры для входа и выход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фференциации продукт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центрация покупателей и продавц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Действительно ли фирмы максимизируют прибыль или они преследуют иные цел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43400" y="177156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ряду с традиционной гипотезой исследуются предположения 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ксимизации выручк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мпов рост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емление управляющих к расширению вла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3200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5) Каков характер практического ценообразования фирм с рыночной властью и каковы его последствия для благосостояния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14440" y="1599840"/>
            <a:ext cx="472428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ного внимания уделяется изучению положительных и отрицательных с точки зрения благосостояния последствий различных форм ценовой дискриминации, н также разнообразных условии, которые производители навязывают оптовым и розничным торговца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102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6) Способны ли уже существующие фирмы предотвратить вход в отрасль новичков или вытеснить часть имеющихся фир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24280" y="1828440"/>
            <a:ext cx="41148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есь внимание уделяется стратегическому взаимодействию фирм, а также различного рода барьерам, как институциональным так и неинституциональны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7) Какие факторы облегчают или затрудняют сговор и иные формы координац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00600" y="1828440"/>
            <a:ext cx="403848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и вопросы затрагивают способность фирм воздействовать на структуру рынка и тем самым активно воздействовать на свою прибыль и положение на рынк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358164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8) Насколько значительно отклонение от конкурентного идеала рынков с рыночной властью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114440" y="1828440"/>
            <a:ext cx="48006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лагаются различные подходы к оценке ущерба, который терпит общество от монополизма. Результаты существенно зависят от предположений, закладываемых в расчеты, и значительно расходятся - от нескольких до десятков процен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320400"/>
            <a:ext cx="777240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 последние десятилетия в экономике отраслевых рынков получили существенное развитие 3 направления исследований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2666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нение теоретико-игровых моделей в анализе олигополистических рынк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ование теории трансакционных издержек при сравнительном анализе рынк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аботка теории состязательных, или квазиконкурентных, рын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3207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Выделяют два типа состязательных рынков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ки, где цены превышают предельные и средние издержки, в результате чего многие фирмы могут войти на рынок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ки, где цены упали ниже средних издержек, и многие фирмы могут оставить рынок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ажность изучения экономик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сследования в этой области оказывают непосредственное влияние на определение и внедрение государственной политики 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ногие аспекты данной дисциплины остаются недостаточно исследованным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учение экономики отраслевых рынков могло бы оживить эмпирические исследования национальной экономик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ерспективы преподавания микроэкономики без изучения экономики отраслевых рынков, представляющей её эмпирическую основу, существенно ограничиваютс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Возникновение дисциплин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кономика отраслевых рынков как самостоятельная научная дисциплина ведёт свою историю от середины ХХ века. Многие связывают  её возникновение с представителями двух экономических школ - Гарвардской и Чикагск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Тематика курсовых работ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221304"/>
                </a:solidFill>
                <a:latin typeface="TimesNewRoman;TimesNew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следование отрасли (отраслевого рынка) в экономике страны (регион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сто фирмы в системе отраслевых рынков страны (регион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волюционные аспекты развития отрас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овия входа и выхода на отраслевой рынок страны (регион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Различные варианты названия дисциплин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al Economics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ка отрасл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al Organizatio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рганизация отрасл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ория организации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ория организации промышл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ческая теория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ка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Nozaru tirgus ekonom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редмет экономики отраслевых рынк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34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писание того, как хозяйственная деятельность разделена между фирмам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r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r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. Коу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пределение экономики отраслевых рынк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ка о том , как в различных рыночных условиях производственная деятельность посредством рыночного механизма приводится в соответствии со спросом на товары и услуги, и как несовершенство рыночного механизма и изменения в нём влияют на прогресс, достигнутый в удовлетворении экономических потребносте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. М. Шерер, Д. Ро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156960"/>
            <a:ext cx="79246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бщие признаки экономики отраслевых рынков с микроэкономико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учение взаимодействия потребителя и производител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ение влияния рынка на действия производителя и потребител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ализ ценообразования в различных условиях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ёт различных переменных, влияющих на результат деятельно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тличительные признак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04812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икроэконом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ёт наиболее существенных переменны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общих моде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114440" y="1295280"/>
            <a:ext cx="4724280" cy="49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Экономика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ёт многочисленных дополнительных количественных и качественных переменны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более конкретных моделей, опираясь на микроэкономику, с наиболее полным учётом практики (эксперимент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Два подхода в изучении отраслевых рынк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419076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истемный подх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сты Гарвардской школы, профессора Э. Майсон и Д. Бей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ана парадигма «Структура - поведение - результат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05160" y="1599840"/>
            <a:ext cx="380988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икроэкономический подх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сты Чикагской школы, Д. Стиглер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ход с точки зрения теории ценообразования, использующий микроэкономические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13:56:10Z</dcterms:created>
  <dc:creator>Jevgenij</dc:creator>
  <dc:description/>
  <dc:language>en-US</dc:language>
  <cp:lastModifiedBy>Jevgenij</cp:lastModifiedBy>
  <dcterms:modified xsi:type="dcterms:W3CDTF">2008-09-08T06:46:21Z</dcterms:modified>
  <cp:revision>38</cp:revision>
  <dc:subject/>
  <dc:title>Тема 1. Возникновение и развитие научной дисциплины «Экономика отраслевых рынков»</dc:title>
</cp:coreProperties>
</file>