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96874-990C-4EEC-B8BA-B09D2267E2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5B04-3EBC-42F2-83B8-4BA33219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8E6-17BF-46DA-BB61-DED462FB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B01-6872-496E-B141-9E23845F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1CB-BCC0-4FB0-982C-47D26BB0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3594-0856-411B-B7CA-8F2610BE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55D9-B375-489A-A1AB-ADA2C9C5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512C-3AEF-40D3-B073-AB00B01F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8E0E-48D8-488D-8EAF-21523214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89AC-C207-4022-9AD0-7F0ABC27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3088-1679-4DD1-AAD4-CA4EA895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4B55-A4B5-4F77-9BA9-206C8494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132-9D06-464B-87B2-6980DD6D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91FF-36C4-4026-8381-88537B3D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EE88-DF8D-40B0-AF60-8BC13BA2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F2E9-700E-4127-9DAC-92F10CFD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F18F-C227-41F0-8A6E-FF699641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62EB-9C61-402A-817F-18C33690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009-D289-4453-B01A-12E9B572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D88-EE75-4AB0-8D62-939B1B8E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A1C-8A69-422C-AF77-6F845ADA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A45-5846-4AC4-848B-3E3986C0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D8E-3A0B-44A9-9EFC-BD45C3D3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8CE-9AE7-4DA1-BD2C-AE45DD21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445-27F1-45D1-9B45-53379934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59BAD3-76BD-41DB-AFAF-CD5F7C6A65D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9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27541A-0C58-4F94-A553-3E2ECD01876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нализ отраслевых барьеров в рыночной экономике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траслевые барьеры и их классифик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е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роблемы, связанные со стратегическими барье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31ED-7933-47DC-9133-BA092BE5224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9016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Классификация барьеров в зависимости от  влияния на рыночную структуру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79640" y="1619280"/>
            <a:ext cx="7740360" cy="5041800"/>
            <a:chOff x="1079640" y="1619280"/>
            <a:chExt cx="7740360" cy="5041800"/>
          </a:xfrm>
        </p:grpSpPr>
        <p:sp>
          <p:nvSpPr>
            <p:cNvPr id="157" name=""/>
            <p:cNvSpPr/>
            <p:nvPr/>
          </p:nvSpPr>
          <p:spPr>
            <a:xfrm>
              <a:off x="1252440" y="1706400"/>
              <a:ext cx="7567560" cy="49546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9" idx="0"/>
              <a:endCxn id="160" idx="2"/>
            </p:cNvCxnSpPr>
            <p:nvPr/>
          </p:nvCxnSpPr>
          <p:spPr>
            <a:xfrm rot="10800000">
              <a:off x="6593760" y="5400720"/>
              <a:ext cx="1054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1" name=""/>
            <p:cNvCxnSpPr>
              <a:stCxn id="162" idx="0"/>
              <a:endCxn id="163" idx="2"/>
            </p:cNvCxnSpPr>
            <p:nvPr/>
          </p:nvCxnSpPr>
          <p:spPr>
            <a:xfrm flipV="1">
              <a:off x="4946400" y="5400720"/>
              <a:ext cx="910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4" name=""/>
            <p:cNvCxnSpPr>
              <a:stCxn id="165" idx="0"/>
              <a:endCxn id="166" idx="2"/>
            </p:cNvCxnSpPr>
            <p:nvPr/>
          </p:nvCxnSpPr>
          <p:spPr>
            <a:xfrm rot="10800000">
              <a:off x="8151120" y="3956760"/>
              <a:ext cx="2160" cy="45000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7" name=""/>
            <p:cNvCxnSpPr>
              <a:stCxn id="160" idx="0"/>
              <a:endCxn id="168" idx="2"/>
            </p:cNvCxnSpPr>
            <p:nvPr/>
          </p:nvCxnSpPr>
          <p:spPr>
            <a:xfrm rot="10800000">
              <a:off x="6544440" y="4147560"/>
              <a:ext cx="50040" cy="25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9" name=""/>
            <p:cNvCxnSpPr>
              <a:stCxn id="163" idx="0"/>
              <a:endCxn id="170" idx="2"/>
            </p:cNvCxnSpPr>
            <p:nvPr/>
          </p:nvCxnSpPr>
          <p:spPr>
            <a:xfrm rot="10800000">
              <a:off x="4652280" y="4139640"/>
              <a:ext cx="384840" cy="2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1" name=""/>
            <p:cNvCxnSpPr>
              <a:stCxn id="172" idx="0"/>
              <a:endCxn id="173" idx="2"/>
            </p:cNvCxnSpPr>
            <p:nvPr/>
          </p:nvCxnSpPr>
          <p:spPr>
            <a:xfrm rot="10800000">
              <a:off x="2567880" y="3956760"/>
              <a:ext cx="907200" cy="450000"/>
            </a:xfrm>
            <a:prstGeom prst="bentConnector3">
              <a:avLst>
                <a:gd name="adj1" fmla="val 4998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4" name=""/>
            <p:cNvCxnSpPr>
              <a:stCxn id="175" idx="0"/>
              <a:endCxn id="173" idx="2"/>
            </p:cNvCxnSpPr>
            <p:nvPr/>
          </p:nvCxnSpPr>
          <p:spPr>
            <a:xfrm flipV="1">
              <a:off x="1833480" y="3957120"/>
              <a:ext cx="735840" cy="45000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6" name=""/>
            <p:cNvCxnSpPr>
              <a:stCxn id="166" idx="0"/>
              <a:endCxn id="177" idx="2"/>
            </p:cNvCxnSpPr>
            <p:nvPr/>
          </p:nvCxnSpPr>
          <p:spPr>
            <a:xfrm rot="10800000">
              <a:off x="5425200" y="2518560"/>
              <a:ext cx="2726640" cy="53748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8" name=""/>
            <p:cNvCxnSpPr>
              <a:stCxn id="168" idx="0"/>
              <a:endCxn id="177" idx="2"/>
            </p:cNvCxnSpPr>
            <p:nvPr/>
          </p:nvCxnSpPr>
          <p:spPr>
            <a:xfrm rot="10800000">
              <a:off x="5425200" y="2518560"/>
              <a:ext cx="1119960" cy="551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9" name=""/>
            <p:cNvCxnSpPr>
              <a:stCxn id="170" idx="0"/>
              <a:endCxn id="177" idx="2"/>
            </p:cNvCxnSpPr>
            <p:nvPr/>
          </p:nvCxnSpPr>
          <p:spPr>
            <a:xfrm flipV="1">
              <a:off x="4653000" y="2518920"/>
              <a:ext cx="775440" cy="54072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0" name=""/>
            <p:cNvCxnSpPr>
              <a:stCxn id="173" idx="0"/>
              <a:endCxn id="177" idx="2"/>
            </p:cNvCxnSpPr>
            <p:nvPr/>
          </p:nvCxnSpPr>
          <p:spPr>
            <a:xfrm flipV="1">
              <a:off x="2568240" y="2518920"/>
              <a:ext cx="2858040" cy="540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77" name=""/>
            <p:cNvSpPr/>
            <p:nvPr/>
          </p:nvSpPr>
          <p:spPr>
            <a:xfrm>
              <a:off x="4757760" y="1619280"/>
              <a:ext cx="1335240" cy="900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иды отраслевых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барьер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0120" y="3060720"/>
              <a:ext cx="1596960" cy="898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 препятствующи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ходу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совершен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3060720"/>
              <a:ext cx="1744560" cy="107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эффективно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стическ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3071880"/>
              <a:ext cx="15080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Эффективно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доминрироую-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щей фирмы ил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лиг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85120" y="3057480"/>
              <a:ext cx="1334880" cy="900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локиру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абсолют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79640" y="4408560"/>
              <a:ext cx="1508040" cy="900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есурса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06560" y="4408560"/>
              <a:ext cx="1338480" cy="900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ынку</a:t>
              </a:r>
              <a:br>
                <a:rPr sz="1300"/>
              </a:b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8960" y="4408560"/>
              <a:ext cx="1334880" cy="992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озможность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деятельност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кратк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27760" y="4408560"/>
              <a:ext cx="1333440" cy="9921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ятельность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долг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86560" y="4408560"/>
              <a:ext cx="1333440" cy="900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лающие вход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невозможны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89320" y="5759280"/>
              <a:ext cx="1514520" cy="9003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сутствие реакци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т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27760" y="5759280"/>
              <a:ext cx="1542960" cy="9003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ребуются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ополнительные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ы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1DE-F4F0-4011-9B16-DCA153E792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Нестратегическ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барьеры, создаваемые условиями отрасли, факторами объективного характера и по большей части независимые от деятельности фирмы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тратегические барьер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появляются в результате стратегических действий самих фирм на рынке или в отрасли и, в силу этого, имеют субъективный характе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186-E9C6-439F-96BC-0C8102C8044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29844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0720" y="1440000"/>
            <a:ext cx="8099280" cy="4859280"/>
            <a:chOff x="720720" y="1440000"/>
            <a:chExt cx="8099280" cy="4859280"/>
          </a:xfrm>
        </p:grpSpPr>
        <p:sp>
          <p:nvSpPr>
            <p:cNvPr id="185" name=""/>
            <p:cNvSpPr/>
            <p:nvPr/>
          </p:nvSpPr>
          <p:spPr>
            <a:xfrm>
              <a:off x="720720" y="1440000"/>
              <a:ext cx="8099280" cy="485928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7" idx="0"/>
              <a:endCxn id="188" idx="2"/>
            </p:cNvCxnSpPr>
            <p:nvPr/>
          </p:nvCxnSpPr>
          <p:spPr>
            <a:xfrm rot="10800000">
              <a:off x="7601760" y="3648960"/>
              <a:ext cx="6721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9" name=""/>
            <p:cNvCxnSpPr>
              <a:stCxn id="190" idx="0"/>
              <a:endCxn id="188" idx="2"/>
            </p:cNvCxnSpPr>
            <p:nvPr/>
          </p:nvCxnSpPr>
          <p:spPr>
            <a:xfrm flipV="1">
              <a:off x="7000560" y="3649320"/>
              <a:ext cx="6022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1" name=""/>
            <p:cNvCxnSpPr>
              <a:stCxn id="192" idx="0"/>
              <a:endCxn id="193" idx="2"/>
            </p:cNvCxnSpPr>
            <p:nvPr/>
          </p:nvCxnSpPr>
          <p:spPr>
            <a:xfrm rot="10800000">
              <a:off x="5725440" y="4974480"/>
              <a:ext cx="2289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4" name=""/>
            <p:cNvCxnSpPr>
              <a:stCxn id="195" idx="0"/>
              <a:endCxn id="193" idx="2"/>
            </p:cNvCxnSpPr>
            <p:nvPr/>
          </p:nvCxnSpPr>
          <p:spPr>
            <a:xfrm rot="10800000">
              <a:off x="5725440" y="4974480"/>
              <a:ext cx="9277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6" name=""/>
            <p:cNvCxnSpPr>
              <a:stCxn id="197" idx="0"/>
              <a:endCxn id="193" idx="2"/>
            </p:cNvCxnSpPr>
            <p:nvPr/>
          </p:nvCxnSpPr>
          <p:spPr>
            <a:xfrm flipV="1">
              <a:off x="5219280" y="4974840"/>
              <a:ext cx="506880" cy="442080"/>
            </a:xfrm>
            <a:prstGeom prst="bentConnector3">
              <a:avLst>
                <a:gd name="adj1" fmla="val 49964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8" name=""/>
            <p:cNvCxnSpPr>
              <a:stCxn id="199" idx="0"/>
              <a:endCxn id="193" idx="2"/>
            </p:cNvCxnSpPr>
            <p:nvPr/>
          </p:nvCxnSpPr>
          <p:spPr>
            <a:xfrm flipV="1">
              <a:off x="3814560" y="4974840"/>
              <a:ext cx="1911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0" name=""/>
            <p:cNvCxnSpPr>
              <a:stCxn id="201" idx="0"/>
              <a:endCxn id="202" idx="2"/>
            </p:cNvCxnSpPr>
            <p:nvPr/>
          </p:nvCxnSpPr>
          <p:spPr>
            <a:xfrm rot="10800000">
              <a:off x="1902600" y="4974480"/>
              <a:ext cx="6375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3" name=""/>
            <p:cNvCxnSpPr>
              <a:stCxn id="204" idx="0"/>
              <a:endCxn id="202" idx="2"/>
            </p:cNvCxnSpPr>
            <p:nvPr/>
          </p:nvCxnSpPr>
          <p:spPr>
            <a:xfrm flipV="1">
              <a:off x="1266480" y="4974840"/>
              <a:ext cx="6390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5" name=""/>
            <p:cNvCxnSpPr>
              <a:stCxn id="193" idx="0"/>
              <a:endCxn id="206" idx="2"/>
            </p:cNvCxnSpPr>
            <p:nvPr/>
          </p:nvCxnSpPr>
          <p:spPr>
            <a:xfrm rot="10800000">
              <a:off x="3779280" y="3648960"/>
              <a:ext cx="1946880" cy="442080"/>
            </a:xfrm>
            <a:prstGeom prst="bentConnector3">
              <a:avLst>
                <a:gd name="adj1" fmla="val 4999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7" name=""/>
            <p:cNvCxnSpPr>
              <a:stCxn id="202" idx="0"/>
              <a:endCxn id="206" idx="2"/>
            </p:cNvCxnSpPr>
            <p:nvPr/>
          </p:nvCxnSpPr>
          <p:spPr>
            <a:xfrm flipV="1">
              <a:off x="1902960" y="364932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8" name=""/>
            <p:cNvCxnSpPr>
              <a:stCxn id="188" idx="0"/>
              <a:endCxn id="209" idx="2"/>
            </p:cNvCxnSpPr>
            <p:nvPr/>
          </p:nvCxnSpPr>
          <p:spPr>
            <a:xfrm rot="10800000">
              <a:off x="5723640" y="232344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10" name=""/>
            <p:cNvCxnSpPr>
              <a:stCxn id="206" idx="0"/>
              <a:endCxn id="209" idx="2"/>
            </p:cNvCxnSpPr>
            <p:nvPr/>
          </p:nvCxnSpPr>
          <p:spPr>
            <a:xfrm flipV="1">
              <a:off x="3779640" y="2323800"/>
              <a:ext cx="19450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5178600" y="1440000"/>
              <a:ext cx="1091880" cy="882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арьер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0720" y="2765520"/>
              <a:ext cx="1440000" cy="88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обусловленн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ективными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акторам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20000" y="2765520"/>
              <a:ext cx="1163520" cy="882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создаваемы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частникам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57200" y="4091040"/>
              <a:ext cx="1092240" cy="88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0040" y="4091040"/>
              <a:ext cx="1092240" cy="882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720" y="5416560"/>
              <a:ext cx="1092240" cy="882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ехнолог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5480" y="5416560"/>
              <a:ext cx="1092240" cy="882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ровень 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68800" y="5416560"/>
              <a:ext cx="1092240" cy="8827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ём спро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5416560"/>
              <a:ext cx="1439640" cy="882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азвитость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07040" y="5416560"/>
              <a:ext cx="1092240" cy="8827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ностранная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80360" y="5416560"/>
              <a:ext cx="1271520" cy="8827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ип конкурен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4800" y="4091040"/>
              <a:ext cx="1090440" cy="8827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ведение 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28120" y="4091040"/>
              <a:ext cx="1090440" cy="8827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оглашения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638-FC09-4175-8545-FB67D4E4C1D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2. Нестратегические барь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143000"/>
            <a:ext cx="7696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ратегические, или объективные барьеры можно свести в три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ехнологические (барьеры, основанные на абсолютном преимуществе в уровне затрат и барьеры, основанные на относительном преимуществе в уровне затрат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кономические (ограниченность спроса, барьеры капитальных затрат или объёмы первоначальных инвестиций, состояние инфраструктуры рынк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нституциональные (административные барьеры и криминализация экономи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E99-4F5F-4C36-A9DF-D7135FC1211A}" type="slidenum">
              <a:t>1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абсолют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бсолютные преимущества в отношении издержек означают, что кривая долгосрочных средних издержек фирм, уже действующих в отрасли, на всём своём протяжении лежит выше кривой издержек потенциальных конкурент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едовательно цена, необходимая для возмещения инвестиций потенциальных конкурентов будет выше, чем средняя цена в отрасл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AC7-3C48-45A9-AC97-A6FF0A4E05A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636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ичины абсолютных преимуществ в уровне затра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щих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7600" y="1619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новых фирм могут быть недоступны наиболее дешевые и наиболее качественные источники ресурсов, которые используются уже действующими в отрасли фирм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же преимущества создаются самим процессом функционирования старых фирм в отрасли; накапливания опыта экономии издержек и оптимального распределения ресурс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D16-04C9-4E4E-BF0E-9407685E60D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относитель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7600" y="197964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ые преимущества в издержках возникают за счёт производства уже существующими в отрасли фирмами большего объёма выпуска, нежели может освоить потенциальный конкуре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заключаются в таких особенностях производственного процесса которые проявляются в положительном эффекте масштаба производства и минимально эффективном объеме выпуска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755-9219-4728-A4E0-16D2E647566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228600"/>
            <a:ext cx="7264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Минимально эффективный выпус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900000"/>
            <a:ext cx="4408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838080"/>
            <a:ext cx="3504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66680" y="1371600"/>
            <a:ext cx="7701120" cy="3412440"/>
            <a:chOff x="1066680" y="1371600"/>
            <a:chExt cx="7701120" cy="3412440"/>
          </a:xfrm>
        </p:grpSpPr>
        <p:sp>
          <p:nvSpPr>
            <p:cNvPr id="223" name=""/>
            <p:cNvSpPr/>
            <p:nvPr/>
          </p:nvSpPr>
          <p:spPr>
            <a:xfrm flipV="1">
              <a:off x="5391000" y="1514160"/>
              <a:ext cx="1800" cy="28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1000" y="4324320"/>
              <a:ext cx="304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2600" y="2811600"/>
              <a:ext cx="2432160" cy="863640"/>
            </a:xfrm>
            <a:custGeom>
              <a:avLst/>
              <a:gdLst/>
              <a:ahLst/>
              <a:rect l="l" t="t" r="r" b="b"/>
              <a:pathLst>
                <a:path w="1633" h="544">
                  <a:moveTo>
                    <a:pt x="0" y="0"/>
                  </a:moveTo>
                  <a:cubicBezTo>
                    <a:pt x="75" y="102"/>
                    <a:pt x="151" y="204"/>
                    <a:pt x="226" y="272"/>
                  </a:cubicBezTo>
                  <a:cubicBezTo>
                    <a:pt x="301" y="340"/>
                    <a:pt x="370" y="370"/>
                    <a:pt x="453" y="408"/>
                  </a:cubicBezTo>
                  <a:cubicBezTo>
                    <a:pt x="536" y="446"/>
                    <a:pt x="642" y="476"/>
                    <a:pt x="725" y="499"/>
                  </a:cubicBezTo>
                  <a:cubicBezTo>
                    <a:pt x="808" y="522"/>
                    <a:pt x="876" y="544"/>
                    <a:pt x="952" y="544"/>
                  </a:cubicBezTo>
                  <a:cubicBezTo>
                    <a:pt x="1028" y="544"/>
                    <a:pt x="1096" y="529"/>
                    <a:pt x="1179" y="499"/>
                  </a:cubicBezTo>
                  <a:cubicBezTo>
                    <a:pt x="1262" y="469"/>
                    <a:pt x="1376" y="416"/>
                    <a:pt x="1451" y="363"/>
                  </a:cubicBezTo>
                  <a:cubicBezTo>
                    <a:pt x="1526" y="310"/>
                    <a:pt x="1579" y="245"/>
                    <a:pt x="1633" y="1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39040" y="2308320"/>
              <a:ext cx="1012680" cy="647640"/>
            </a:xfrm>
            <a:prstGeom prst="wedgeRoundRectCallout">
              <a:avLst>
                <a:gd name="adj1" fmla="val -4560"/>
                <a:gd name="adj2" fmla="val 152939"/>
                <a:gd name="adj3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2080" y="245124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17960" y="13716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62800" y="425124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066680" y="1442880"/>
              <a:ext cx="3781440" cy="3341160"/>
              <a:chOff x="1066680" y="1442880"/>
              <a:chExt cx="3781440" cy="334116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1471680" y="1514160"/>
                <a:ext cx="1440" cy="28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71680" y="4324320"/>
                <a:ext cx="3039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41320" y="2595600"/>
                <a:ext cx="2567160" cy="1103400"/>
              </a:xfrm>
              <a:custGeom>
                <a:avLst/>
                <a:gdLst/>
                <a:ahLst/>
                <a:rect l="l" t="t" r="r" b="b"/>
                <a:pathLst>
                  <a:path w="1723" h="695">
                    <a:moveTo>
                      <a:pt x="0" y="0"/>
                    </a:moveTo>
                    <a:cubicBezTo>
                      <a:pt x="18" y="75"/>
                      <a:pt x="37" y="151"/>
                      <a:pt x="90" y="227"/>
                    </a:cubicBezTo>
                    <a:cubicBezTo>
                      <a:pt x="143" y="303"/>
                      <a:pt x="226" y="394"/>
                      <a:pt x="317" y="454"/>
                    </a:cubicBezTo>
                    <a:cubicBezTo>
                      <a:pt x="408" y="514"/>
                      <a:pt x="507" y="552"/>
                      <a:pt x="635" y="590"/>
                    </a:cubicBezTo>
                    <a:cubicBezTo>
                      <a:pt x="763" y="628"/>
                      <a:pt x="907" y="665"/>
                      <a:pt x="1088" y="680"/>
                    </a:cubicBezTo>
                    <a:cubicBezTo>
                      <a:pt x="1269" y="695"/>
                      <a:pt x="1610" y="680"/>
                      <a:pt x="1723" y="68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27400" y="2235240"/>
                <a:ext cx="1012680" cy="647640"/>
              </a:xfrm>
              <a:prstGeom prst="wedgeRoundRectCallout">
                <a:avLst>
                  <a:gd name="adj1" fmla="val -15296"/>
                  <a:gd name="adj2" fmla="val 170833"/>
                  <a:gd name="adj3" fmla="val 16667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30440" y="2308320"/>
                <a:ext cx="67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44288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43480" y="432432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33640" y="4324320"/>
                <a:ext cx="26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121360" y="4251240"/>
              <a:ext cx="2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074600" y="474804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имально эффективный выпуск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– это такой объем производства, при котором положительный эффект масштаба сменяется на постоянный эффект масштаба (в случае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, или на отрицательный эффект масштаба (в случае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E9AD-7530-46F0-85CD-C5974975316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11240" y="228600"/>
            <a:ext cx="767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221304"/>
                </a:solidFill>
                <a:latin typeface="Times New Roman"/>
              </a:rPr>
              <a:t>Количество фирм, действующих в отрасл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17720" y="1371600"/>
            <a:ext cx="766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личество фирм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действующих в отрасли в состоянии долгосрочного равновесия, можно определить отношением объема рыночного спроса при цене, равной минимальному значению долгосрочных средних издержек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(P=minLRAC)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к 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MES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разумеется, при допущении, что производственная функция и структура издержек у всех фирм в отрасли идентичны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5960" y="3214800"/>
            <a:ext cx="85280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581280" y="5486400"/>
                <a:ext cx="355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RA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CAE-D12E-47AE-9A05-C862246D9EA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533520"/>
            <a:ext cx="79740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число фирм в отрасли окажется больше 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из них будет производить продукцию с издержками, превышающими минимальные значения долгосроч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новая конкуренция приведет к снижению цены до уровня минималь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фирм, оказавшись убыточными, вынуждены будут оставить отрасл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положительный эффект масштаба является барьером входа в отрасль, однако для  определения «высоты» барьеров необходима информация о разнице в уровнях средних издержек у крупных и малых фирм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416-C303-43B9-8F2E-4B2E6C1B83A2}" type="slidenum">
              <a:t>19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33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1. Отраслевые барьеры и их классификац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 новых фирм – это существенная характеристика отрасли, влияющая на её развит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ожительная экономическая прибыль в равновесии является стимулом к входу в отрасль новых фи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052-AD20-4D6C-87DD-BC284742424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граниченность спроса (ёмкость рынка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Ёмкость рынка как барьер входа включает в себя следующие факто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насыщенность рынка товар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зкая платёжеспособность насел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иностранных конкур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ECB-2EDB-45CA-856E-AA76E9A91D7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4912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рьеры капитальных затрат или объёмы первоначальных инвестиций, необходимых для входа на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79640" y="167148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ъёмы первоначальных инвестиций определяют саму возможность или невозможность организации нового производства в отрасл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и капитальных затрат следует выдел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траты на освоение выпуска данного товар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имость нового строительства и технического перевооружения действующих мощносте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на НИОКР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готовка и найм персонала, организация сбытовой сет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ительность освоения производ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CDE-1453-4480-9A2D-01D8404645A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00240" y="72036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капитальных затрат зависит от таких факторов, как степень развитости, организованности и открытости рынков ресурсов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ру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инвестиционных товаров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ехнологий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капитал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57F-5B71-4909-B3B5-B734AA77ADA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Состояние инфраструктуры рын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 инфраструктуры рынка определяется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м транспортной систем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щностью складской базы, - складов, необходимых на всем пути продвижения товара от производителя до конечного потребител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достаточность инфраструктурных составляющих следует рассматривать как высокие барьеры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F3C-DB65-405C-A35F-065938F61DD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31716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Административные барьеры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79280" y="9478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оздаются органами государственной власти различных уровней и включают в себя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лицензирование деятельности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вотирование производства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сложнённый порядок регистрации новых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ертификацию продукци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цедуру отвода земельных участков под промышленное строительство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личие неформальных отношений между органами государственной власти и предприятиям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кологические нормы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граничения на использование земель, лесных угодий, недр, запасов полезных ископаемы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796-86E2-456F-BE6A-CC29D94D008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риминализация экономик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Если для ведения дела предпринимателю требуется “крыша”, некое неофициальное прикрытие со стороны криминальных структур, то расходы на поддержание подобного рода отношений составляют значительные барьеры вход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6F4-AF88-4434-B9E8-9F5957C5715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7600" y="1440000"/>
            <a:ext cx="7772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тегические барьеры сознательно создаются фирмами, действующими в отрасли, что является инструментом их стратегического поведения, препятствующим новым участникам входу в отрасль. К ним можно отнести такие мероприятия фирм, как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сурсосберегающие инновац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поставщиками ресурс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ение лицензий и патентов на определенный вид деятель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ение незагруженных мощност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ение затрат на рекламу и НИОКР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держки по созданию имиджа и фир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FA9-3245-421A-9BFB-DC313B3C5B2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ие барьеры входа, проявляющиеся в виде стратегического поведения, можно разделить на ценовые и неценовые (дополнительные инвестиции в оборудование, дифференциация продукта, долгосрочные контракты, вертикальна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ц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AB4-0EB6-4405-9725-8ADEB00A391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9640" y="304920"/>
            <a:ext cx="783576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079280"/>
            <a:ext cx="77724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ы, уже действующие в отрасли, зная отраслевой спрос и отраслевое предложение могут назначить такую цену, которая ограничит появление новых конкурент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кие барьеры получили название “ценообразование, ограничивающее вход” и сводятся к установлению действующими фирмами цен ниже уровня, обеспечивающего им  максимизацию прибыл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ам, которые проводят такую политику, приходится делать выбор между сокращением своей краткосрочной прибыли в результате снижения цен и потерей долгосрочной прибыли в результате входа на рынок новых участник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55F-0C9B-4214-B3F9-E4AC286BBA1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ценовые стратегии создания барьеров в отрасл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47600" y="146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сли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уровень монопольной прибыли старой фирмы, действующей в отрасли в условиях отсутствия потенциального конкурента, А – расходы на проведение неценовых стратегий по созданию барьеров,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ожидаемая прибыль новой фирмы в случае её проникновения на рынок, то старая фирма будет делать вложения по созданию неценовых барьеров только тогда, когда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А &gt;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то есть выгода барьеров превышает угрозу снижения прибыли в результате конкуренции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ECE-0C88-480B-AED8-DD53B4FECAA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Значение входа новых фирм в отрасл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640" y="11980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появления новых фирм в отрасли уровни прибыльности и цен возвращаются к их долгосрочному конкурентному знач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овых фирм рассматривается как фактор технологических изменений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наличие отраслевых барьеров определяет динамику экономического роста и благосостояния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барьеров или их предотвращение становится элементом конкурентной политики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11A-21CF-4327-B6C5-DEDFCDB9F06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полнительное инвестирование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инвестиции в оборудование для новой фирмы можно рассматривать как необратимые издержки. Фирма вынуждена их оплачивать, даже не выпуская проду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действующая фирма обладает избыточными производственными мощностями, по сравнению с величиной спроса, то при угрозе появления нового конкурента, она может увеличить объем выпуска до уровня, ограничивающего   вход. При этом новая фирма потеряет величину необратимых издер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34D-A054-4C0E-94D2-3DD3028799E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ифференциация продукт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ие на рынке фирмы для предотвращения входа новых фирм могут  наполнить рынок значительным количеством товаров-заменителей, чтобы потенциальным конкурентам было труднее в этом изобилии найти свою ниш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ю очередь новая фирма будет вынуждена увеличивать свои расходы на рекламу, тем самым минимальный объем выпуска в отрасли, необходимый для организации эффективного производства возрастает, а ожидаемая прибыль пониж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100-1934-4781-AE2D-C659A33C99C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лгосрочные контра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третьими лицами, в частности, с поставщиками ресурсов, потребителями товаров, а также с работниками отрасли (например, с отраслевым профсоюзом) ограничивают возможности потенциальных конкурентов найти поставщиков ресурсов, рынки сбыта и т.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DE7-A92C-43A9-85E4-62EA56D46E7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ртикальная интеграц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ая интеграция представляет собой процесс объединения в рамках одной фирмы более одной стадии производства конечной продук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о интегрированная фирма, в отличие от неинтегрированной фирмы, избавлена от необходимости заключать контракты с поставщиками и покупателями – представителями смежных производственных стадий. Тем самым, у вертикально интегрированной фирмы снижаются трансакционные издерж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неинтегрированных производителей такие контракты, в которых кроме цен оговариваются вопросы особых условий поставки, особых условий реализации продукции и другие условия,  выступают как вертикальные огранич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2DD-F53A-4DC2-9F40-9806197D80A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556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облемы, связанные со стратегическими барьерам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9640" y="1439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ализация стратегических барьеров на практике связана с рядом пробле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, при проведении политики ценообразования, ограничивающего вход новых участников на рынок, действующие на рынке фирмы должны правильно оцен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действующих фирм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потенциальных конкурентов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ловия спроса и, прежде всего, ценовую эластичность  спрос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5F7-46B6-451C-A551-2DA73AD8A67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173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Необходимость поддержания в отрасли определённого объема выпус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 в отрасль будет эффективным только в случае поддержания в отрасли определённого объема выпус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условиях невозможности согласованной деятельности маловероятно обеспечить равенство отраслевого выпуска уровню, ограничивающему в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ирование рыночных долей участников отрасли затруднительно, из-за различий в уровнях издержек производства, и изменениями спроса с течением времен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3A5-B44E-49BF-82B8-2842DB66F91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Непредсказуемость конкурен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явление в отрасли новых участников может повлечь сокращение объемов выпуска уже действующих фирм, особенно если в отрасль входит не новичок в предпринимательстве, а крупный диверсифицированный концерн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таком случае исход конкуренции, вплоть до ценовых войн – непредсказуе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621-2378-4479-A7C1-15849FCF6E9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Ускоряющиеся технологические иннов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коряющиеся технологические инновации позволяют новым фирмам снизить издержки производства. Данный фактор не позволяет действующим фирмам адекватно оценить ценовые ориентиры, то есть возможна переоценка уровня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D700-9B62-4AC8-9D7A-DF0BCF4B8DF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Поведение безбилетника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7600" y="180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успешная реализация стратегических барьеров оказывает положительный эффект на всех участников отрасли, вне зависимости от того чьими усилиями и средствами она была обеспечена, фирмы не свободны от искушения воспользоваться результатами “чужих” барьер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DF0-1872-41E8-B9CE-103E72D3D66F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7600" y="1290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входа - все факторы объективного или субъективного характера, которые препятствуют новым фирмам организовать рентабельное производство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формальной возможности организовать производство в большинстве отраслей еще не означает отсутствие барьеров в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7C3-D299-474C-BB50-AE14B04F0E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3189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ы барьеров в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7600" y="117324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обенности отрасли или рынка (технология производства, стартовые и текущие затраты, объём спроса, зрелость и развитость рынка, тип конкуренции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едение хозяйствующих субъектов (антиконкурентные действий и соглаше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 органов государственной власти (лицензирование, налогообложение, фиксация цен,  государственная помощь отдельным субъектам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причины (сужение географических границ рынка вследствие роста транспортных расходов, возрастание международной конкуренции в условиях ограниченного спроса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D67-7C16-4F55-8F1C-10B3CF4F7F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ы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 объективные или субъективные факторы, которые препятствуют фирме уйти из отрасли без существенных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связаны с, так называемыми, необратимыми издержками, которые делают невозможным уход фирмы из отрасли без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2E0-8DA9-43F1-96FC-1CB48BBD4A9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360" y="304920"/>
            <a:ext cx="71992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Барьеры выхода связаны со структурными характеристиками того или иного вида хозяйственной деятельности, такими как: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иквидность актив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можность диверсификации производства с использованием имеющегося оборудования, технологий, источников сырь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мкнутость и связанность технологических цепоч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670-4C33-43D8-8157-E1D6191E7C1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 выхода - составная часть барьеров вход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увеличивают риск хозяйствования в отрасли, а значит создают дополнительные барьеры входа в отрасл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фирма знает, что уйти из отрасли без значительных потерь невозможно, то это может оказать влияние на её решение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им образом, барьеры выхода следует рассматривать как составную часть отраслевых барьеров, препятствующих входу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FC9-DF90-4478-859E-80E768F8B6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9808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Барьеры входа и вы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76400" y="1571760"/>
            <a:ext cx="7466040" cy="4521240"/>
            <a:chOff x="1076400" y="1571760"/>
            <a:chExt cx="7466040" cy="4521240"/>
          </a:xfrm>
        </p:grpSpPr>
        <p:sp>
          <p:nvSpPr>
            <p:cNvPr id="141" name=""/>
            <p:cNvSpPr/>
            <p:nvPr/>
          </p:nvSpPr>
          <p:spPr>
            <a:xfrm>
              <a:off x="1076400" y="1571760"/>
              <a:ext cx="7466040" cy="4521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3" idx="0"/>
              <a:endCxn id="144" idx="2"/>
            </p:cNvCxnSpPr>
            <p:nvPr/>
          </p:nvCxnSpPr>
          <p:spPr>
            <a:xfrm flipV="1">
              <a:off x="68194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5" name=""/>
            <p:cNvCxnSpPr>
              <a:stCxn id="146" idx="0"/>
              <a:endCxn id="147" idx="2"/>
            </p:cNvCxnSpPr>
            <p:nvPr/>
          </p:nvCxnSpPr>
          <p:spPr>
            <a:xfrm flipV="1">
              <a:off x="27982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8" name=""/>
            <p:cNvCxnSpPr>
              <a:stCxn id="144" idx="0"/>
              <a:endCxn id="149" idx="2"/>
            </p:cNvCxnSpPr>
            <p:nvPr/>
          </p:nvCxnSpPr>
          <p:spPr>
            <a:xfrm flipV="1">
              <a:off x="68194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0" name=""/>
            <p:cNvCxnSpPr>
              <a:stCxn id="147" idx="0"/>
              <a:endCxn id="151" idx="2"/>
            </p:cNvCxnSpPr>
            <p:nvPr/>
          </p:nvCxnSpPr>
          <p:spPr>
            <a:xfrm flipV="1">
              <a:off x="27982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2" name=""/>
            <p:cNvCxnSpPr>
              <a:stCxn id="149" idx="0"/>
              <a:endCxn id="153" idx="2"/>
            </p:cNvCxnSpPr>
            <p:nvPr/>
          </p:nvCxnSpPr>
          <p:spPr>
            <a:xfrm rot="10800000">
              <a:off x="4809240" y="2393280"/>
              <a:ext cx="201060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4" name=""/>
            <p:cNvCxnSpPr>
              <a:stCxn id="151" idx="0"/>
              <a:endCxn id="153" idx="2"/>
            </p:cNvCxnSpPr>
            <p:nvPr/>
          </p:nvCxnSpPr>
          <p:spPr>
            <a:xfrm flipV="1">
              <a:off x="2798280" y="2393640"/>
              <a:ext cx="201204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3086280" y="1571760"/>
              <a:ext cx="3446280" cy="82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барь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6400" y="2805120"/>
              <a:ext cx="3446280" cy="82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а рынок новых фир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5800" y="2805120"/>
              <a:ext cx="3446640" cy="822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ы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з отрасли без потер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6400" y="4037040"/>
              <a:ext cx="3446280" cy="82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нижают угрозы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тенциальной конкурен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5800" y="4037040"/>
              <a:ext cx="3446640" cy="822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граничивают количество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  в отрас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6400" y="5270400"/>
              <a:ext cx="3446280" cy="822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5800" y="5270400"/>
              <a:ext cx="3446640" cy="819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BF7-B600-45C6-A58D-8B98FA86A95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cturer</cp:lastModifiedBy>
  <cp:revision>0</cp:revision>
  <dc:subject/>
  <dc:title>Анализ отраслевых барьеров в рыночной экономике</dc:title>
</cp:coreProperties>
</file>