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F1DDB-9F2A-46D6-88E8-361F66E707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4DD4-6846-43BE-910E-7C519AC8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E369-70A1-40A1-A8F2-C205515D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D2C-50E0-434A-94AB-13608D0A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1CD3-A055-4939-BE51-91FDA172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9E7D-F8B8-4294-BEF7-D8E97754A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ED69-0C00-4C4E-90DF-656101BB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9A004-175C-4159-B969-22A524599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30F8-CB5E-458E-B4D0-80CB2853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A284-620A-4F04-945B-E4B5EEC3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21390-6F69-44D8-AEBD-9121B54F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531D-DDBE-463A-A0EB-2B6AA86F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A7A9-9866-43D7-9A8E-6CEB2360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216D-8339-4926-882F-4216802B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FF349-E569-4653-A650-3409B960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D7D1-04D1-4A91-BAD3-6A98998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4F9E6-9B16-4475-BE1F-4373F5572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E810-1A1A-4E67-9C28-31EF5F003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15D-FB23-4002-9602-CA3C5557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24B3-57DD-4747-95B7-F4B2E17A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5BEE-3796-4A0B-9861-EF52F40D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2541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7FE7-34E7-4995-B86F-B5063D26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0DA4-3E4A-4D4D-9E97-068C9302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328-11DE-4A74-B29B-F5E20DBE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370D-0E2E-49BB-B243-F3B994E6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13B30E-FE65-4C41-888F-9A6FF77FE0F4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1911240"/>
            <a:ext cx="77198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65CB5A-BE3E-4630-96A8-668A7C785F0A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1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8.png"/><Relationship Id="rId11" Type="http://schemas.openxmlformats.org/officeDocument/2006/relationships/image" Target="../media/image20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720" y="838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нализ отраслевых барьеров в рыночной экономике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Отраслевые барьеры и их классифика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Не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. Проблемы, связанные со стратегическими барьер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55406-D35A-4FCC-9E97-B7D86129EF3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29016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Классификация барьеров в зависимости от  влияния на рыночную структуру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079640" y="1619280"/>
            <a:ext cx="7740360" cy="5041800"/>
            <a:chOff x="1079640" y="1619280"/>
            <a:chExt cx="7740360" cy="5041800"/>
          </a:xfrm>
        </p:grpSpPr>
        <p:sp>
          <p:nvSpPr>
            <p:cNvPr id="157" name=""/>
            <p:cNvSpPr/>
            <p:nvPr/>
          </p:nvSpPr>
          <p:spPr>
            <a:xfrm>
              <a:off x="1252440" y="1706400"/>
              <a:ext cx="7567560" cy="495468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9" idx="0"/>
              <a:endCxn id="160" idx="2"/>
            </p:cNvCxnSpPr>
            <p:nvPr/>
          </p:nvCxnSpPr>
          <p:spPr>
            <a:xfrm rot="10800000">
              <a:off x="6593760" y="5400720"/>
              <a:ext cx="1054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1" name=""/>
            <p:cNvCxnSpPr>
              <a:stCxn id="162" idx="0"/>
              <a:endCxn id="163" idx="2"/>
            </p:cNvCxnSpPr>
            <p:nvPr/>
          </p:nvCxnSpPr>
          <p:spPr>
            <a:xfrm flipV="1">
              <a:off x="4946400" y="5400720"/>
              <a:ext cx="91080" cy="35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4" name=""/>
            <p:cNvCxnSpPr>
              <a:stCxn id="165" idx="0"/>
              <a:endCxn id="166" idx="2"/>
            </p:cNvCxnSpPr>
            <p:nvPr/>
          </p:nvCxnSpPr>
          <p:spPr>
            <a:xfrm rot="10800000">
              <a:off x="8151120" y="3956760"/>
              <a:ext cx="2160" cy="45000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7" name=""/>
            <p:cNvCxnSpPr>
              <a:stCxn id="160" idx="0"/>
              <a:endCxn id="168" idx="2"/>
            </p:cNvCxnSpPr>
            <p:nvPr/>
          </p:nvCxnSpPr>
          <p:spPr>
            <a:xfrm rot="10800000">
              <a:off x="6544440" y="4147560"/>
              <a:ext cx="50040" cy="259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69" name=""/>
            <p:cNvCxnSpPr>
              <a:stCxn id="163" idx="0"/>
              <a:endCxn id="170" idx="2"/>
            </p:cNvCxnSpPr>
            <p:nvPr/>
          </p:nvCxnSpPr>
          <p:spPr>
            <a:xfrm rot="10800000">
              <a:off x="4652280" y="4139640"/>
              <a:ext cx="384840" cy="2689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1" name=""/>
            <p:cNvCxnSpPr>
              <a:stCxn id="172" idx="0"/>
              <a:endCxn id="173" idx="2"/>
            </p:cNvCxnSpPr>
            <p:nvPr/>
          </p:nvCxnSpPr>
          <p:spPr>
            <a:xfrm rot="10800000">
              <a:off x="2567880" y="3956760"/>
              <a:ext cx="907200" cy="450000"/>
            </a:xfrm>
            <a:prstGeom prst="bentConnector3">
              <a:avLst>
                <a:gd name="adj1" fmla="val 4998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4" name=""/>
            <p:cNvCxnSpPr>
              <a:stCxn id="175" idx="0"/>
              <a:endCxn id="173" idx="2"/>
            </p:cNvCxnSpPr>
            <p:nvPr/>
          </p:nvCxnSpPr>
          <p:spPr>
            <a:xfrm flipV="1">
              <a:off x="1833480" y="3957120"/>
              <a:ext cx="735840" cy="45000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6" name=""/>
            <p:cNvCxnSpPr>
              <a:stCxn id="166" idx="0"/>
              <a:endCxn id="177" idx="2"/>
            </p:cNvCxnSpPr>
            <p:nvPr/>
          </p:nvCxnSpPr>
          <p:spPr>
            <a:xfrm rot="10800000">
              <a:off x="5425200" y="2518560"/>
              <a:ext cx="2726640" cy="53748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8" name=""/>
            <p:cNvCxnSpPr>
              <a:stCxn id="168" idx="0"/>
              <a:endCxn id="177" idx="2"/>
            </p:cNvCxnSpPr>
            <p:nvPr/>
          </p:nvCxnSpPr>
          <p:spPr>
            <a:xfrm rot="10800000">
              <a:off x="5425200" y="2518560"/>
              <a:ext cx="1119960" cy="551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79" name=""/>
            <p:cNvCxnSpPr>
              <a:stCxn id="170" idx="0"/>
              <a:endCxn id="177" idx="2"/>
            </p:cNvCxnSpPr>
            <p:nvPr/>
          </p:nvCxnSpPr>
          <p:spPr>
            <a:xfrm flipV="1">
              <a:off x="4653000" y="2518920"/>
              <a:ext cx="775440" cy="54072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0" name=""/>
            <p:cNvCxnSpPr>
              <a:stCxn id="173" idx="0"/>
              <a:endCxn id="177" idx="2"/>
            </p:cNvCxnSpPr>
            <p:nvPr/>
          </p:nvCxnSpPr>
          <p:spPr>
            <a:xfrm flipV="1">
              <a:off x="2568240" y="2518920"/>
              <a:ext cx="2858040" cy="540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77" name=""/>
            <p:cNvSpPr/>
            <p:nvPr/>
          </p:nvSpPr>
          <p:spPr>
            <a:xfrm>
              <a:off x="4757760" y="1619280"/>
              <a:ext cx="1335240" cy="900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иды отраслевых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барьер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70120" y="3060720"/>
              <a:ext cx="1596960" cy="898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 препятствующи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ходу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совершен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80000" y="3060720"/>
              <a:ext cx="1744560" cy="1079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эффективно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стическ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3071880"/>
              <a:ext cx="1508040" cy="107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Эффективно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 доминрироую-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щей фирмы ил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лиг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485120" y="3057480"/>
              <a:ext cx="1334880" cy="900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локирующие вход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рынок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абсолютной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монополи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79640" y="4408560"/>
              <a:ext cx="1508040" cy="900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есурса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06560" y="4408560"/>
              <a:ext cx="1338480" cy="900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вободный доступ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 рынку</a:t>
              </a:r>
              <a:br>
                <a:rPr sz="1300"/>
              </a:b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368960" y="4408560"/>
              <a:ext cx="1334880" cy="9921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озможность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деятельност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кратк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927760" y="4408560"/>
              <a:ext cx="1333440" cy="99216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удняющие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ятельность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в долгосрочном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ериоде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86560" y="4408560"/>
              <a:ext cx="1333440" cy="900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елающие вход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невозможным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89320" y="5759280"/>
              <a:ext cx="1514520" cy="90036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сутствие реакции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тов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27760" y="5759280"/>
              <a:ext cx="1542960" cy="90036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ребуются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дополнительные </a:t>
              </a:r>
              <a:br>
                <a:rPr sz="1300"/>
              </a:br>
              <a:r>
                <a:rPr b="0" lang="ru-RU" sz="13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ы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DC1-BDF1-4116-8C00-592952EDA7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79640" y="161928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Нестратегически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барьеры, создаваемые условиями отрасли, факторами объективного характера и по большей части независимые от деятельности фирмы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</a:rPr>
              <a:t>Стратегические барьеры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появляются в результате стратегических действий самих фирм на рынке или в отрасли и, в силу этого, имеют субъективный характер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0D14-2D60-41D1-9069-910E2ED1CF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29844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Нестратегические и стратегические барьеры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20720" y="1440000"/>
            <a:ext cx="8099280" cy="4859280"/>
            <a:chOff x="720720" y="1440000"/>
            <a:chExt cx="8099280" cy="4859280"/>
          </a:xfrm>
        </p:grpSpPr>
        <p:sp>
          <p:nvSpPr>
            <p:cNvPr id="185" name=""/>
            <p:cNvSpPr/>
            <p:nvPr/>
          </p:nvSpPr>
          <p:spPr>
            <a:xfrm>
              <a:off x="720720" y="1440000"/>
              <a:ext cx="8099280" cy="485928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87" idx="0"/>
              <a:endCxn id="188" idx="2"/>
            </p:cNvCxnSpPr>
            <p:nvPr/>
          </p:nvCxnSpPr>
          <p:spPr>
            <a:xfrm rot="10800000">
              <a:off x="7601760" y="3648960"/>
              <a:ext cx="6721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89" name=""/>
            <p:cNvCxnSpPr>
              <a:stCxn id="190" idx="0"/>
              <a:endCxn id="188" idx="2"/>
            </p:cNvCxnSpPr>
            <p:nvPr/>
          </p:nvCxnSpPr>
          <p:spPr>
            <a:xfrm flipV="1">
              <a:off x="7000560" y="3649320"/>
              <a:ext cx="6022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1" name=""/>
            <p:cNvCxnSpPr>
              <a:stCxn id="192" idx="0"/>
              <a:endCxn id="193" idx="2"/>
            </p:cNvCxnSpPr>
            <p:nvPr/>
          </p:nvCxnSpPr>
          <p:spPr>
            <a:xfrm rot="10800000">
              <a:off x="5725440" y="4974480"/>
              <a:ext cx="2289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4" name=""/>
            <p:cNvCxnSpPr>
              <a:stCxn id="195" idx="0"/>
              <a:endCxn id="193" idx="2"/>
            </p:cNvCxnSpPr>
            <p:nvPr/>
          </p:nvCxnSpPr>
          <p:spPr>
            <a:xfrm rot="10800000">
              <a:off x="5725440" y="4974480"/>
              <a:ext cx="92772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6" name=""/>
            <p:cNvCxnSpPr>
              <a:stCxn id="197" idx="0"/>
              <a:endCxn id="193" idx="2"/>
            </p:cNvCxnSpPr>
            <p:nvPr/>
          </p:nvCxnSpPr>
          <p:spPr>
            <a:xfrm flipV="1">
              <a:off x="5219280" y="4974840"/>
              <a:ext cx="506880" cy="442080"/>
            </a:xfrm>
            <a:prstGeom prst="bentConnector3">
              <a:avLst>
                <a:gd name="adj1" fmla="val 49964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98" name=""/>
            <p:cNvCxnSpPr>
              <a:stCxn id="199" idx="0"/>
              <a:endCxn id="193" idx="2"/>
            </p:cNvCxnSpPr>
            <p:nvPr/>
          </p:nvCxnSpPr>
          <p:spPr>
            <a:xfrm flipV="1">
              <a:off x="3814560" y="4974840"/>
              <a:ext cx="19119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0" name=""/>
            <p:cNvCxnSpPr>
              <a:stCxn id="201" idx="0"/>
              <a:endCxn id="202" idx="2"/>
            </p:cNvCxnSpPr>
            <p:nvPr/>
          </p:nvCxnSpPr>
          <p:spPr>
            <a:xfrm rot="10800000">
              <a:off x="1902600" y="4974480"/>
              <a:ext cx="63756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3" name=""/>
            <p:cNvCxnSpPr>
              <a:stCxn id="204" idx="0"/>
              <a:endCxn id="202" idx="2"/>
            </p:cNvCxnSpPr>
            <p:nvPr/>
          </p:nvCxnSpPr>
          <p:spPr>
            <a:xfrm flipV="1">
              <a:off x="1266480" y="4974840"/>
              <a:ext cx="6390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5" name=""/>
            <p:cNvCxnSpPr>
              <a:stCxn id="193" idx="0"/>
              <a:endCxn id="206" idx="2"/>
            </p:cNvCxnSpPr>
            <p:nvPr/>
          </p:nvCxnSpPr>
          <p:spPr>
            <a:xfrm rot="10800000">
              <a:off x="3779280" y="3648960"/>
              <a:ext cx="1946880" cy="442080"/>
            </a:xfrm>
            <a:prstGeom prst="bentConnector3">
              <a:avLst>
                <a:gd name="adj1" fmla="val 4999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7" name=""/>
            <p:cNvCxnSpPr>
              <a:stCxn id="202" idx="0"/>
              <a:endCxn id="206" idx="2"/>
            </p:cNvCxnSpPr>
            <p:nvPr/>
          </p:nvCxnSpPr>
          <p:spPr>
            <a:xfrm flipV="1">
              <a:off x="1902960" y="364932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08" name=""/>
            <p:cNvCxnSpPr>
              <a:stCxn id="188" idx="0"/>
              <a:endCxn id="209" idx="2"/>
            </p:cNvCxnSpPr>
            <p:nvPr/>
          </p:nvCxnSpPr>
          <p:spPr>
            <a:xfrm rot="10800000">
              <a:off x="5723640" y="2323440"/>
              <a:ext cx="187740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210" name=""/>
            <p:cNvCxnSpPr>
              <a:stCxn id="206" idx="0"/>
              <a:endCxn id="209" idx="2"/>
            </p:cNvCxnSpPr>
            <p:nvPr/>
          </p:nvCxnSpPr>
          <p:spPr>
            <a:xfrm flipV="1">
              <a:off x="3779640" y="2323800"/>
              <a:ext cx="1945080" cy="442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209" name=""/>
            <p:cNvSpPr/>
            <p:nvPr/>
          </p:nvSpPr>
          <p:spPr>
            <a:xfrm>
              <a:off x="5178600" y="1440000"/>
              <a:ext cx="1091880" cy="882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барьер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60720" y="2765520"/>
              <a:ext cx="1440000" cy="88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е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обусловленн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ективными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акторами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020000" y="2765520"/>
              <a:ext cx="1163520" cy="882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тратегически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(создаваемые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частникам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)</a:t>
              </a: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357200" y="4091040"/>
              <a:ext cx="1092240" cy="88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0040" y="4091040"/>
              <a:ext cx="1092240" cy="882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собенности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20720" y="5416560"/>
              <a:ext cx="1092240" cy="8827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ехнолог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95480" y="5416560"/>
              <a:ext cx="1092240" cy="88272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Уровень 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68800" y="5416560"/>
              <a:ext cx="1092240" cy="88272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бъём спро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00720" y="5416560"/>
              <a:ext cx="1439640" cy="882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азвитость рын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107040" y="5416560"/>
              <a:ext cx="1092240" cy="88272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ностранная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конкуренц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380360" y="5416560"/>
              <a:ext cx="1271520" cy="882720"/>
            </a:xfrm>
            <a:prstGeom prst="rect">
              <a:avLst/>
            </a:prstGeom>
            <a:blipFill rotWithShape="0">
              <a:blip r:embed="rId11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Тип конкурен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4800" y="4091040"/>
              <a:ext cx="1090440" cy="882720"/>
            </a:xfrm>
            <a:prstGeom prst="rect">
              <a:avLst/>
            </a:prstGeom>
            <a:blipFill rotWithShape="0">
              <a:blip r:embed="rId12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ведение 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28120" y="4091040"/>
              <a:ext cx="1090440" cy="882720"/>
            </a:xfrm>
            <a:prstGeom prst="rect">
              <a:avLst/>
            </a:prstGeom>
            <a:blipFill rotWithShape="0">
              <a:blip r:embed="rId13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оглашения </a:t>
              </a:r>
              <a:br>
                <a:rPr sz="1200"/>
              </a:br>
              <a:r>
                <a:rPr b="0" lang="ru-RU" sz="12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DE1B-5E9F-458A-886E-AFEA8837AFA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219320" y="228600"/>
            <a:ext cx="7467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2. Нестратегические барье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90720" y="1143000"/>
            <a:ext cx="76960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тратегические, или объективные барьеры можно свести в три групп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ехнологические (барьеры, основанные на абсолютном преимуществе в уровне затрат и барьеры, основанные на относительном преимуществе в уровне затрат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кономические (ограниченность спроса, барьеры капитальных затрат или объёмы первоначальных инвестиций, состояние инфраструктуры рынк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нституциональные (административные барьеры и криминализация экономи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154-122C-4541-95B5-F1FF7E83E274}" type="slidenum">
              <a:t>1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абсолют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бсолютные преимущества в отношении издержек означают, что кривая долгосрочных средних издержек фирм, уже действующих в отрасли, на всём своём протяжении лежит выше кривой издержек потенциальных конкурент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едовательно цена, необходимая для возмещения инвестиций потенциальных конкурентов будет выше, чем средняя цена в отрасл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67B-65BE-4AC0-9F56-ADCE06F1854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6360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ичины абсолютных преимуществ в уровне затра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ующих фирм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7600" y="1619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ля новых фирм могут быть недоступны наиболее дешевые и наиболее качественные источники ресурсов, которые используются уже действующими в отрасли фирмам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же преимущества создаются самим процессом функционирования старых фирм в отрасли; накапливания опыта экономии издержек и оптимального распределения ресурсов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16E4-183A-4CDC-9278-64233657F3C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, основанные на относительном преимуществе в уровне затрат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7600" y="197964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носительные преимущества в издержках возникают за счёт производства уже существующими в отрасли фирмами большего объёма выпуска, нежели может освоить потенциальный конкурен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и заключаются в таких особенностях производственного процесса которые проявляются в положительном эффекте масштаба производства и минимально эффективном объеме выпуска продукци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A084-E42E-40A8-8C40-ABF1E73BD83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371600" y="228600"/>
            <a:ext cx="7264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Минимально эффективный выпус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900000"/>
            <a:ext cx="440820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4120" y="838080"/>
            <a:ext cx="3504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разная функция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GB" sz="2200" spc="-1" strike="noStrike">
                <a:solidFill>
                  <a:srgbClr val="000000"/>
                </a:solidFill>
                <a:latin typeface="Times New Roman"/>
              </a:rPr>
              <a:t>LRA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066680" y="1371600"/>
            <a:ext cx="7701120" cy="3412440"/>
            <a:chOff x="1066680" y="1371600"/>
            <a:chExt cx="7701120" cy="3412440"/>
          </a:xfrm>
        </p:grpSpPr>
        <p:sp>
          <p:nvSpPr>
            <p:cNvPr id="223" name=""/>
            <p:cNvSpPr/>
            <p:nvPr/>
          </p:nvSpPr>
          <p:spPr>
            <a:xfrm flipV="1">
              <a:off x="5391000" y="1514160"/>
              <a:ext cx="1800" cy="28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91000" y="4324320"/>
              <a:ext cx="3040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2600" y="2811600"/>
              <a:ext cx="2432160" cy="863640"/>
            </a:xfrm>
            <a:custGeom>
              <a:avLst/>
              <a:gdLst/>
              <a:ahLst/>
              <a:rect l="l" t="t" r="r" b="b"/>
              <a:pathLst>
                <a:path w="1633" h="544">
                  <a:moveTo>
                    <a:pt x="0" y="0"/>
                  </a:moveTo>
                  <a:cubicBezTo>
                    <a:pt x="75" y="102"/>
                    <a:pt x="151" y="204"/>
                    <a:pt x="226" y="272"/>
                  </a:cubicBezTo>
                  <a:cubicBezTo>
                    <a:pt x="301" y="340"/>
                    <a:pt x="370" y="370"/>
                    <a:pt x="453" y="408"/>
                  </a:cubicBezTo>
                  <a:cubicBezTo>
                    <a:pt x="536" y="446"/>
                    <a:pt x="642" y="476"/>
                    <a:pt x="725" y="499"/>
                  </a:cubicBezTo>
                  <a:cubicBezTo>
                    <a:pt x="808" y="522"/>
                    <a:pt x="876" y="544"/>
                    <a:pt x="952" y="544"/>
                  </a:cubicBezTo>
                  <a:cubicBezTo>
                    <a:pt x="1028" y="544"/>
                    <a:pt x="1096" y="529"/>
                    <a:pt x="1179" y="499"/>
                  </a:cubicBezTo>
                  <a:cubicBezTo>
                    <a:pt x="1262" y="469"/>
                    <a:pt x="1376" y="416"/>
                    <a:pt x="1451" y="363"/>
                  </a:cubicBezTo>
                  <a:cubicBezTo>
                    <a:pt x="1526" y="310"/>
                    <a:pt x="1579" y="245"/>
                    <a:pt x="1633" y="181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39040" y="2308320"/>
              <a:ext cx="1012680" cy="647640"/>
            </a:xfrm>
            <a:prstGeom prst="wedgeRoundRectCallout">
              <a:avLst>
                <a:gd name="adj1" fmla="val -4560"/>
                <a:gd name="adj2" fmla="val 152939"/>
                <a:gd name="adj3" fmla="val 16667"/>
              </a:avLst>
            </a:prstGeom>
            <a:solidFill>
              <a:srgbClr val="a1bd6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42080" y="245124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Times New Roman"/>
                </a:rPr>
                <a:t>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17960" y="1371600"/>
              <a:ext cx="40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62800" y="4251240"/>
              <a:ext cx="40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1066680" y="1442880"/>
              <a:ext cx="3781440" cy="3341160"/>
              <a:chOff x="1066680" y="1442880"/>
              <a:chExt cx="3781440" cy="3341160"/>
            </a:xfrm>
          </p:grpSpPr>
          <p:sp>
            <p:nvSpPr>
              <p:cNvPr id="231" name=""/>
              <p:cNvSpPr/>
              <p:nvPr/>
            </p:nvSpPr>
            <p:spPr>
              <a:xfrm flipV="1">
                <a:off x="1471680" y="1514160"/>
                <a:ext cx="1440" cy="28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71680" y="4324320"/>
                <a:ext cx="30398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41320" y="2595600"/>
                <a:ext cx="2567160" cy="1103400"/>
              </a:xfrm>
              <a:custGeom>
                <a:avLst/>
                <a:gdLst/>
                <a:ahLst/>
                <a:rect l="l" t="t" r="r" b="b"/>
                <a:pathLst>
                  <a:path w="1723" h="695">
                    <a:moveTo>
                      <a:pt x="0" y="0"/>
                    </a:moveTo>
                    <a:cubicBezTo>
                      <a:pt x="18" y="75"/>
                      <a:pt x="37" y="151"/>
                      <a:pt x="90" y="227"/>
                    </a:cubicBezTo>
                    <a:cubicBezTo>
                      <a:pt x="143" y="303"/>
                      <a:pt x="226" y="394"/>
                      <a:pt x="317" y="454"/>
                    </a:cubicBezTo>
                    <a:cubicBezTo>
                      <a:pt x="408" y="514"/>
                      <a:pt x="507" y="552"/>
                      <a:pt x="635" y="590"/>
                    </a:cubicBezTo>
                    <a:cubicBezTo>
                      <a:pt x="763" y="628"/>
                      <a:pt x="907" y="665"/>
                      <a:pt x="1088" y="680"/>
                    </a:cubicBezTo>
                    <a:cubicBezTo>
                      <a:pt x="1269" y="695"/>
                      <a:pt x="1610" y="680"/>
                      <a:pt x="1723" y="68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227400" y="2235240"/>
                <a:ext cx="1012680" cy="647640"/>
              </a:xfrm>
              <a:prstGeom prst="wedgeRoundRectCallout">
                <a:avLst>
                  <a:gd name="adj1" fmla="val -15296"/>
                  <a:gd name="adj2" fmla="val 170833"/>
                  <a:gd name="adj3" fmla="val 16667"/>
                </a:avLst>
              </a:prstGeom>
              <a:solidFill>
                <a:srgbClr val="a1bd6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3430440" y="2308320"/>
                <a:ext cx="676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i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066680" y="1442880"/>
                <a:ext cx="40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443480" y="432432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133640" y="4324320"/>
                <a:ext cx="26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5121360" y="4251240"/>
              <a:ext cx="26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1074600" y="4748040"/>
            <a:ext cx="774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инимально эффективный выпуск (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MES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) – это такой объем производства, при котором положительный эффект масштаба сменяется на постоянный эффект масштаба (в случае 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L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, или на отрицательный эффект масштаба (в случае </a:t>
            </a:r>
            <a:r>
              <a:rPr b="0" i="1" lang="lv-LV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lv-LV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зной функции издержек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2F4-8D53-413E-8F3A-C2021F8F361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011240" y="228600"/>
            <a:ext cx="7675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221304"/>
                </a:solidFill>
                <a:latin typeface="Times New Roman"/>
              </a:rPr>
              <a:t>Количество фирм, действующих в отрасли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17720" y="1371600"/>
            <a:ext cx="7669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личество фирм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действующих в отрасли в состоянии долгосрочного равновесия, можно определить отношением объема рыночного спроса при цене, равной минимальному значению долгосрочных средних издержек (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(P=minLRAC)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к 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MES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разумеется, при допущении, что производственная функция и структура издержек у всех фирм в отрасли идентичны)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5960" y="3214800"/>
            <a:ext cx="85280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3581280" y="5486400"/>
                <a:ext cx="35593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RA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789-5043-4EE8-BA6B-EA38C40E05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914400" y="533520"/>
            <a:ext cx="797400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число фирм в отрасли окажется больше </a:t>
            </a:r>
            <a:r>
              <a:rPr b="0" i="1" lang="lv-LV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из них будет производить продукцию с издержками, превышающими минимальные значения долгосроч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ценовая конкуренция приведет к снижению цены до уровня минимальных средних издержек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часть фирм, оказавшись убыточными, вынуждены будут оставить отрасль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положительный эффект масштаба является барьером входа в отрасль, однако для  определения «высоты» барьеров необходима информация о разнице в уровнях средних издержек у крупных и малых фирм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D3E-CE29-4144-AB13-1071779ED60B}" type="slidenum">
              <a:t>19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 fill="hold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33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1. Отраслевые барьеры и их классификация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ход новых фирм – это существенная характеристика отрасли, влияющая на её развит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ожительная экономическая прибыль в равновесии является стимулом к входу в отрасль новых фир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B3EF-00F8-409B-8325-B0701608D15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Ограниченность спроса (ёмкость рынка)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‏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Ёмкость рынка как барьер входа включает в себя следующие фактор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сокая насыщенность рынка товарам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изкая платёжеспособность населени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иностранных конкур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3006-D7BB-4F0B-BD42-9AA84D68303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79640" y="24912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арьеры капитальных затрат или объёмы первоначальных инвестиций, необходимых для входа на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79640" y="1671480"/>
            <a:ext cx="7772400" cy="44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ъёмы первоначальных инвестиций определяют саму возможность или невозможность организации нового производства в отрасл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реди капитальных затрат следует выдел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траты на освоение выпуска данного товара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тоимость нового строительства и технического перевооружения действующих мощностей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сходы на НИОКР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готовка и найм персонала, организация сбытовой сети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лительность освоения производств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1E0D-32A3-4233-A19C-A0CC16F2D5B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200240" y="720360"/>
            <a:ext cx="7619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капитальных затрат зависит от таких факторов, как степень развитости, организованности и открытости рынков ресурсов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руда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инвестиционных товаров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технологий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ка капитал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9208-4624-48D7-848F-7A14750B6DA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Состояние инфраструктуры рын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 инфраструктуры рынка определяется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оянием транспортной системы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щностью складской базы, - складов, необходимых на всем пути продвижения товара от производителя до конечного потребител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достаточность инфраструктурных составляющих следует рассматривать как высокие барьеры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B8C0-7DD2-44E5-9021-3DA20886D5A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317160"/>
            <a:ext cx="77724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Административные барьеры</a:t>
            </a:r>
            <a:r>
              <a:rPr b="0" lang="ru-RU" sz="26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79280" y="947880"/>
            <a:ext cx="784836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оздаются органами государственной власти различных уровней и включают в себя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лицензирование деятельности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квотирование производства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усложнённый порядок регистрации новых предприятий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сертификацию продукци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процедуру отвода земельных участков под промышленное строительство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наличие неформальных отношений между органами государственной власти и предприятиями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экологические нормы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</a:rPr>
              <a:t>ограничения на использование земель, лесных угодий, недр, запасов полезных ископаемых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92C9-BE2E-47C8-A883-E3638B5A137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риминализация экономик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36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Если для ведения дела предпринимателю требуется “крыша”, некое неофициальное прикрытие со стороны криминальных структур, то расходы на поддержание подобного рода отношений составляют значительные барьеры вхо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8C3B-147A-401C-A73E-DC1579C5030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90720" y="50004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3. Стратегические барьер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47600" y="1440000"/>
            <a:ext cx="77724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тратегические барьеры сознательно создаются фирмами, действующими в отрасли, что является инструментом их стратегического поведения, препятствующим новым участникам входу в отрасль. К ним можно отнести такие мероприятия фирм, как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сурсосберегающие инновац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поставщиками ресурсов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лучение лицензий и патентов на определенный вид деятельности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хранение незагруженных мощностей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величение затрат на рекламу и НИОКР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держки по созданию имиджа и фир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94E5-7796-479D-B20A-03CAB012848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ие барьеры входа, проявляющиеся в виде стратегического поведения, можно разделить на ценовые и неценовые (дополнительные инвестиции в оборудование, дифференциация продукта, долгосрочные контракты, вертикальная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грация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5642-ACFC-425C-9525-498B810B66A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9640" y="304920"/>
            <a:ext cx="783576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66680" y="1079280"/>
            <a:ext cx="777240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ы, уже действующие в отрасли, зная отраслевой спрос и отраслевое предложение могут назначить такую цену, которая ограничит появление новых конкурент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Такие барьеры получили название “ценообразование, ограничивающее вход” и сводятся к установлению действующими фирмами цен ниже уровня, обеспечивающего им  максимизацию прибыл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</a:rPr>
              <a:t>Фирмам, которые проводят такую политику, приходится делать выбор между сокращением своей краткосрочной прибыли в результате снижения цен и потерей долгосрочной прибыли в результате входа на рынок новых участников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DEF4-D047-465F-89AD-64CAFFB1069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567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ценовые стратегии создания барьеров в отрасл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47600" y="1465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Если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уровень монопольной прибыли старой фирмы, действующей в отрасли в условиях отсутствия потенциального конкурента, А – расходы на проведение неценовых стратегий по созданию барьеров,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ожидаемая прибыль новой фирмы в случае её проникновения на рынок, то старая фирма будет делать вложения по созданию неценовых барьеров только тогда, когда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А &gt;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– П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, то есть выгода барьеров превышает угрозу снижения прибыли в результате конкуренции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E04A-BCFC-42AF-8069-8F683B528F8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Значение входа новых фирм в отрасл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79640" y="11980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ле появления новых фирм в отрасли уровни прибыльности и цен возвращаются к их долгосрочному конкурентному значению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овых фирм рассматривается как фактор технологических изменений в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им образом, наличие отраслевых барьеров определяет динамику экономического роста и благосостояния насе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жение барьеров или их предотвращение становится элементом конкурентной политики государств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32DC-F7BD-44DA-B496-113AF91D2D8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полнительное инвестирование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полнительные инвестиции в оборудование для новой фирмы можно рассматривать как необратимые издержки. Фирма вынуждена их оплачивать, даже не выпуская продук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действующая фирма обладает избыточными производственными мощностями, по сравнению с величиной спроса, то при угрозе появления нового конкурента, она может увеличить объем выпуска до уровня, ограничивающего   вход. При этом новая фирма потеряет величину необратимых издержек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116C-6765-46CE-BE74-A161A3D9E29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ифференциация продукт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йствующие на рынке фирмы для предотвращения входа новых фирм могут  наполнить рынок значительным количеством товаров-заменителей, чтобы потенциальным конкурентам было труднее в этом изобилии найти свою нишу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вою очередь новая фирма будет вынуждена увеличивать свои расходы на рекламу, тем самым минимальный объем выпуска в отрасли, необходимый для организации эффективного производства возрастает, а ожидаемая прибыль понижаетс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CE10-0656-47A2-8621-E701946E16D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43000" y="22860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Долгосрочные контрак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600200"/>
            <a:ext cx="75438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госрочные контракты с третьими лицами, в частности, с поставщиками ресурсов, потребителями товаров, а также с работниками отрасли (например, с отраслевым профсоюзом) ограничивают возможности потенциальных конкурентов найти поставщиков ресурсов, рынки сбыта и т.д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6019-7C89-4E1C-B97C-72D3D4A73D9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ртикальная интеграция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ая интеграция представляет собой процесс объединения в рамках одной фирмы более одной стадии производства конечной продукци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ертикально интегрированная фирма, в отличие от неинтегрированной фирмы, избавлена от необходимости заключать контракты с поставщиками и покупателями – представителями смежных производственных стадий. Тем самым, у вертикально интегрированной фирмы снижаются трансакционные издержк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неинтегрированных производителей такие контракты, в которых кроме цен оговариваются вопросы особых условий поставки, особых условий реализации продукции и другие условия,  выступают как вертикальные ограничения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23DB-C693-46BA-B0CB-6B2282AA503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66680" y="3556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облемы, связанные со стратегическими барьерам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9640" y="1439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ализация стратегических барьеров на практике связана с рядом пробле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ак, при проведении политики ценообразования, ограничивающего вход новых участников на рынок, действующие на рынке фирмы должны правильно оценить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действующих фирм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держки производства в отношении потенциальных конкурентов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словия спроса и, прежде всего, ценовую эластичность  спрос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DE1F-D00B-4710-8111-83FE731A288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173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Необходимость поддержания в отрасли определённого объема выпуска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47600" y="1439640"/>
            <a:ext cx="77724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ообразование, ограничивающее вход в отрасль будет эффективным только в случае поддержания в отрасли определённого объема выпуска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условиях невозможности согласованной деятельности маловероятно обеспечить равенство отраслевого выпуска уровню, ограничивающему вход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фиксирование рыночных долей участников отрасли затруднительно, из-за различий в уровнях издержек производства, и изменениями спроса с течением врем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01E-B992-4994-8949-79E2F462B9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Непредсказуемость конкурен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680" y="161928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явление в отрасли новых участников может повлечь сокращение объемов выпуска уже действующих фирм, особенно если в отрасль входит не новичок в предпринимательстве, а крупный диверсифицированный концерн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таком случае исход конкуренции, вплоть до ценовых войн – непредсказуе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573-6348-4446-964A-9E916844B9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Ускоряющиеся технологические иннов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35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коряющиеся технологические инновации позволяют новым фирмам снизить издержки производства. Данный фактор не позволяет действующим фирмам адекватно оценить ценовые ориентиры, то есть возможна переоценка уровня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4B84-B3D7-4E8F-98B9-4B435B9563ED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79640" y="36036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«Поведение безбилетника»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047600" y="1800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успешная реализация стратегических барьеров оказывает положительный эффект на всех участников отрасли, вне зависимости от того чьими усилиями и средствами она была обеспечена, фирмы не свободны от искушения воспользоваться результатами “чужих” барье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6D99-EEDC-43AF-88DC-A9C1F64BA8BF}" type="slidenum">
              <a:t>38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7600" y="12906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входа - все факторы объективного или субъективного характера, которые препятствуют новым фирмам организовать рентабельное производство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ичие формальной возможности организовать производство в большинстве отраслей еще не означает отсутствие барьеров в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99D-36C8-4DAB-A7C5-A8CF9F45D5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31896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ы барьеров в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47600" y="1173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собенности отрасли или рынка (технология производства, стартовые и текущие затраты, объём спроса, зрелость и развитость рынка, тип конкуренции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ведение хозяйствующих субъектов (антиконкурентные действий и соглашения)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ействия органов государственной власти (лицензирование, налогообложение, фиксация цен,  государственная помощь отдельным субъектам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причины (сужение географических границ рынка вследствие роста транспортных расходов, возрастание международной конкуренции в условиях ограниченного спроса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C463-2B63-40FF-BB9B-31B73B3E3A6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арьеры выход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 объективные или субъективные факторы, которые препятствуют фирме уйти из отрасли без существенных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связаны с, так называемыми, необратимыми издержками, которые делают невозможным уход фирмы из отрасли без потер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9D8-23AA-46CD-A60E-32F6B92555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0360" y="304920"/>
            <a:ext cx="7199280" cy="14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Барьеры выхода связаны со структурными характеристиками того или иного вида хозяйственной деятельности, такими как: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61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ликвидность активов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озможность диверсификации производства с использованием имеющегося оборудования, технологий, источников сырья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мкнутость и связанность технологических цепоч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FD4-B928-419B-804F-0A5EAEC156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Барьеры выхода - составная часть барьеров вход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арьеры выхода увеличивают риск хозяйствования в отрасли, а значит создают дополнительные барьеры входа в отрасль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фирма знает, что уйти из отрасли без значительных потерь невозможно, то это может оказать влияние на её решение входа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аким образом, барьеры выхода следует рассматривать как составную часть отраслевых барьеров, препятствующих входу в отрас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E1E3-4CC3-4C13-8437-105AABFFDD8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9808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Барьеры входа и выхода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076400" y="1571760"/>
            <a:ext cx="7466040" cy="4521240"/>
            <a:chOff x="1076400" y="1571760"/>
            <a:chExt cx="7466040" cy="4521240"/>
          </a:xfrm>
        </p:grpSpPr>
        <p:sp>
          <p:nvSpPr>
            <p:cNvPr id="141" name=""/>
            <p:cNvSpPr/>
            <p:nvPr/>
          </p:nvSpPr>
          <p:spPr>
            <a:xfrm>
              <a:off x="1076400" y="1571760"/>
              <a:ext cx="7466040" cy="45212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2" name=""/>
            <p:cNvCxnSpPr>
              <a:stCxn id="143" idx="0"/>
              <a:endCxn id="144" idx="2"/>
            </p:cNvCxnSpPr>
            <p:nvPr/>
          </p:nvCxnSpPr>
          <p:spPr>
            <a:xfrm flipV="1">
              <a:off x="68194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5" name=""/>
            <p:cNvCxnSpPr>
              <a:stCxn id="146" idx="0"/>
              <a:endCxn id="147" idx="2"/>
            </p:cNvCxnSpPr>
            <p:nvPr/>
          </p:nvCxnSpPr>
          <p:spPr>
            <a:xfrm flipV="1">
              <a:off x="2798280" y="485892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48" name=""/>
            <p:cNvCxnSpPr>
              <a:stCxn id="144" idx="0"/>
              <a:endCxn id="149" idx="2"/>
            </p:cNvCxnSpPr>
            <p:nvPr/>
          </p:nvCxnSpPr>
          <p:spPr>
            <a:xfrm flipV="1">
              <a:off x="68194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0" name=""/>
            <p:cNvCxnSpPr>
              <a:stCxn id="147" idx="0"/>
              <a:endCxn id="151" idx="2"/>
            </p:cNvCxnSpPr>
            <p:nvPr/>
          </p:nvCxnSpPr>
          <p:spPr>
            <a:xfrm flipV="1">
              <a:off x="2798280" y="3625560"/>
              <a:ext cx="252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2" name=""/>
            <p:cNvCxnSpPr>
              <a:stCxn id="149" idx="0"/>
              <a:endCxn id="153" idx="2"/>
            </p:cNvCxnSpPr>
            <p:nvPr/>
          </p:nvCxnSpPr>
          <p:spPr>
            <a:xfrm rot="10800000">
              <a:off x="4809240" y="2393280"/>
              <a:ext cx="201060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cxnSp>
          <p:nvCxnSpPr>
            <p:cNvPr id="154" name=""/>
            <p:cNvCxnSpPr>
              <a:stCxn id="151" idx="0"/>
              <a:endCxn id="153" idx="2"/>
            </p:cNvCxnSpPr>
            <p:nvPr/>
          </p:nvCxnSpPr>
          <p:spPr>
            <a:xfrm flipV="1">
              <a:off x="2798280" y="2393640"/>
              <a:ext cx="2012040" cy="411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463416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086280" y="1571760"/>
              <a:ext cx="3446280" cy="822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ffcc"/>
              </a:solidFill>
              <a:miter/>
            </a:ln>
            <a:effectLst>
              <a:outerShdw dist="63504" dir="19383909" blurRad="0" rotWithShape="0">
                <a:srgbClr val="00ff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траслевые барьер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6400" y="2805120"/>
              <a:ext cx="3446280" cy="82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на рынок новых фир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95800" y="2805120"/>
              <a:ext cx="3446640" cy="8222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808000"/>
              </a:solidFill>
              <a:miter/>
            </a:ln>
            <a:effectLst>
              <a:outerShdw dist="63504" dir="19383909" blurRad="0" rotWithShape="0">
                <a:srgbClr val="808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репятствуют выходу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из отрасли без потерь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76400" y="4037040"/>
              <a:ext cx="3446280" cy="82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Снижают угрозы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потенциальной конкурен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95800" y="4037040"/>
              <a:ext cx="3446640" cy="8222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Ограничивают количество 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фирм  в отрас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76400" y="5270400"/>
              <a:ext cx="3446280" cy="8226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095800" y="5270400"/>
              <a:ext cx="3446640" cy="819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ffffff"/>
              </a:solidFill>
              <a:miter/>
            </a:ln>
            <a:effectLst>
              <a:outerShdw dist="63504" dir="19383909" blurRad="0" rotWithShape="0">
                <a:srgbClr val="3399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  <a:ea typeface="Lucida Sans Unicode"/>
                </a:rPr>
                <a:t>Рост рыночной власт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20DC-87D3-4566-9181-6CD717138D2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cturer</cp:lastModifiedBy>
  <cp:revision>0</cp:revision>
  <dc:subject/>
  <dc:title>Анализ отраслевых барьеров в рыночной экономике</dc:title>
</cp:coreProperties>
</file>