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484D-1A32-4411-ADCE-E708B3D1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B02-0B31-46B7-828F-8D4C09F2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F649-BBF0-4FEB-9A14-5923A052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A9CF-702C-4DB2-BBAA-3B74B3B23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38A6-60C9-4DFA-B39D-A2E6EEB3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0FEB7-5998-4F69-9B32-27FA41F6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5806-9B30-4335-A51C-8769696F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AACC-70D0-4918-B652-5811F29C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6752-7519-4E40-B5D8-AD239B79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51AF3-8904-42A6-8C9A-82398992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8734-0EB1-46EB-80DF-5FFC319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9336-3879-4E52-9B80-1EC37ADD6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50FE-841C-44C8-9893-5DD1E438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9C73-2175-4721-9BB9-999A4CFB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30A9-8A11-4DCC-9E21-52461CA9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C5A2-8F8A-482F-BBB1-80C469D6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252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19080" y="17712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3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252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19080" y="391788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CB97-0EB4-46EC-B14D-F7682982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4ACD-587C-42DB-AC4B-641DBDB60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1F78-F625-4B06-A13C-D145C264F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9B3-1BE4-48EF-90FE-0C9C374D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320" y="254160"/>
            <a:ext cx="77677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39840" indent="-33984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BBA6-E900-4397-B69C-F6D7381A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19B0-B5F5-4BBA-83C4-669057BD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6840" y="391788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DA1-B3C3-4270-B5B1-CEFC3804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6840" y="17712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320" y="391788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C07A-65CC-47A1-BF85-B042F867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254160"/>
            <a:ext cx="77677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320" y="177120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6240" indent="-3362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48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5320" y="6156000"/>
            <a:ext cx="289080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4320" y="615600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A2D75-76C5-4216-9654-B87AFB95628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6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3160"/>
            <a:ext cx="19256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5720" y="6113160"/>
            <a:ext cx="28400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09920" y="6113160"/>
            <a:ext cx="18241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3C0F9D-6B9D-4959-8A35-96F3086D1D1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6840" y="160452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840" indent="-3398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38000"/>
            <a:ext cx="77216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егулирование отраслевых рынков</a:t>
            </a:r>
            <a:br>
              <a:rPr sz="3600"/>
            </a:b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900000" y="1798560"/>
            <a:ext cx="79250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. Цели отраслевой политики государст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. Антимонопольная политика государств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just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2. Антимонопольная политика в Росс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 algn="ctr">
              <a:spcBef>
                <a:spcPts val="799"/>
              </a:spcBef>
              <a:buNone/>
              <a:tabLst>
                <a:tab algn="l" pos="0"/>
                <a:tab algn="l" pos="33984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.3. Антимонопольная политика в СШ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94817-3225-4143-8215-8D6AC550A42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Пассивная защитная отраслев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800360"/>
            <a:ext cx="7772400" cy="43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новная цель  - борьба с монополиями, деятельность которых приводит к неэффективному размещению ресурсов и создает потери общественного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антимонопольное регулирование, контроль над горизонтальными и вертикальными слияниями и поглощениям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7172-42AE-47BB-BA14-D2DB93EBFA5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образовательная пассивная отраслевая политика (концепция “благоприятного экономического климата”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234000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Предполагает не просто ограничение и борьбу с монопольной властью, но и содействие конкретным типам экономической активности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пример, налоговые и финансовые льготы для мелких и средних предприятий не укладываются в рамки собственно антимонопольного регулирования, но безусловно содействуют развитию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88C0-C295-49A6-A7B6-E1375659CAD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ктивная защитная отраслевая политик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онкретную направленность, но  целях предотвращения тех или иных решений фирм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мером может послужить протекционистская внешнеторговая политика, оказывающая существенное воздействие на развитие отраслевых структу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AC9-E048-4B90-AF5B-D5BF5350542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Активная преобразовательная политик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существление мероприятий, имеющих как общее, так и конкретное направление, в том числе и воздействующих на решения экономических субъект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ова отраслевая политика в любой реформируемой экономике. Данная отраслевая политика оказывает наиболее существенное влияние - как положительное, так и отрицательное, - на развитие экономической системы в цело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55B-CE5B-4411-9B16-A89CE7E7708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17928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2. Цели антимонопольной политики государства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еспечение эффективности производства и распределения ресурсов в экономик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едотвращение или ликвидация нежелательных рыночных структур и нежелательного поведения экономических агентов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- то есть таких ситуаций, которые рассматриваются как нарушающие общественное благосостояние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мощь одним группам экономических агентов за счёт други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(например, содействие малым фирмам в их конкуренции с крупными, независимо от их эффективности, или фирмам одних отраслей по сравнению с другими сферами деятельности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69C1-6AB6-4D2B-B1AC-37310C0FB9CD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7600" y="179280"/>
            <a:ext cx="777240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законные действий фирм согласно традиционной антимонопольной политик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00000" y="1714320"/>
            <a:ext cx="7772400" cy="45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фиксирование продажных цен, тайное и явное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ограничения покупк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ограничения продаж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вязанные продажи - продажа одного товара клиенту при условии, что он покупает какой-либо еще продукт данной фирм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недобросовестная реклам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недобросовестная маркировка товар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вертикальные или горизонтальные ограничения конкуренци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D1F3-4923-4603-9570-4D5BAC4C2A0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271440"/>
            <a:ext cx="777240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3. Особенности антимонопольной политики в различных странах.</a:t>
            </a:r>
            <a:br>
              <a:rPr sz="32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1.Антимонопольная политика в странах ЕС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47600" y="2340000"/>
            <a:ext cx="7772400" cy="520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запрет монополий в Европе мало распространен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в основном происходит регулирование монополий и доминирующих фир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при проведении отраслевой политики активно используется концепция “эффективной конкуренции” - конкуренции, которая способствует структурной перестройке национальной экономи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B52-A736-472D-A5B5-2DA167375EC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10152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ой регулирующих мероприятий стран-членов Европейского Сообщества является Римский договор, который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7600" y="2033640"/>
            <a:ext cx="777240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картели и другие ограничительные соглашения между фирмами (ст. 85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ждает злоупотребления доминирующим положением на рынке (ст. 8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сматривает регулирование слияний, запрет слияний, которые могут создать доминирующее положение для данной фирмы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ещает государственную помощь фирмам, которая искажает торговлю между странами (ст. 92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42FE-EB82-4AB3-8874-10F53DFFA4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 в Латв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00000" y="1079280"/>
            <a:ext cx="7740720" cy="54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</a:rPr>
              <a:t>Цель государственной отраслевой политики Латвии - защита, сохранение и развитие свободной, честной и равной конкуренции в интересах общества во всех отраслях народного хозяйства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, ограничивая рыночную концентрацию и не допуская недобросовестной конкуренции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ой регулирующий орган - Совет по конкуренци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Основные задачи Совета по конкуренции касаются надзора за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лоупотреблениями доминирующим положением на рын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добросовестной конкуренцией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лияниями и объединениями, запрещенными  законом, другими нормативными актами и международными договора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граничением рыночной концентрац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E59D-244C-4499-A2E1-0DFBD125981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15840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Германии  органами проведения отраслевой политики являются:</a:t>
            </a:r>
            <a:endParaRPr b="0" lang="en-US" sz="2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99640" y="1079640"/>
            <a:ext cx="8077320" cy="56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инистерство экономики; федеральный орган по картелям; антимонопольный комитет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ю подвергаются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я активов предприятия полностью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обретение долей акций фирмы, в размерах 25, 50 и более процентов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 результате которой фирма приобретает прямой или косвенный контроль над предприятием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ая сделка, включая приобретение менее 25 процентов акций предприятия, если это дает возможность фирме-покупателю влиять на конкурентное поведение другой фир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ирма (или группа фирм) рассматривается как доминирующая на рынке если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одной фирмы 1/3 рынк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трёх фирм не менее 50 процен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ля рынка у пяти фирм не менее, чем 2/3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759F-4598-44FC-8658-2F3DA28BB1C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8880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Основная функция государственной отраслевой политики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79640" y="1800360"/>
            <a:ext cx="7772400" cy="45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 определяет правила, по которым совершаются деловые операции экономических агентов, оказывает воздействие на потоки товаров и ресурсов в экономике, поддерживает или препятствует той или иной деятельности индивидов и институтов экономической систе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F04F-7774-457E-9A92-000A54DCAFA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Великобритании органами контроля при проведении антимонопольной политики являются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инистерство торговли и промышлен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лияниям и монополия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митет по свободной торговле (наблюдает за проведением конкурентной политики, проводит предварительное расследование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00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*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ритерием доминирования на рынке служит доля фирмы в 25 процентов рын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5118-062F-4D16-BD49-5C303E93E4E3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0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Франции органами регулирования отраслевых структур являются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миссия по конкуренции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инистерство экономик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, в целом   “антимонопольную” политику Франции скорее можно назвать  “промонопольной”. Политика правительства направлена на стимулирование слияний, поощрение НИОКР, производство на экспорт, поскольку предполагается, что крупные предприятия могут способствовать развитию высоких технологий и повышению конкурентоспособности отечественных товаров как на внутреннем, так и на внешнем рын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3962-530D-4409-B1DC-1794ADE87A1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3.1. Антимонопольная политика в России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вариант антимонопольного законодательства в России - закон “О конкуренции и ограничении монополистической деятельности на товарных рынках” - был принят в 1991 году.  Он базировался на принципах конкурентной политики, изложенных в Римском договоре ЕС (ст. 85 и 86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монопольный орган - Государственный комитет Российской Федерации по антимонопольной политике и поддержке новых экономических структур (ГКАП),  а в настоящее время это Федеральная антимонопольная  служба (ФАС)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A639-0FE6-4BF5-B86F-6DC158A3EF7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815328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ъятие товаров из обращения с целью создания или поддержания дефицита на рынке либо для повышения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вязывание контрагенту условий договора, не выгодных для него или не относящихся к предмету договор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ключение в договор дискриминирующих условий, которые ставят контрагента в неравное положение по сравнению с другими экономическими субъектам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гласие заключить договор лишь при условии внесения в него положений, касающихся товаров, в которых потребитель не заинтересова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522B-8FAB-4BC1-A4AE-F0155657D9F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9640" y="3780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йствия фирмы, которые запрещаются антимонопольным законодательством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246320"/>
            <a:ext cx="7772400" cy="52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здание препятствий доступу на рынок или выходу с рынка другим фирма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рушение установленного нормативными актами порядка ценообразования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тановление монопольно высоких или монопольно низких цен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кращение или прекращение производства товаров, на которые имеется спрос или заказы потребителей при наличии возможности их безубыточного производства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обоснованный отказ от заключения договора с отдельными покупателями при наличии возможности производства или поставки соответствующего товар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1ABD-94E0-430D-A881-9330C553C54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264960"/>
            <a:ext cx="7772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оказатели структуры товарного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79280" y="1619280"/>
            <a:ext cx="759276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соответствии с различными значениями коэффициентов концентрации и индексов Герфиндаля-Хиршмана в России выделяются три типа рынка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 тип - высо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70 проц. &lt; CR-3 &lt; 100 проц.; 2000 &lt; HHI &lt; 10000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 тип - умеренно 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45 проц. &lt; CR-3 &lt; 70 проц.; 1000 &lt; HHI &lt; 200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III тип - низкоконцентрированные рынк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 CR-3 &lt; 45 проц.; HHI &lt; 1000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73C4-150D-49A2-87C4-91891B91CBC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806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высококонцентрированных рынков: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1440000"/>
            <a:ext cx="8001000" cy="50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разработка отраслевых программ демонополизации, контроль за их реализацией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контроль за рыночным поведением хозяйствующих субъектов, имеющих на рынке определенного товара долю более 35%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предупреждению и пресечению монополистической деятельности хозяйствующих субъектов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действия по снижению барьеров входа на товарные рынки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увеличение числа хозяйствующих субъектов, действующих на данном товарном рынке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запреты на слияния и создание объединений юридических лиц ;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D01-CBDE-4E5A-AA03-AC849E4BE20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9640" y="179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умеренно концентрированных рынков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360" y="16192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блюдение за динамикой показателей концентрации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троль за деятельностью хозяйствующих субъектов, имеющих на рынке определенного товара долю более 35%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, направленные на ограничение рыночного потенциала хозяйствующих субъектов, занимающих доминирующее положение на товарных рынк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ияние и создание объединений юридических лиц допускается, но при условии, что рыночный потенциал не увеличитс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9FB6-23D4-43B3-8EE5-81FDFA02663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45600"/>
            <a:ext cx="77724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ействия антимонопольных органов для низкоконцентрированных рынков: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79640" y="2004840"/>
            <a:ext cx="7772400" cy="39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блюдение за состоянием концентрации производства и товарного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сечение недобросовестной конкурен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4A02-1117-4DCF-A2F9-FE94CC38484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3.3. Антимонопольная политика в США.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Цель антимонопольной политики в США заключается в том, чтобы определять допустимость той или иной практики экономических агентов с точки зрения ее воздействия на конкуренци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нтимонопольную политику в данной стране проводят федеральные и местные суды; антитрестовский отдел Министерства юстиции; Федеральная торговая комисс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B8E7-78ED-4CB6-8859-4B7D25AE345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05920"/>
            <a:ext cx="777240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ая причина необходимости государственной отраслевой и промышленной политики - провалы рынк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провалам рынка относя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власть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ешние эффекты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сть производства рыночной системой общественных благ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совершенство системы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6E04-5634-4219-A42C-4493CF5112F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87280" y="189000"/>
            <a:ext cx="77281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116000" y="1619280"/>
            <a:ext cx="7704000" cy="37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кт Шермана (1890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трестов, запрет практики монополизации торговли между штат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Антиконкурентные действия фирм трактуются в качестве объекта уголовного преступле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онополия здесь понимается как доминирующее положение фирмы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6400" y="1371600"/>
            <a:ext cx="5209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56D-3906-4966-8B96-EAD35721A1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7160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Клейтона (1914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делает акцент на поддержку конкурентной ситуации в цело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запрещает слияния при угрозе конкуренции и направлен главным образом против горизонтальных слия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E79-AE52-40FD-928E-44B3E793A97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042920" y="189000"/>
            <a:ext cx="7872480" cy="14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Основные законодательные документы, в сфере антимонопольной политики, принятые в США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981080"/>
            <a:ext cx="780444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кт Робинсона-Пэтмана (1936)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оторый предполагает запрет ценовой дискриминации и уголовную ответственность за политику хищнических (грабительских) це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установление цены ниже уровня средних/предельных издержек с целью вытеснения конкурента с ры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BAC-CA34-4A24-81B5-99762AB61BB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295280" y="38088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Антиконкурентные действий фирм согласно законодательной классификации СШ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1800360"/>
            <a:ext cx="7948800" cy="46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как таковые (незаконные по сути, на основании буквы закона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и действия не обладают какими-либо достоинствами, позволяющими компенсировать их антиконкурентное воздейств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законные на основании правила разумности (духа закона)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шения суда по данным действиям принимаются на основе сравнения и сопоставления положительных и отрицательных последствий антиконкурентного действ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9C63-9B10-43BC-8DBD-19E6FFCBEA61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60360" y="539640"/>
            <a:ext cx="7559640" cy="61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 первому виду (незаконные как таковые) относятся такие  виды взаимодействий фирм как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ое фиксирование цен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оризонтальный сговор о доле рынк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групповой бойкот (согласованный отказ фирм торговать с третьей фирмой с целью вытеснения ее с рынка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оговоренность о взаимных продажах и закупках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вязанные продажи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неправильная информация о товар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 второму виду (несоответствующие духу закона) могут отнести такие действия,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регулирование цен в рамках вертикальных контрактов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тказ в поставках со стороны одной отдельной фирм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сключительное право покупки или продаж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8803-CFB7-4844-BD7F-21EC130893E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60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обой сферой действия отраслевой политики США является регулирование слияний и поглощений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90720" y="233964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тиконкурентным считается при индексе Герфиндаля-Хиршмана (HHI) от 1000 до 1800 каждая сделка, которая увеличивает индекс на более чем 100 пунктов; при индексе для отрасли более 1800 - сделка, которая может увеличить индекс на 50 и более пунктов. Если индекс Герфиндаля-Хиршмана меньше 1000, такой рынок считается слабо концентрированным и не регулируется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574-FE62-41AF-93F4-834AB740905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539640"/>
            <a:ext cx="780444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гим направлением государственной политики служит регулирование информационного обеспечения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добная проблема возникает в связи с наличием у фирм стимулов к искажению информации в тех случаях, когда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удно проверить качество товар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фирмы выпускают экспериментальные товары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оисходят одноразовые продажи издел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овершаются спекулятивные операции краткосрочного характ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F29-93E4-43F9-AC40-D617BDFCE284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239760"/>
            <a:ext cx="77724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 всех подобных ситуациях органы регулирования 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казывают влияние на параметры поведения фирмы 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79640" y="197964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качества (обязательное установление, в частности, для пищевых продуктов и лекарств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упаковки: требования маркировки товара (обязательное указание ингредиентов издел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арантии срока службы (устанавливаются для товаров длительного пользова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стандарты использования товара (обязательное приложение инструкции по пользованию товаром повышенной сложности с указанием того, что потребитель может и чего не должен делать с продуктом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00FC-271A-4688-B8AA-A8F049FB96DF}" type="slidenum">
              <a:t>37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бщая цель государственной отраслевой политик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ение проблем, связанных с провалами рынка, для повышения общественного благосостоя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9365-8EA1-444B-8C7A-25EFF4D20CA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сновные задачи государственной отраслевой политик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учшее функционирование общества в цело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218B-BA93-4298-886E-124E7AF8706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стижение экономической эффективности общества возможно при наличии конкуренции, которая является средством создания среды, благоприятствующей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ю издержек производства, созданию новых продукт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видов деятельн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ых методов производства и организации, развития НИОК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ического прогресса и инноваций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1743-1176-4C89-9D77-EBE235DF54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тимизация поведения экономических агентов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33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раслевая политика должна создавать условия благоприятные для конкуренции такие как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вобода выхода и вхо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имулы к инновациям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ддержка определенной степени соперничества между фирма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3F87-772F-405F-9160-58086E818C5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Для лучшего функционирования общества необходимы: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79280" y="1793880"/>
            <a:ext cx="7592760" cy="540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национальной промышленност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щь фирмам и отраслям в трудных ситуациях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регионов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занятост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от иностранного капита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тие малого и среднего бизнес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та прав потребителей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ление правил добросовестной конкурен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 algn="just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799"/>
              </a:spcBef>
              <a:buNone/>
              <a:tabLst>
                <a:tab algn="l" pos="0"/>
                <a:tab algn="l" pos="3380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4D5-6493-44AD-AA82-EC996FD52F3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74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ипы отраслевой политик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924680" cy="525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8CDC-F7AA-4B10-9FDF-F7FF95BED3B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cp:revision>0</cp:revision>
  <dc:subject/>
  <dc:title>Регулирование отраслевых рынков </dc:title>
</cp:coreProperties>
</file>