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5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A68-AEEC-47E2-A6D4-9AD4641B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0F3-87F8-429A-AD20-3702C4C2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2E9-2188-4F66-A4E8-E06257F7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D9B-D317-4D93-892C-F3FB853B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C17B-B8A7-4ACB-8748-A549E34B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6F42-F3FB-4CFA-9741-EC07E436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1E7E-A5BB-4DAB-8720-53293D1E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551F-16CB-4BB4-A2C7-57680856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DD29-8A07-4773-99AD-2074D683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CDE7-1E7B-4535-9229-EB595A16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6B20-C306-42FE-B617-7DFDF388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EF3-70BD-4902-B0D3-7251CC32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D0D5-2E2F-4EF5-919E-E0561D82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95C3-8FA4-4657-B16F-96715D89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2E3A-03A0-425B-8D87-D8AF9A26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F99D-B08A-4F3F-9580-646B2EA9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F20C-4B3C-495E-97B5-6CD3FE2A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BD2-0C7E-447C-B2CC-8EC74CA9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1A1-4A64-4351-ADBC-0794C583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B8D-C0E9-4DB2-86BB-503BA908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1A0-1DA8-40C4-8843-DDE17C44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AC4-3AD5-409F-9629-6EF2A690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961-4250-45B1-944A-5B139CF6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A46-B6B3-4BE4-8399-4E6B98EB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7D06-00BA-4DB4-A607-A88818CCA57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6F6B-32B3-4B5E-BF82-E6FB899BDA6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21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2.  Методологические вопросы исследования структуры отраслевых рынков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315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ынок и рыночные струк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онцентрация продавцов на рынке и ее показате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казатели монопольной в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труктура рынка опреде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м и размерами фир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ом продукц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гкостью вход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ю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ычно в экономической литературе рассматривается четыре типа рыночных структур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н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ическ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лигопол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олее детализированная характеристика рыночных структур по Штакельбергу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772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типы структур рынка продавц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772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ундаментальные предпосылки основных моделей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772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рактеристика основных рыночных структур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нцентрация продавцов на рынке и ее показате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ночная концентрация отражает удельный вес отдельных участников рынка или отрас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очная концентрация определяется двумя основными параметрам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остью продавцов на рынке (или производителей в отрасли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м между ними рыночных долей (долей  в производств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ень концентрации тем выше, чем меньше количество фирм на рынке (или в отрасли).  При одинаковом количестве фирм уровень концентрации будет тем выше, чем больше неравномерность в распределении между фирмами их до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перв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 показателям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не должен изменяться в зависимости от размера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должен легко рассчитываться и легко интерпретирова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я индекса должны меняться в диапазоне от нуля до единицы, экстремальные значения должны соответствовать случаям совершенной конкуренции (значение близкое нулю) и монополии (значение равное единиц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втор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работаны на основе кривых концентрации, которые построены в координатах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бсцисса - кумулятивное число фирм, предварительно ранжированных по размеру от большей к меньшей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а - нарастающим итогом процент выпуска (или процент реализации) продукции, отражающий размеры фир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я рын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представляет собой систему отношений, в которой связи покупателей и продавцов столь свободны, что цены на один и тот же товар имеют тенденцию быстро выравниватьс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едставляет собой совокупность покупателей и продавцов, взаимодействия которых приводит в итоге к возможности обмен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это механизм передачи прав собствен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овокупность экономических условий, при которых покупатели и продавцы взаимодействуют для осуществления взаимовыгодных торговых сдело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Кривые концентр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772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едположим для дальнейшей характеристики показателей концентрации, что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7724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концентрации - обратная величина к числу фирм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3885840"/>
            <a:ext cx="6095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n - число фирм на рын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4460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эффициент концентрации- это сумма рыночных долей крупнейших фирм,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4114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ой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, для которых определяется этот показате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50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ля измерения степени неравенства размеров фирм, действующих на рынке, используется показатель дисперсии рыночных долей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867280" cy="1128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19320" y="4572000"/>
            <a:ext cx="70102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спользуется показатель и дисперсии логарифмов рыночных доле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7724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(HHI) определяется как сумма квадратов долей всех фирм.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4114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 на рынке (в отрасли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10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можно представить и в иной форме, с использованием коэффициента вариации (с) размеров фир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8483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99960"/>
            <a:ext cx="7848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нна и Кей предложили несколько критериев для оценки показателей рыночной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ранжирование рынков (отраслей) с помощью кривых концент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о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ринцип трансферта объема прода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и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словие входа и вы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ерт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словие поглощения или слияния фир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Ханна и Кея  аналогичен индексу Герфиндаля и Хиршмана, но позволяет присваивать различные веса фирмам отрасл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3885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Ханна и Ке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α – положительная констан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ваемая исследовател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α=2 индекс Ханна и Кея совпадает с индексом Герфиндаля Хиршм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21040" y="2514600"/>
            <a:ext cx="1882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ки можно классифицировать по следующим признака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бъектам торговых сделок - товарные, факторов производства, денежные и т.д.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днородности товара - гомогенные и дифференцированные;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условиям функционирования - закрытые и открытые, организованные и стихийны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й показатель, основанный на кривой Лорен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Кривая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жает неравномерность распределения какого-либо признак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лучая концентрации продавцов на рынке - взаимосвязь меж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ей рынка, подсчитанной нарастающим итогом (показываемой по ординате),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нтом фирм, обеспечивающих эту долю и ранжированных от мелких до крупных (представлены по абсцисс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аграмма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9528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 представляет собо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площади, ограниченной фактической кривой Лоренца и кривой Лоренца для абсолютно равномерного распределения рыночных долей (так называемой “кривой абсолютного равенства”) к площади треугольника, ограниченного кривой Лоренца для абсолютно равномерного распределения долей и осями абсцисс и ордина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ичины того или иного уровн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менение концентрации может быть результатом как изменения числа продавцов, так и изменений в распределении их рыночных долей. Следовательн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акторами изменения структуры рынка – рыночной концентрации являютс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а рынок новых участников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с рынка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яния и поглощения фир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объемов производства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анализе отраслевых рынков важным яв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состояния и изменений структуры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факторов, влияющих на структуру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ие первопричин, влияющих на  повышение или снижение концентрации продавцов на рынке или фирм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ва подхода в выявлении и объяснении причин изменения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стский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етерминистский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ит из того, что в каждый данный момент должен существовать определенный равновесный уровень концентрации на рынке. Он определяется условиями спроса и предложения и поведением субъектов рынка, для которых наиболее существенными факторами явля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ческие возмож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ффект масштаб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U-образной кривой долгосрочных средних издержек</a:t>
            </a: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5257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D - спрос на продукцию конкурентной отрас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LRAC1 - U-образная кривая долгосрочных средних издерж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4674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ервоначально в соответствии с эффектом масштаба, фирма выбирает объем производства равны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, при котором средние издержки минимальны. Тогд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очная цена в условиях долгосрочного равновесия установится на уров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L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дновременно равной долгосрочным предельным издержка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рыночного спроса составит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D(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нкурентных фирм будут работать при минимальных издержках производства, производить одинаковый объем продукции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каждой фирмы в отрасли будет равна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а уровень концентрации в отрасли будет равен 1/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ипы границ рынк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ов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ажают способность товаров заменять друг друга в потребл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ен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характеризуют исследуемый временной интервал, а также границы эксплуатации продаваемого това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ь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пределяют пространственные границы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ледствия изменени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в отрасли в результате технологических усовершенствований кривая долгосрочных средних издержек перемещается в положени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LR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птимальный масштаб производства возрастет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а рыночная цена снизится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условии, что отношение оптимальных объемов производства до и после технологических изменений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больше, чем отношение соответствующих размеров рынка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, определяемое рыночным спросом, то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уровень концентрации действительно возрастет, а количество фирм в отрасли уменьши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перв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экзогенно заданные условия спроса и издержки производства в реальной действительности могут быть переменны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втор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разование более крупных фирм, в результате изменения минимально эффективного выпуска, при достаточно крупных размерах рынка, могут не повлечь за собой уменьшения общего количества фирм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третьи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U-образную форму кривой долгосрочных средних издержек, хотя в действительности она часто имеет L-образную фор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образной кривой долгосрочных средни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80773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четвер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только условия совершенной конкуренции. В условиях олигополии равновесная цена может быть выше конкурентной цены 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 Если на рынке олигополии установилась цена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о на рынке могут работать фирмы одинакового размера с объемами производства ниже минимально эффективного выпуска: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ак как их издержки окупаются при це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пя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не учитывает распределение фирм по размерам, предполагая их одинаковость, что также далеко от реаль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ит из того, что влияние на уровень концентрации оказывают множество случайных факторов, действующих разнонаправле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цесс Жиб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ится при следующих предпосылка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тие каждой фирмы происходит в соответствии заданным вероятностным распределением пропорционального изменения объем выпуска продукци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нная вероятность пропорционального изменения не зависит от размера фирмы в текущий момент време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ссмотрим процесс Жибра на условном при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чальный момент времени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=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в отрасли действуют 256 фирм одинакового размера – мощностью 57600 единиц продукции в год каждая. Любая фирма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5 - сохранить свой размер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величить свой размер в 16/15 раз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меньшить свой размер в 15/16 раз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я в распределении размеров фир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первого этапа  (t=1)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овина фирм (128 из 256) сохраняют свой размер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твертая часть фирм (64 из 256) уменьшают свой размер до 54000 (57600*15/16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столько же фирм (64 из 256) увеличивают свой размер до 61440 (57600*16/15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следующего этапа (при t=2) проце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ется в отношении каждой фирмы пр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 же вероятностных распределен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люстрация изменения в распределении размеров фирм в несколько этапов процесса Жиб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9246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результате распределение фирм по размерам становится ассиметричным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е фирмы изменяются на большую абсолютную величину, чем меньш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рост мощностей составил 3840 (61440-57600) и 4096 (65536-614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ие мощностей составило 3600 (57600- 54000) и 3375 (54000-5062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ритерии для определения границ отраслевого рынка, предложенные Дж.Робинсон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границах одного отраслевого рынка рассматриваю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товар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заменителей това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заменители очередных замените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ак до тех пор пока в цепи товаров-заменителей не обнаружится значительный разры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поставление двух метод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хастический подход придает большее значение распределению рыночных до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ерминистский подход больше акцентирует изменения числа фирм на рын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казатели рыночной вла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Бэйна  (норма экономической прибыли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Лерне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Тобина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бин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Папандре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эффициент (индекс) Бейна 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ывает экономическую прибыль на одну денежную единицу собственного капит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66680" y="2963880"/>
            <a:ext cx="77724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декс (коэффициент) Лерне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240" y="29718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онопольная це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едельные издерж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ценовая эластичность спро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лучае монополии значение индекса Лернера приближается к единице, а в случае совершенной конкуренции этот показатель равен нул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399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евышение монопольной цены над предельными издержками 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зависимости от ценовой эластичности спрос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велика, то цена, которая максимизирует прибыль монополиста, будет лишь немного превышать предельные издержки – рис. 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эластичный рыночный спрос обеспечивает большую монопольную надбавку к конкурентной цене – рис. 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816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рав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20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принимает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.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составляет только 5% от це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же ценовая эластичность спрос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1,6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состави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,62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увеличится до 62,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399960"/>
            <a:ext cx="7848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скольку в долгосрочном периоде в условиях равновесия предельные издержки (МС) равны средним (АС), то индекс Лернера можно определить и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34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99960"/>
            <a:ext cx="76201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Лернера показывает также долю монопольной прибыли (П</a:t>
            </a:r>
            <a:r>
              <a:rPr b="1" lang="ru-RU" sz="3600" spc="-1" strike="noStrike" baseline="-25000">
                <a:solidFill>
                  <a:srgbClr val="221304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) от общей выручки (TR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6483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399600"/>
            <a:ext cx="830556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Модификации индекса Лернера для рынка олигополии ( если рынок описывается моделью Курно)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5181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бъем выпус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о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игополис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ыночный с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96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ожив второе слагаемое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/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затем на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несложных преобразовани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447920" y="4594320"/>
            <a:ext cx="70102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качестве критериев определения границ отраслевого рынка Э.Чемберлин предложил коэффициенты перекрестной эластичности, а именно оценивается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меняемость товара - с помощью коэффициента перекрестной эластичности спроса на товар по цене товара-заменител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висимость фирм-производителей товара - с помощью коэффициента перекрестной эластичности цены данного товара по объему выпуска товара-заменител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редний для отрасли индекс Лернера можно вычислить, умножив левую и правую части 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и суммированием по всем фирмам отрас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2017800"/>
            <a:ext cx="7162920" cy="1469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7619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 результате средний по отрасли индекс Лернера равен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7543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Коэффициент Тобина (q Тобина) связывает рыночную стоимость фирмы (измеряемой рыночной ценой ее акций) с восстановительной стоимостью ее активов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33680" y="2362320"/>
                <a:ext cx="2046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обин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36576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P- рыночная стоимость активов фир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ычно определяется по курсу ак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- восстановительная стоимость актив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, равная сумме расходов, необходим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иобретения активов фирмы по текущи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qТобина&gt; 1 - свидетельство полученной или ожидаемой положительной экономическ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индекса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азируется на гипотезе эффективного финансового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высоким значением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ычно обладают уникальными факторами производства или выпускают уникальные товары, то есть для этих фирм характерно наличие монопольной рен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небольшими значениями </a:t>
            </a: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действуют в конкурентных или регулируемых отрасля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оэффициент монопольной власти Папандреу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вается на концепции перекрестной эластичности остаточного спроса на товар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сам по себе показатель перекрестной эластичности остаточного спроса не может служить показателем монопольной власти, так как его величина зависит от двух факторов, оказывающих противоположное влияние на монопольную влас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числа фирм на рынк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уровня заменимости товара рассматриваемого продавца и товаров других фир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числа фирм на рынке приводит к снижению их взаимозависимости и соответствующему снижению показателя перекрестной эластичности остаточного спрос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Чем выше значения коэффициентов перекрестной эластичности, те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е близкими заменителями, т.е. более однородными являются рассматриваемые това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взаимозависимость фирм производ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дход антимонопольных комитетов ряда стран -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перекрестная эластичность спроса по цене становится меньше определенной заданной величины, считается, что в цепи товаров-заменителей имеет место разрыв, который является границей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граничение между понятиями «рынок» и «отрасль»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ен удовлетворяемой потребность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яет фирмы, предлагающие товар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окупа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спрос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ена производимыми продук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яет фирмы, производящие продукт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предлож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5:56:02Z</dcterms:created>
  <dc:creator>Jevgenij</dc:creator>
  <dc:description/>
  <dc:language>en-US</dc:language>
  <cp:lastModifiedBy>Евгений</cp:lastModifiedBy>
  <dcterms:modified xsi:type="dcterms:W3CDTF">2008-09-17T10:06:28Z</dcterms:modified>
  <cp:revision>102</cp:revision>
  <dc:subject/>
  <dc:title>Заголовок слайда отсутствует</dc:title>
</cp:coreProperties>
</file>