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C48C-99D1-4FEC-969B-AC6E7EFC9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C5B2-D80B-4088-9663-717D2327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D148-E2FA-4AFC-B20C-B730C1EE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2D9F-CA4F-4B95-9F0D-47BCB82F4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6586-79E1-43FE-8C71-320123DD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C26C-AFBC-417D-B105-8CAE0B5B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AAF1-3F69-4247-9790-0193934F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176A-1C8D-4945-8F6E-DAC54B3A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AD21-366B-431A-BAAA-2235F4E6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D30A-600E-4FEE-9FF0-ECA5C166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4F56-8A59-4DE8-8E7F-58D56CB1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8D31-2178-4A52-857D-05C20C44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2E18-C7DF-4AF1-A798-7F03FEA3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A1B7-E5ED-400D-82B8-903B9D0A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91B0-8EA9-4582-8E38-1017CE30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EF7E-364D-412C-A07E-C1C402D5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9740-8197-401B-B3C8-B884A853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C56D-E806-431B-A745-575F3E2B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38A7-7016-48E1-A77A-2C5D7357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E4CD-0946-4019-AABB-17E683ED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E1C6-7681-4008-BD6B-AB251830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43F7-7367-4138-BED0-BE5BFF8B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91EC-4FC7-45FB-8005-3CC528A7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C5F9-F847-4E2B-9B6E-93A4DCAF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24F6-B997-4198-A56D-BAAF0629140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C105-6F82-434A-BEAD-96D1EC06BCE7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правление персонал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442200" y="3767040"/>
            <a:ext cx="211752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нятие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fig_strong_leadership"/>
          <p:cNvPicPr/>
          <p:nvPr/>
        </p:nvPicPr>
        <p:blipFill>
          <a:blip r:embed="rId1"/>
          <a:stretch/>
        </p:blipFill>
        <p:spPr>
          <a:xfrm>
            <a:off x="0" y="2509920"/>
            <a:ext cx="64818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333360"/>
            <a:ext cx="5313240" cy="1571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еханический и органический типы организац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99640" y="2707920"/>
            <a:ext cx="8001000" cy="381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ханистический тип организации существует в условиях стабильности рыночной и технологической среды, предсказуемого направления развития деятельности и организаци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рганический тип предполагает наличие высокой степени изменчивости технологической и рыночной среды организации, когда нет жесткой структуры, четкого распределения работ, а существуют механизмы быстрой адаптации к изменениям сред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188640"/>
            <a:ext cx="5313240" cy="1716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еория органических и механических систем</a:t>
            </a:r>
            <a:br>
              <a:rPr sz="3600"/>
            </a:br>
            <a:r>
              <a:rPr b="0" i="1" lang="ru-RU" sz="1600" spc="-1" strike="noStrike">
                <a:solidFill>
                  <a:srgbClr val="006666"/>
                </a:solidFill>
                <a:latin typeface="Arial"/>
              </a:rPr>
              <a:t>Т.Бамс и Дж. Сталкер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rcRect l="0" t="20411" r="28572" b="10203"/>
          <a:stretch/>
        </p:blipFill>
        <p:spPr>
          <a:xfrm>
            <a:off x="228600" y="2282760"/>
            <a:ext cx="8915400" cy="4575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4233960" cy="1644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Жизненный цикл организации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по И.Адизесу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900000" y="2781360"/>
            <a:ext cx="8001000" cy="3733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4449960" cy="1500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апы развития и кризисы роста организации </a:t>
            </a:r>
            <a:r>
              <a:rPr b="0" i="1" lang="ru-RU" sz="1600" spc="-1" strike="noStrike">
                <a:solidFill>
                  <a:srgbClr val="006666"/>
                </a:solidFill>
                <a:latin typeface="Arial"/>
              </a:rPr>
              <a:t>(по Л. Грейнеру)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8305920" cy="4343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907560"/>
            <a:ext cx="5040360" cy="855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 1: Творчеств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01000" cy="424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снователь (основатели) компании обычно обладают какими-либо техническими или предпринимательскими навыками, умениями, способностями. Они не столько фокусируются на менеджерские функции, сколько на производство и продажу нового «продукта» (услуги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бщение между сотрудниками довольно интенсивно и носит скорее неформальный характер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Долгие часы работы вознаграждаются сравнительно невысокими (средними) зарплатами, в придачу с надеждами или обещаниями будущей выгоды от участия в собственно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правление деятельностью подчинено имеющимся капитальным ресурсам и характеризуется постоянной связью с соответствующими рыночными нишами. Где только можно — организация быстро реагирует на любые запросы клиент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76000" y="620280"/>
            <a:ext cx="511164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 2: Направленный рос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3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личие функциональной организационной структуры с четко определенными ролями и должностными обязанностям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недрение (или более активное использование) четкой системы учета и отчетности, в особенности, в отношении закупочных материалов, сырья, полуфабрикатов и т.п.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недрение систем мониторинга и контроля, планирования бюджета и вырабатывания стандартов качеств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Коммуникации (формы общения) становятся более формальными и обезличенным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овый менеджер и его/ее ключевые помощники задают направление и берут на себя лидирующие роли, в то время как контролеры более низкого уровня в большей степени выполняют роли функциональных специалист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640" y="620280"/>
            <a:ext cx="42480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ап 3: Рост через делегировани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99640" y="2491920"/>
            <a:ext cx="8001000" cy="394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собенности этапа определяется приложениями и возможностями децентрализации организационной структур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неджеры децентрализованной оргструктуры, обладающие большей властью, способны быстрее отвечать на запросы клиентов, лучше адаптируя к их запросам и развивая свои продукты и качество рабочей сред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озможны кризисы, когда  менеджеры высшего звена начнут ощущать потерю контроля над компанией в целом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2000" y="691920"/>
            <a:ext cx="480996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 4: Рост через координацию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560" y="2707920"/>
            <a:ext cx="8001000" cy="351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недрение и/или серьезный пересмотр формальных процедур планирования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йм (или обучение) специального корпоративного персонала для инициирования программ мониторинга и контроля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Использование процедур тщательного мониторинга капитальных расход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Функционирование групп разработки новых продуктов как «индивидуальных центров затрат»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Передача прерогатив обработки данных и других подобных технических функций централизованной структуре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Использование возможностей выпуска акций предприятия и участия в его прибылях с целью поощрения и стимулирования развития у сотрудников чувства собственности и своей связи с компанией в цело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11280" y="549000"/>
            <a:ext cx="41040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ап 5: Рост через сотрудничество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99640" y="2707920"/>
            <a:ext cx="8001000" cy="351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Фокус на решение проблем через командное взаимодействие менеджеров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Команды комбинируются по кроссфункциональному принципу с целью решения конкретной проблемы (внедрение матричных организационных структур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нижение численности корпоративного персонала с его одновременным перераспределением по принципу комбинирования различных функциональных и специальных областей экспертизы. При этом от корпоративного персонала требуется выполнения функций консультирования, а не указывания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недрение программ образования, повышения квалификации и саморазвития с целью совершенствования необходимых навыков и умений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нформационные системы, работающие в режиме реального времени, внедряются в практику повседневной работы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нновациям и творчеству отдается самый высокий приорите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5313600" cy="1716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Value Based Management (Ценностно-ориентированное управление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rcRect l="12247" t="32655" r="14283" b="61226"/>
          <a:stretch/>
        </p:blipFill>
        <p:spPr>
          <a:xfrm>
            <a:off x="1042920" y="2924280"/>
            <a:ext cx="7848720" cy="1218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industrializirovannaya%20filosofiya%20upravleniya%20kadrami"/>
          <p:cNvPicPr/>
          <p:nvPr/>
        </p:nvPicPr>
        <p:blipFill>
          <a:blip r:embed="rId3"/>
          <a:stretch/>
        </p:blipFill>
        <p:spPr>
          <a:xfrm>
            <a:off x="1258920" y="4292640"/>
            <a:ext cx="69850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240480" y="331200"/>
            <a:ext cx="7027920" cy="6252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Управление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персоналом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Система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.1.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Теория органических и механических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систем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 Организация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1. Обязательные условия существования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2. Характеристики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3. Внешняя среда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4.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Внутренняя среда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5. Механический и органический типы организаций,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6. Жизненный цикл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7. Этапы развития и кризисы роста организации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1: Творчество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2: Направленный рост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3: Рост через делегирование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4: Рост через координацию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5: Рост через сотрудничество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3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bb29ac710271904ed939a848a3befaf7"/>
          <p:cNvPicPr/>
          <p:nvPr/>
        </p:nvPicPr>
        <p:blipFill>
          <a:blip r:embed="rId2"/>
          <a:stretch/>
        </p:blipFill>
        <p:spPr>
          <a:xfrm>
            <a:off x="7236000" y="2060640"/>
            <a:ext cx="172692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260280"/>
            <a:ext cx="4521240" cy="1432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епочка создания ценности</a:t>
            </a:r>
            <a:br>
              <a:rPr sz="3200"/>
            </a:br>
            <a:r>
              <a:rPr b="0" i="1" lang="ru-RU" sz="3200" spc="-1" strike="noStrike">
                <a:solidFill>
                  <a:srgbClr val="006666"/>
                </a:solidFill>
                <a:latin typeface="Arial"/>
              </a:rPr>
              <a:t>по М.Портеру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8001000" cy="4114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905440" cy="1868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ь классификации значимости заинтересованных сторон </a:t>
            </a:r>
            <a:r>
              <a:rPr b="0" i="1" lang="ru-RU" sz="1600" spc="-1" strike="noStrike">
                <a:solidFill>
                  <a:srgbClr val="006666"/>
                </a:solidFill>
                <a:latin typeface="Arial"/>
              </a:rPr>
              <a:t>по А.Митчелу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rcRect l="25715" t="28572" r="25715" b="14284"/>
          <a:stretch/>
        </p:blipFill>
        <p:spPr>
          <a:xfrm>
            <a:off x="1403280" y="2565360"/>
            <a:ext cx="7010640" cy="3848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9280" y="404280"/>
            <a:ext cx="4897440" cy="1575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арта заинтересованных сторо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rcRect l="0" t="10167" r="0" b="0"/>
          <a:stretch/>
        </p:blipFill>
        <p:spPr>
          <a:xfrm>
            <a:off x="914400" y="228600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5457960" cy="1500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тержневые компетенции отличаются от компетенци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9640" y="2637000"/>
            <a:ext cx="8001000" cy="3527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исущи только тем компаниям, показатели которых превосходят  средний уровень, характерный для данной отрасл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тличаются уникальностью и свойственны только одной компани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тличаются сложностью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не поддаются копированию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вязаны с удовлетворением запросов заказчика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пособствуют повышению ценности продукта чаще, компетенци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оявляются в результате особых взаимоотношений с дистрибьюторами и поставщикам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базируются на превосходных умениях и знаниях сотрудников компани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560232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ри движущих силы новой экономи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560" y="2565000"/>
            <a:ext cx="8001000" cy="410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Знания – интеллектуальный капитал  стал стратегическим фактором; набор понятий, используемых людьми для принятия решения, критичны для компании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Перемены – непрерывные, быстрые и сложные  перемены создают неопределенность и сокращают предсказуемость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Глобализация – в научно-технических разработках, технологиях, производстве, торговле, финансах, коммуникациях и информации, которая привела к раскрытию экономик, глобальной гиперконкуренции и взаимозависимости бизнесов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4681440" cy="1368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Далай Лама о современном мир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920" y="2361960"/>
            <a:ext cx="7872480" cy="423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ши дома всё больше, а семьи всё меньш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 нас больше удобств, но меньше времен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ученых степеней, но меньше здравого смысла...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знаний, но меньше способности к трезвому суждению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специалистов, но еще больше пробле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лекарств, но меньше здоровь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ы проделали долгий путь до луны и обратно, но нам сложно перейти улицу, чтоб встретиться с новым соседо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ы создали множество компьютеров для хранения и копирования огромных объёмов информации, но стали меньше общаться друг с друго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ы выиграли в количестве, но проиграли в качеств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Это время быстрого питания, но медленного усвое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Людей высокого роста, но низкой нравственно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ысоких доходов, но мелочных отношений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Это время, когда так много за окном, но ничего в комнате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052280"/>
            <a:ext cx="3024000" cy="63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истема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01000" cy="424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истема – это набор взаимосвязанных и взаимозависимых частей, составленных в таком порядке, который позволяет воспроизвести цело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Уникальной характеристикой при рассмотрении систем являются внутренние отношения часте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аждая-система характеризуется дифференциацией и  интеграцие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аждый элемент системы выполняет свои определенные функци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ля того чтобы поддерживать отдельные части в одном организме и формировать завершенное целое, в каждой системе осуществляется интеграция через: координацию уровней иерархии управления, прямое наблюдение, правила, процедуры, курс действи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Picture 7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980640"/>
            <a:ext cx="3888000" cy="792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рганизац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565360"/>
            <a:ext cx="8001000" cy="2362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рганизация — это сознательное объединение людей, деятельность которых планомерно координируется для достижения общей для всех цели или системы целе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industrializirovannaya%20filosofiya%20upravleniya%20kadrami"/>
          <p:cNvPicPr/>
          <p:nvPr/>
        </p:nvPicPr>
        <p:blipFill>
          <a:blip r:embed="rId2"/>
          <a:stretch/>
        </p:blipFill>
        <p:spPr>
          <a:xfrm>
            <a:off x="1258920" y="4941720"/>
            <a:ext cx="69850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404640"/>
            <a:ext cx="5962680" cy="1500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бязательные условия существования организац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99640" y="2781360"/>
            <a:ext cx="800100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личие двух или более людей, которые считают себя группо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личие одного или нескольких ориентиров, к которым стремятся все члены групп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личие членов группы, которые мобилизуют, координируют, направляют деятельность других, чтобы достичь единой для всех це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63640" y="691920"/>
            <a:ext cx="410544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арактеристики орган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01000" cy="251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целевое назначе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авовой стату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истема внутреннего взаимодействия и система взаимоотношений с внешней сред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industrializirovannaya%20filosofiya%20upravleniya%20kadrami"/>
          <p:cNvPicPr/>
          <p:nvPr/>
        </p:nvPicPr>
        <p:blipFill>
          <a:blip r:embed="rId2"/>
          <a:stretch/>
        </p:blipFill>
        <p:spPr>
          <a:xfrm>
            <a:off x="1258920" y="4941720"/>
            <a:ext cx="69850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50976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нешняя среда орган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8001000" cy="4248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496728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нутренняя среда орган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8001000" cy="4248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3T12:03:25Z</dcterms:created>
  <dc:creator>Администратор</dc:creator>
  <dc:description/>
  <dc:language>en-US</dc:language>
  <cp:lastModifiedBy>Людмила</cp:lastModifiedBy>
  <dcterms:modified xsi:type="dcterms:W3CDTF">2017-08-21T07:34:11Z</dcterms:modified>
  <cp:revision>12</cp:revision>
  <dc:subject/>
  <dc:title>Основы управления персоналом</dc:title>
</cp:coreProperties>
</file>