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121-2802-4083-8C05-33DEB713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B4B-86FA-4019-9916-4A03F38E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A1A-2BE2-406B-B290-3DA0C9F7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2CBE-7603-4192-B195-E4C811AA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D00A-DB03-4021-9E74-39452AE1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F49F-FEFD-47F7-A494-038B7F63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0FAF-8BB7-477B-8851-4F2CBF8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6531-2B26-48CA-812A-0DF80AB3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CA35-B9B0-474F-ADA5-F001F12F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EBA5-C5B3-428A-9FEA-7319798B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A0FC-AAFA-4F52-955D-19EA009E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B680-AE76-4DCF-950D-D13A32DD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B21-C50F-4493-A31B-C360C087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973F-D59D-40D5-94DA-F138D4C6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741-A97B-45B8-BFDC-11021580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11C-F43F-4689-BA25-066156E6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DFBF-1254-453C-85E7-515C1155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6003-62F3-4CC5-BB9F-15BE5C3D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3A78-9C51-4ED1-9AB8-73965AC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AFF-C29A-4CB8-AE5C-0934F133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480-DBDA-468D-8A33-0E37113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648-D216-4858-8B6B-EB265F5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866-6CC2-4A9E-A55F-6D8E266E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14B-FFF5-4500-BE7A-7DDD9725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BE7-738F-41DA-9CB7-AAC14B43678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E9AB-BEB7-4613-959F-B96C6517AE7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равление персона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42200" y="3767040"/>
            <a:ext cx="211752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нят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ig_strong_leadership"/>
          <p:cNvPicPr/>
          <p:nvPr/>
        </p:nvPicPr>
        <p:blipFill>
          <a:blip r:embed="rId1"/>
          <a:stretch/>
        </p:blipFill>
        <p:spPr>
          <a:xfrm>
            <a:off x="0" y="2509920"/>
            <a:ext cx="6481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33360"/>
            <a:ext cx="5313240" cy="1571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еханический и органический типы организаций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81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ханистический тип организации существует в условиях стабильности рыночной и технологической среды, предсказуемого направления развития деятельности и организаци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рганический тип предполагает наличие высокой степени изменчивости технологической и рыночной среды организации, когда нет жесткой структуры, четкого распределения работ, а существуют механизмы быстрой адаптации к изменениям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188640"/>
            <a:ext cx="531324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еория органических и механических систем</a:t>
            </a:r>
            <a:br>
              <a:rPr sz="3600"/>
            </a:b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Т.Бамс и Дж. Сталкер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20411" r="28572" b="10203"/>
          <a:stretch/>
        </p:blipFill>
        <p:spPr>
          <a:xfrm>
            <a:off x="228600" y="2282760"/>
            <a:ext cx="8915400" cy="457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4233960" cy="1644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Жизненный цикл организаци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по И.Адизесу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8001000" cy="373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4449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ы развития и кризисы роста организации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(по Л. Грейнеру)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830592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907560"/>
            <a:ext cx="5040360" cy="855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1: Творчеств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снователь (основатели) компании обычно обладают какими-либо техническими или предпринимательскими навыками, умениями, способностями. Они не столько фокусируются на менеджерские функции, сколько на производство и продажу нового «продукта» (услуги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Общение между сотрудниками довольно интенсивно и носит скорее неформальный характер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Долгие часы работы вознаграждаются сравнительно невысокими (средними) зарплатами, в придачу с надеждами или обещаниями будущей выгоды от участия в соб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правление деятельностью подчинено имеющимся капитальным ресурсам и характеризуется постоянной связью с соответствующими рыночными нишами. Где только можно — организация быстро реагирует на любые запросы клиен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51116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2: Направленный рос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личие функциональной организационной структуры с четко определенными ролями и должностными обязанностя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(или более активное использование) четкой системы учета и отчетности, в особенности, в отношении закупочных материалов, сырья, полуфабрикатов и т.п.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систем мониторинга и контроля, планирования бюджета и вырабатывания стандартов качеств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Коммуникации (формы общения) становятся более формальными и обезличенным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овый менеджер и его/ее ключевые помощники задают направление и берут на себя лидирующие роли, в то время как контролеры более низкого уровня в большей степени выполняют роли функциональных специалистов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620280"/>
            <a:ext cx="4248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3: Рост через делегирован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01000" cy="394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собенности этапа определяется приложениями и возможностями децентрализации организационной структу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енеджеры децентрализованной оргструктуры, обладающие большей властью, способны быстрее отвечать на запросы клиентов, лучше адаптируя к их запросам и развивая свои продукты и качество рабочей сред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озможны кризисы, когда  менеджеры высшего звена начнут ощущать потерю контроля над компанией в целом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480996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 4: Рост через координаци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56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недрение и/или серьезный пересмотр формальных процедур план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йм (или обучение) специального корпоративного персонала для инициирования программ мониторинга и контрол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процедур тщательного мониторинга капитальных расхо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Функционирование групп разработки новых продуктов как «индивидуальных центров затрат»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Передача прерогатив обработки данных и других подобных технических функций централизованной структуре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Использование возможностей выпуска акций предприятия и участия в его прибылях с целью поощрения и стимулирования развития у сотрудников чувства собственности и своей связи с компанией в цел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1280" y="549000"/>
            <a:ext cx="41040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тап 5: Рост через сотрудничеств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8001000" cy="351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окус на решение проблем через командное взаимодействие менеджеров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оманды комбинируются по кроссфункциональному принципу с целью решения конкретной проблемы (внедрение матричных организационных структур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численности корпоративного персонала с его одновременным перераспределением по принципу комбинирования различных функциональных и специальных областей экспертизы. При этом от корпоративного персонала требуется выполнения функций консультирования, а не указыва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дрение программ образования, повышения квалификации и саморазвития с целью совершенствования необходимых навыков и умений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формационные системы, работающие в режиме реального времени, внедряются в практику повседневн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нновациям и творчеству отдается самый высокий приоритет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5313600" cy="1716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Value Based Management (Ценностно-ориентированное управление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rcRect l="12247" t="32655" r="14283" b="61226"/>
          <a:stretch/>
        </p:blipFill>
        <p:spPr>
          <a:xfrm>
            <a:off x="1042920" y="2924280"/>
            <a:ext cx="784872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industrializirovannaya%20filosofiya%20upravleniya%20kadrami"/>
          <p:cNvPicPr/>
          <p:nvPr/>
        </p:nvPicPr>
        <p:blipFill>
          <a:blip r:embed="rId3"/>
          <a:stretch/>
        </p:blipFill>
        <p:spPr>
          <a:xfrm>
            <a:off x="1258920" y="4292640"/>
            <a:ext cx="6985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240480" y="331200"/>
            <a:ext cx="7027920" cy="62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Управление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Arial"/>
              </a:rPr>
              <a:t>персонало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а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.1.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Теория органических и механических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систем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 Организация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1. Обязательные условия существования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2. Характеристики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3. Внеш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4.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Внутренняя среда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5. Механический и органический типы организаций,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6. Жизненный цикл организации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.7. Этапы развития и кризисы роста организации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1: Творчество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2: Направленный рос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3: Рост через делегирование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4: Рост через координацию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       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Arial"/>
              </a:rPr>
              <a:t>Этап 5: Рост через сотрудничество</a:t>
            </a:r>
            <a:r>
              <a:rPr b="1" lang="ru-RU" sz="2000" spc="-1" strike="noStrike">
                <a:solidFill>
                  <a:srgbClr val="003366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9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72360" y="260280"/>
            <a:ext cx="2592360" cy="174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bb29ac710271904ed939a848a3befaf7"/>
          <p:cNvPicPr/>
          <p:nvPr/>
        </p:nvPicPr>
        <p:blipFill>
          <a:blip r:embed="rId2"/>
          <a:stretch/>
        </p:blipFill>
        <p:spPr>
          <a:xfrm>
            <a:off x="7236000" y="2060640"/>
            <a:ext cx="17269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4521240" cy="1432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Цепочка создания ценности</a:t>
            </a:r>
            <a:br>
              <a:rPr sz="3200"/>
            </a:br>
            <a:r>
              <a:rPr b="0" i="1" lang="ru-RU" sz="3200" spc="-1" strike="noStrike">
                <a:solidFill>
                  <a:srgbClr val="006666"/>
                </a:solidFill>
                <a:latin typeface="Arial"/>
              </a:rPr>
              <a:t>по М.Портеру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05440" cy="1868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 классификации значимости заинтересованных сторон </a:t>
            </a:r>
            <a:r>
              <a:rPr b="0" i="1" lang="ru-RU" sz="1600" spc="-1" strike="noStrike">
                <a:solidFill>
                  <a:srgbClr val="006666"/>
                </a:solidFill>
                <a:latin typeface="Arial"/>
              </a:rPr>
              <a:t>по А.Митчелу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25715" t="28572" r="25715" b="14284"/>
          <a:stretch/>
        </p:blipFill>
        <p:spPr>
          <a:xfrm>
            <a:off x="1403280" y="2565360"/>
            <a:ext cx="7010640" cy="3848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4897440" cy="1575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рта заинтересованных сторо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67" r="0" b="0"/>
          <a:stretch/>
        </p:blipFill>
        <p:spPr>
          <a:xfrm>
            <a:off x="914400" y="228600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5457960" cy="1500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ержневые компетенции отличаются от компетенц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637000"/>
            <a:ext cx="8001000" cy="3527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сущи только тем компаниям, показатели которых превосходят  средний уровень, характерный для данной отрасл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уникальностью и свойственны только одной компан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тличаются сложность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е поддаются копированию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вязаны с удовлетворением запросов заказчика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пособствуют повышению ценности продукта чаще, компетен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являются в результате особых взаимоотношений с дистрибьюторами и поставщикам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зируются на превосходных умениях и знаниях сотрудников компан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560232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и движущих силы новой эконом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565000"/>
            <a:ext cx="8001000" cy="410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Знания – интеллектуальный капитал  стал стратегическим фактором; набор понятий, используемых людьми для принятия решения, критичны для компании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Перемены – непрерывные, быстрые и сложные  перемены создают неопределенность и сокращают предсказуемость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Глобализация – в научно-технических разработках, технологиях, производстве, торговле, финансах, коммуникациях и информации, которая привела к раскрытию экономик, глобальной гиперконкуренции и взаимозависимости бизнесов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4681440" cy="1368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Далай Лама о современном мир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361960"/>
            <a:ext cx="7872480" cy="423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Наши дома всё больше, а семьи всё меньш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У нас больше удобств, но меньше времен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ученых степеней, но меньше здравого смысла..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знаний, но меньше способности к трезвому суждени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специалистов, но еще больше пробл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Больше лекарств, но меньше здоровь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проделали долгий путь до луны и обратно, но нам сложно перейти улицу, чтоб встретиться с новым сосед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создали множество компьютеров для хранения и копирования огромных объёмов информации, но стали меньше общаться друг с друго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Мы выиграли в количестве, но проиграли в качестве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 быстрого питания, но медленного усвое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Людей высокого роста, но низкой нравствен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Высоких доходов, но мелочных отнош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Это время, когда так много за окном, но ничего в комнат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3024000" cy="63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истема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424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стема – это набор взаимосвязанных и взаимозависимых частей, составленных в таком порядке, который позволяет воспроизвести цело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никальной характеристикой при рассмотрении систем являются внутренние отношения част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ая-система характеризуется дифференциацией и  интеграцией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Каждый элемент системы выполняет свои определенные функци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ля того чтобы поддерживать отдельные части в одном организме и формировать завершенное целое, в каждой системе осуществляется интеграция через: координацию уровней иерархии управления, прямое наблюдение, правила, процедуры, курс дей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7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980640"/>
            <a:ext cx="3888000" cy="792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рганиз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565360"/>
            <a:ext cx="8001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рганизация — это сознательное объединение людей, деятельность которых планомерно координируется для достижения общей для всех цели или системы цел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404640"/>
            <a:ext cx="5962680" cy="15004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бязательные условия существования орган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2781360"/>
            <a:ext cx="8001000" cy="3733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двух или более людей, которые считают себя группо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одного или нескольких ориентиров, к которым стремятся все члены групп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аличие членов группы, которые мобилизуют, координируют, направляют деятельность других, чтобы достичь единой для всех ц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55164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640" y="691920"/>
            <a:ext cx="410544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арактеристики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01000" cy="251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целевое назначе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вовой стату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истема внутреннего взаимодействия и система взаимоотношений с внешней сред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6" descr="10_%D0%9F%D1%80%D0%BE%D0%B9%D1%82%D0%B8%20%D1%81%D0%BE%D0%B1%D0%B5%D1%81%D0%B5%D0%B4%D0%BE%D0%B2%D0%B0%D0%BD%D0%B8%D0%B5"/>
          <p:cNvPicPr/>
          <p:nvPr/>
        </p:nvPicPr>
        <p:blipFill>
          <a:blip r:embed="rId1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industrializirovannaya%20filosofiya%20upravleniya%20kadrami"/>
          <p:cNvPicPr/>
          <p:nvPr/>
        </p:nvPicPr>
        <p:blipFill>
          <a:blip r:embed="rId2"/>
          <a:stretch/>
        </p:blipFill>
        <p:spPr>
          <a:xfrm>
            <a:off x="1258920" y="4941720"/>
            <a:ext cx="69850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509760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еш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4967280" cy="1143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нутренняя среда орган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8001000" cy="42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0_%D0%9F%D1%80%D0%BE%D0%B9%D1%82%D0%B8%20%D1%81%D0%BE%D0%B1%D0%B5%D1%81%D0%B5%D0%B4%D0%BE%D0%B2%D0%B0%D0%BD%D0%B8%D0%B5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3T12:03:25Z</dcterms:created>
  <dc:creator>Администратор</dc:creator>
  <dc:description/>
  <dc:language>en-US</dc:language>
  <cp:lastModifiedBy>Людмила</cp:lastModifiedBy>
  <dcterms:modified xsi:type="dcterms:W3CDTF">2017-08-21T07:34:11Z</dcterms:modified>
  <cp:revision>12</cp:revision>
  <dc:subject/>
  <dc:title>Основы управления персоналом</dc:title>
</cp:coreProperties>
</file>