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DA971-0477-4BB3-8F06-825DAFEAED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hyperlink" Target="http://www.cecsi.ru/intro/vision_corporate_intro.html" TargetMode="External"/><Relationship Id="rId2" Type="http://schemas.openxmlformats.org/officeDocument/2006/relationships/hyperlink" Target="http://www.cecsi.ru/coach/employee_inspiring.html" TargetMode="External"/><Relationship Id="rId3" Type="http://schemas.openxmlformats.org/officeDocument/2006/relationships/hyperlink" Target="http://www.cecsi.ru/coach/leadership_attributes.html" TargetMode="External"/><Relationship Id="rId4" Type="http://schemas.openxmlformats.org/officeDocument/2006/relationships/hyperlink" Target="http://www.cecsi.ru/coach/change_management.html" TargetMode="External"/><Relationship Id="rId5" Type="http://schemas.openxmlformats.org/officeDocument/2006/relationships/hyperlink" Target="http://www.cecsi.ru/intro/executive_smart_brief.html" TargetMode="External"/><Relationship Id="rId6" Type="http://schemas.openxmlformats.org/officeDocument/2006/relationships/hyperlink" Target="http://www.cecsi.ru/coach/leadership_entrepreneurial.html" TargetMode="External"/><Relationship Id="rId7" Type="http://schemas.openxmlformats.org/officeDocument/2006/relationships/hyperlink" Target="http://www.cecsi.ru/coach/management_by_leadership.html" TargetMode="External"/><Relationship Id="rId8" Type="http://schemas.openxmlformats.org/officeDocument/2006/relationships/hyperlink" Target="http://www.cecsi.ru/coach/management.html" TargetMode="External"/><Relationship Id="rId9" Type="http://schemas.openxmlformats.org/officeDocument/2006/relationships/hyperlink" Target="http://www.cecsi.ru/coach/mgmt_25lessons_welch_leader.html" TargetMode="External"/><Relationship Id="rId10" Type="http://schemas.openxmlformats.org/officeDocument/2006/relationships/hyperlink" Target="http://www.cecsi.ru/coach/leadership_assessment_ge.html" TargetMode="External"/><Relationship Id="rId11" Type="http://schemas.openxmlformats.org/officeDocument/2006/relationships/hyperlink" Target="http://www.cecsi.ru/products/ten3_books_25welch.html" TargetMode="External"/><Relationship Id="rId12" Type="http://schemas.openxmlformats.org/officeDocument/2006/relationships/hyperlink" Target="http://www.cecsi.ru/coach/culture_corporate.html" TargetMode="External"/><Relationship Id="rId13" Type="http://schemas.openxmlformats.org/officeDocument/2006/relationships/hyperlink" Target="http://www.cecsi.ru/intro/culture_corporate_inspiring_intro.html" TargetMode="External"/><Relationship Id="rId14" Type="http://schemas.openxmlformats.org/officeDocument/2006/relationships/hyperlink" Target="http://www.cecsi.ru/coach/values_shared.html" TargetMode="External"/><Relationship Id="rId15" Type="http://schemas.openxmlformats.org/officeDocument/2006/relationships/hyperlink" Target="http://www.cecsi.ru/coach/fun_factor.html" TargetMode="External"/><Relationship Id="rId16" Type="http://schemas.openxmlformats.org/officeDocument/2006/relationships/hyperlink" Target="http://www.cecsi.ru/coach/failure_freedom.html" TargetMode="External"/><Relationship Id="rId17" Type="http://schemas.openxmlformats.org/officeDocument/2006/relationships/hyperlink" Target="http://www.cecsi.ru/coach/organization_flat.html" TargetMode="External"/><Relationship Id="rId18" Type="http://schemas.openxmlformats.org/officeDocument/2006/relationships/hyperlink" Target="http://www.cecsi.ru/coach/fast_company_fast_decisions.html" TargetMode="External"/><Relationship Id="rId19" Type="http://schemas.openxmlformats.org/officeDocument/2006/relationships/hyperlink" Target="http://www.cecsi.ru/coach/creativity.html" TargetMode="External"/><Relationship Id="rId20" Type="http://schemas.openxmlformats.org/officeDocument/2006/relationships/hyperlink" Target="http://www.cecsi.ru/coach/motivation.html" TargetMode="External"/><Relationship Id="rId21" Type="http://schemas.openxmlformats.org/officeDocument/2006/relationships/hyperlink" Target="http://www.cecsi.ru/coach/employee_energizing.html" TargetMode="External"/><Relationship Id="rId22" Type="http://schemas.openxmlformats.org/officeDocument/2006/relationships/hyperlink" Target="http://www.cecsi.ru/intro/executive_smart_brief.html" TargetMode="External"/><Relationship Id="rId23" Type="http://schemas.openxmlformats.org/officeDocument/2006/relationships/hyperlink" Target="http://www.cecsi.ru/coach/entrepreneurial_creativity.html" TargetMode="External"/><Relationship Id="rId24" Type="http://schemas.openxmlformats.org/officeDocument/2006/relationships/hyperlink" Target="http://www.cecsi.ru/coach/process_mgmt.html" TargetMode="External"/><Relationship Id="rId25" Type="http://schemas.openxmlformats.org/officeDocument/2006/relationships/hyperlink" Target="http://www.cecsi.ru/coach/mgmt_crossfunctional.html" TargetMode="External"/><Relationship Id="rId26" Type="http://schemas.openxmlformats.org/officeDocument/2006/relationships/hyperlink" Target="http://www.cecsi.ru/coach/mgmt_crossfunctional.html" TargetMode="External"/><Relationship Id="rId27" Type="http://schemas.openxmlformats.org/officeDocument/2006/relationships/hyperlink" Target="http://www.cecsi.ru/coach/team_cf.html" TargetMode="External"/><Relationship Id="rId28" Type="http://schemas.openxmlformats.org/officeDocument/2006/relationships/hyperlink" Target="http://www.cecsi.ru/coach/team_cf.html" TargetMode="External"/><Relationship Id="rId29" Type="http://schemas.openxmlformats.org/officeDocument/2006/relationships/hyperlink" Target="http://www.cecsi.ru/coach/team.html" TargetMode="External"/><Relationship Id="rId30" Type="http://schemas.openxmlformats.org/officeDocument/2006/relationships/hyperlink" Target="http://www.cecsi.ru/coach/culture_corporate.html" TargetMode="External"/><Relationship Id="rId31" Type="http://schemas.openxmlformats.org/officeDocument/2006/relationships/slide" Target="../slides/slide36.xml"/><Relationship Id="rId3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831A4-2438-4132-B597-196AAD10B7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42C31-9615-4394-AE7D-86A97B7D4E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B6385-3AEA-4FA3-88AE-F16B285518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D9DB4-773C-4319-88E3-CEC3C224B4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BDA96-19C4-4AEB-B6C2-589DA2B22E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8E50F-985C-40E4-8FD7-880E756F6A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FE9D0-2386-430D-BF91-983ECCC7CE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FAB3E-852A-47D4-9660-C65D583ED7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Нет четкого видения будущего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корпоративные</a:t>
            </a:r>
            <a:r>
              <a:rPr b="0" lang="en-NZ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виде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и миссия не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вдохновляют сотрудников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; деятельность людей стратегически не нацелена; люди не знают, в каком направлении движется организация, и чего она хочет достичь в будущем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Недостаток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лидерских качеств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и навыков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люди боятся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перемен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топ-менеджерам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не хватаем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духа предпринимательства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лидерский стиль менеджеров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или слишком директивный, или слишком анархичный;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менеджеры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являются не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лидерами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а либо просто администраторами, либо увлекаются микроменеджментом; слабая программа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развития лидеров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в компании.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Корпоративная культура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не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вдохновляет людей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общие ценности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отсутствуют; недостаток доверия между людьми; непрерывные поиски виновных; люди концентрируются на проблемах, а не на возможностях; люди не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получают удовольствия от работы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; разнообразие мнение не поощряется; нетерпимость к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неудачам – двигателям инноваций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; люди теряют доверие к лидерам и системам управления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Большая бюрократия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бюрократические организационные структуры с большим числом уровней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а не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плоские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 высокие барьеры между менеджерскими уровнями и департаментами; решения принимаются медленно, а не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быстро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  чрезмерный надзор за работой подчиненных; слишком много инструментов и документов, отбивающих у людей охоту мыслить и действовать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творчески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  и руководство, и сотрудники терпят бюрократию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Недостаток инициативы как сверху, так и снизу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люди слабо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мотивированы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заряжены энергией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 люди не чувствуют, что своей работой делают положительный вклад;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топ-менеджерам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не удается эффективно вдохновить всех сотрудников на великие свершения: люди  работают не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творчески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, а оборонительно – они исполняют свои обязанности и ничего более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Слабая система оповещения сотрудников о стратегических намерениях организации: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у людей нет представления об общей картине развития бизнеса и организации, и поэтому они не понимают, какой вклад в это делает их работа; они не могут понять истиной значимости себя и своей работы для организации; неопределенность слишком велика; сотрудники не знают, о чем думает топ-менеджмент и какие планы они строят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Слабое кросс-функциональное сотрудничество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сотрудники нацелены на выполнение задач лишь своего отдела, а не организации в целом; кросс-фнкциональные цели либо отсутствуют, либо не являются достаточно значимыми; слабый дух кросс-функционального сотрудничества; отсутствие </a:t>
            </a:r>
            <a:r>
              <a:rPr b="1" lang="ru-RU" sz="8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системного подхода к управлению бизнес-процессами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 слабый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кросс-функциональное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 управление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кросс-функцинальные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 команды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либо отсутствуют, либо слабы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Слабая командная работа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многие не понимают различия между группой людей и </a:t>
            </a:r>
            <a:r>
              <a:rPr b="1" lang="ru-RU" sz="8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командой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 организация не привержена созданию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корпоративной культуры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, нацеленной на командную работу; отсутствуют общие ценности и цели, способные вдохновить людей; слабые лидеры команд; к членам команд, которые не хотят работать в команде, относятся терпимо; в командах слишком много людей; отсутствие вознаграждений за успешную командную работу и командные достижения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Слабое управление знаниями и идеями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перекрестное опыление идей между сотрудниками никак не облегчено; стратегии и системы управления знаниями и идеями либо отсутствуют, либо слабы; организация поражена синдромами "да мы все это знаем"  и "хорошо только то, что придумано нами"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СМАРТ бизнес-лиде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mart &amp; Fast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Тен3 тренинг для современных топ-менеджеров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  &gt;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Как не допустить вирус инноваций в твою организацию: 10 принципов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Возведи «Великую китайскую стену» между департаментами. Каждый департамент – информация, технологии, производство, финансы, маркетинг – должен заниматься решением своих узких задач и не пытаться создавать что-то новое совместно с другими департаментами. Это только отвлекает людей от дела. Поэтому ставь перед департаментами лишь функциональные цели, а не общекорпоративные, и не создавай кросс-функцинальных команд...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gt;&gt;&gt;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8F6D-A22F-4416-89F4-A39043DCB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B754-47F9-4708-8264-C7F763B5E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9917-F069-4CCF-83BD-DFBAB5E16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0F9B-BBB8-426C-AF32-BB3D9F0B9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84BDB-9DEE-43CF-8E60-2BEC116E2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71580-A1AD-4D86-90A9-8659CC4DA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554C5-54D4-4603-A877-08966AC06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D85E8-6E61-4CCF-9C79-F20F242FB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628BC-D9F5-4607-88B6-838F22E6C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66CD5-99A8-4608-87E2-BDD570808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7DF0E-8C0F-4444-84F8-5C93A820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5153-B6AA-4280-8516-998EB2B5C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AE554-B075-45B9-A96F-179370B8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50EFA-194D-4559-B47F-137CC8AF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6478A-A13F-4437-ADDE-782D7A071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76F40-5B18-4E88-BDAA-5E25B6F06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D0B2D-DD6B-4AEA-B866-1C6D63D00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35F7-68B3-4691-84A4-5BAED0EE8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7B1A-F299-4BA2-8EE2-0AE6BBEA9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80A1-4B4D-4F19-A8A1-F0BF93FB6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4DC7-2487-4D5F-B444-B1EC07A3E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4710-5F47-404A-9336-F42A96E7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9286-7D97-440F-8F50-4216AFBB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5985-25E8-468C-950F-49FCD57C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D4F8F-8795-4238-8EA2-7491DFD402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8BAD0-FE10-4EE4-8D1A-ECDBA88ACC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оздание организационных структур управлени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940000" y="1699920"/>
            <a:ext cx="25909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Занятие 2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11280" y="2509920"/>
            <a:ext cx="648180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471492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Линейно - штабная структура управления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" name="Picture 5" descr="iso9000-14"/>
          <p:cNvPicPr/>
          <p:nvPr/>
        </p:nvPicPr>
        <p:blipFill>
          <a:blip r:embed="rId1"/>
          <a:stretch/>
        </p:blipFill>
        <p:spPr>
          <a:xfrm>
            <a:off x="755640" y="2060640"/>
            <a:ext cx="7570800" cy="3846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5865840" cy="1647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Характеристики линейно – штабной организационной структуры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0920" y="2421000"/>
            <a:ext cx="731340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Достоинства линейно - штабной структур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более глубокая, чем в линейной, проработка стратегических вопросов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некоторая разгрузка высших руководителей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возможность привлечения внешних консультантов и экспертов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при наделении штабных подразделений правами функционального руководства такая структура - хороший первый шаг к более эффективным органическим структурам управления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Недостатки линейно - штабной структур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недостаточно четкое распределение ответственности, т. к. лица, готовящие решение, не участвуют в его выполнении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тенденции к чрезмерной централизации управления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аналогичные линейной структуре, частично - в ослабленном виде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372360" y="33336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52182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Дивизионная структура управления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2" name="Picture 5" descr="iso9000-15"/>
          <p:cNvPicPr/>
          <p:nvPr/>
        </p:nvPicPr>
        <p:blipFill>
          <a:blip r:embed="rId1"/>
          <a:stretch/>
        </p:blipFill>
        <p:spPr>
          <a:xfrm>
            <a:off x="1187280" y="1628640"/>
            <a:ext cx="5616720" cy="4969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7942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Характеристики дивизионной структур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8064360" cy="496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Преимущества дивизионной структур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она обеспечивает управление многопрофильными предприятиями с общей численностью сотрудников порядка сотен тысяч и территориально удаленными подразделениями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обеспечивает большую гибкость и более быструю реакцию на изменения в окружении предприятия по сравнению с линейной и линейно - штабной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при расширении границ самостоятельности отделений они становятся "центрами получения прибыли", активно работая по повышении эффективности и качества производства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более тесная связь производства с потребителями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Недостатки дивизионной структур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большое количество "этажей" управленческой вертикали; между рабочими и управляющим производством подразделения - 3 и более уровня управления, между рабочими и руководством компании - 5 и более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разобщенность штабных структур отделений от штабов компании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основные связи - вертикальные, поэтому остаются общие для иерархических структур недостатки - волокита, перегруженность управленцев, плохое взаимодействие при решении вопросов, смежных для подразделений и т. д. 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дублирование функций на разных "этажах" и как следствие - очень высокие затраты на содержание управленческой структуры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в отделениях, как правило, сохраняется линейная или линейно - штабная структура со всеми их недостатками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471456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Органический тип структур управления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4000" y="1988640"/>
            <a:ext cx="7313400" cy="217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Проектная структура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Матричная (программно-целевая) структур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Бригадная форм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900000" y="4437000"/>
            <a:ext cx="698508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262548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Проектная структур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2" name="Picture 5" descr="iso9000-16"/>
          <p:cNvPicPr/>
          <p:nvPr/>
        </p:nvPicPr>
        <p:blipFill>
          <a:blip r:embed="rId1"/>
          <a:stretch/>
        </p:blipFill>
        <p:spPr>
          <a:xfrm>
            <a:off x="971640" y="2133720"/>
            <a:ext cx="7200720" cy="43495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572292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Характеристики проектной структур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6000" y="2133720"/>
            <a:ext cx="731376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Преимущества структуры управления по проектам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высокая гибкость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сокращение численности управленческого персонала по сравнению с иерархическими структурами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Недостатки структуры управления по проектам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очень высокие требования квалификации, личным и деловым качествам руководителя проекта, который должен не только управлять всеми стадиями жизненного цикла проекта, но и учитывать место проекта в сети проектов компании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дробление ресурсов между проектами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сложность взаимодействия большого числа проектов в компании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усложнение процесса развития организации как единого целого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633708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Матричная структура управления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на фирме "Тойота"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8" name="Picture 5" descr="iso9000-18"/>
          <p:cNvPicPr/>
          <p:nvPr/>
        </p:nvPicPr>
        <p:blipFill>
          <a:blip r:embed="rId1"/>
          <a:stretch/>
        </p:blipFill>
        <p:spPr>
          <a:xfrm>
            <a:off x="250920" y="1700280"/>
            <a:ext cx="7488000" cy="48956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55164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586584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Характеристики матричной структур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964720" cy="5300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Преимущества матричной структуры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лучшая ориентация на проектные (или программные) цели и спрос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более эффективное текущее управление, возможность снижения расходов и повышения эффективности использования ресурсов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более гибкое и эффективное использование персонала организации, специальных знаний и компетентности сотрудников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относительная автономность проектных групп или программных комитетов способствует развитию у работников навыков принятия решений, управленческой культуры, профессиональных навыков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улучшение контроля за отдельными задачами проекта или целевой программы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любая работа организационно оформляется, назначается одно лицо - "хозяин" процесса, служащее центром сосредоточения всех вопросов, касающихся проекта или целевой программы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сокращается время реакции на нужды проекта или программы, т. к. созданы горизонтальные коммуникации и единый центр принятия решений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Недостатки матричных структур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трудность установления четкой ответственности за работу по заданию подразделения и по заданию проекта или программы (следствие двойного подчинения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необходимость постоянного контроля за соотношением ресурсов, выделяемых подразделениям и программам или проектам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высокие требования к квалификации, личным и деловым качествам работников, работающих в группах, необходимость их обучения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частые конфликтные ситуации между руководителями подразделений и проектов или программ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возможность нарушения правил и стандартов, принятых в функциональных подразделениях, из-за оторванности сотрудников, участвующих в проекте или программе, от своих подразделений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6192720" cy="139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Структура организации, состоящей из рабочих групп (бригадная)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4" name="Picture 5" descr="iso9000-17"/>
          <p:cNvPicPr/>
          <p:nvPr/>
        </p:nvPicPr>
        <p:blipFill>
          <a:blip r:embed="rId1"/>
          <a:stretch/>
        </p:blipFill>
        <p:spPr>
          <a:xfrm>
            <a:off x="971640" y="1989000"/>
            <a:ext cx="7488000" cy="3789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655164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02480" y="262440"/>
            <a:ext cx="6167160" cy="58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Создание организационных структур управле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 Организационное проектирование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1. Цели организационного проектирова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 Элементы структуры управле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1. Организационная структу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2. Иерархический тип структур управле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3. Линейная организационная структу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4. Линейно - штабная структура управле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5. Дивизионная структура управле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6. Органический тип структур управле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7. Проектная структу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8. Матричная структура управле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9. Структура организации, состоящей из рабочих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рупп (бригадная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10. Сетевая организационная структу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  Подходы к организационному проектированию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1. Классический подход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2. Ситуационный подхо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3. Процессный подхо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. Проектирование рабочего мес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. Критерии  оценки должнос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372360" y="836640"/>
            <a:ext cx="2592360" cy="17413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093080" y="2708280"/>
            <a:ext cx="17269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5761080" cy="1728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Характеристики бригадной (кросс-функциональной) структуры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9640" y="2637000"/>
            <a:ext cx="7777440" cy="3743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Преимущества бригадной (кросс-функциональной) структуры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сокращение управленческого аппарата, повышение эффективности управления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гибкое использование кадров, их знаний и компетентности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работа в группах создает условия для самосовершенствования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возможность применения эффективных методов планирования и управления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сокращается потребность в специалистах широкого профиля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Недостатки бригадной (кросс-функциональной) структуры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усложнение взаимодействия (в особенности для кросс-функциональной структуры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сложность в координации работ отдельных бригад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высокая квалификация и ответственность персонала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высокие требования к коммуникациям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551640" y="33336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6262920" cy="9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етевая организационная структур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60" name="Object 3"/>
          <p:cNvGraphicFramePr/>
          <p:nvPr/>
        </p:nvGraphicFramePr>
        <p:xfrm>
          <a:off x="826920" y="1125360"/>
          <a:ext cx="6120000" cy="316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125360"/>
                    <a:ext cx="6120000" cy="31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9280" y="4292640"/>
            <a:ext cx="8569440" cy="22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Зачатки: в структурах холдингового типа, в ассоциациях делового сотрудничества и т.п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Особенно перспективны в открытых социально-экономических системах, ориентированных на сотрудничеств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Суть: отношения прямого сотрудничества непосредственных исполнителей впервые вытесняют иерархически бюрократические отноше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Менеджмент – уже не надстройка над производственной и рыночной, маркетинговой базой, выполняющая контрольно-распорядительными функциями, а напротив, поддержка этой базы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6300720" y="105264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920" y="3212640"/>
            <a:ext cx="4752720" cy="1575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Подходы к организационному проектированию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859280" y="5013360"/>
            <a:ext cx="3240000" cy="1440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лассическ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итуационны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роцессный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468360" y="333360"/>
            <a:ext cx="8497800" cy="2014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ункции менеджера становятся более сравнимы с функциями тренера: подбор игроков, их обучение и постоянная тренировка, формирование команды, организация совместной работы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то – играющий тренер. Его контрольно-распорядительные функции сочетаются с талантом специалиста, создающего определенную конкретную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оимость,  способного  к наращиванию “человеческого капитала”, а такж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бственно “командного капитала”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372360" y="299736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5434200" cy="8240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Классический подход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9" name="Picture 5" descr="Цепочка создания ценности"/>
          <p:cNvPicPr/>
          <p:nvPr/>
        </p:nvPicPr>
        <p:blipFill>
          <a:blip r:embed="rId1"/>
          <a:stretch/>
        </p:blipFill>
        <p:spPr>
          <a:xfrm>
            <a:off x="900000" y="1773360"/>
            <a:ext cx="6305760" cy="4800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55280" y="549360"/>
            <a:ext cx="5722920" cy="752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итуационный подход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55640" y="2205000"/>
            <a:ext cx="731376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Понимание процесса управления, группового и индивидуального поведения, задач и содержания системного анализа, методов планирования и контроля, включая количественные методы принятия решений. Понимание должно быть сформировано в процессе ознакомления (обучения) со средствами профессионального управления, которые показали свою эффективность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Умение предвидеть вероятные последствия (положительные и отрицательные) при использовании конкретной методики или концепции в конкретной ситуации, базирующееся на четкой оценке сильных и слабых сторон известных и применяемых управленческих концепций и методик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Правильная интерпретация и анализ конкретной ситуации, направленные на определение наиболее важных в данной ситуации факторов и оценку вероятного эффекта, который может повлечь за собой изменение одной или нескольких ситуационных переменных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Умение увязать конкретные приемы (концепции, методы) принятия решения, которые вызвали бы наименьшие отрицательные последствия, с рассматриваемой ситуацией для достижения целей самым эффективным (рациональным) путем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2262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Arial"/>
              </a:rPr>
              <a:t>Европейская модель оценки совершенства EFQM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5" name="Picture 5" descr=" Европейская модель оценки совершенства EFQM"/>
          <p:cNvPicPr/>
          <p:nvPr/>
        </p:nvPicPr>
        <p:blipFill>
          <a:blip r:embed="rId1"/>
          <a:stretch/>
        </p:blipFill>
        <p:spPr>
          <a:xfrm>
            <a:off x="971640" y="1989000"/>
            <a:ext cx="7596000" cy="41846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826920" y="2349000"/>
            <a:ext cx="7313760" cy="1008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Процессный подход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68360" y="3860640"/>
            <a:ext cx="8351640" cy="26640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6300720" y="26028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684360" y="333360"/>
            <a:ext cx="6264000" cy="990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Шаг 1. Определить внешних клиентов организации и входы/выходы дл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рганизации в целом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1362240" y="2752560"/>
            <a:ext cx="6284520" cy="3521160"/>
            <a:chOff x="1362240" y="2752560"/>
            <a:chExt cx="6284520" cy="3521160"/>
          </a:xfrm>
        </p:grpSpPr>
        <p:sp>
          <p:nvSpPr>
            <p:cNvPr id="182" name="Rectangle 4"/>
            <p:cNvSpPr/>
            <p:nvPr/>
          </p:nvSpPr>
          <p:spPr>
            <a:xfrm>
              <a:off x="2793960" y="3645000"/>
              <a:ext cx="3457440" cy="1800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Организация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Text Box 5"/>
            <p:cNvSpPr/>
            <p:nvPr/>
          </p:nvSpPr>
          <p:spPr>
            <a:xfrm>
              <a:off x="3060720" y="2781360"/>
              <a:ext cx="267768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Внешнее окружение организации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4" name="Oval 6"/>
            <p:cNvSpPr/>
            <p:nvPr/>
          </p:nvSpPr>
          <p:spPr>
            <a:xfrm>
              <a:off x="7078320" y="2968560"/>
              <a:ext cx="193320" cy="490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Oval 7"/>
            <p:cNvSpPr/>
            <p:nvPr/>
          </p:nvSpPr>
          <p:spPr>
            <a:xfrm>
              <a:off x="7279200" y="5056200"/>
              <a:ext cx="193320" cy="490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6" name="Oval 8"/>
            <p:cNvSpPr/>
            <p:nvPr/>
          </p:nvSpPr>
          <p:spPr>
            <a:xfrm>
              <a:off x="7211520" y="3976560"/>
              <a:ext cx="193320" cy="490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" name="Oval 9"/>
            <p:cNvSpPr/>
            <p:nvPr/>
          </p:nvSpPr>
          <p:spPr>
            <a:xfrm>
              <a:off x="1362240" y="5056200"/>
              <a:ext cx="193320" cy="490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Oval 10"/>
            <p:cNvSpPr/>
            <p:nvPr/>
          </p:nvSpPr>
          <p:spPr>
            <a:xfrm>
              <a:off x="1428120" y="3905280"/>
              <a:ext cx="193320" cy="490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" name="Oval 11"/>
            <p:cNvSpPr/>
            <p:nvPr/>
          </p:nvSpPr>
          <p:spPr>
            <a:xfrm>
              <a:off x="1561320" y="2752560"/>
              <a:ext cx="193320" cy="490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Text Box 12"/>
            <p:cNvSpPr/>
            <p:nvPr/>
          </p:nvSpPr>
          <p:spPr>
            <a:xfrm>
              <a:off x="1398600" y="5877000"/>
              <a:ext cx="2658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Внешние входы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1" name="Text Box 13"/>
            <p:cNvSpPr/>
            <p:nvPr/>
          </p:nvSpPr>
          <p:spPr>
            <a:xfrm>
              <a:off x="4988160" y="5877000"/>
              <a:ext cx="26586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Внешние выходы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" name="Line 14"/>
            <p:cNvSpPr/>
            <p:nvPr/>
          </p:nvSpPr>
          <p:spPr>
            <a:xfrm>
              <a:off x="1929600" y="3141720"/>
              <a:ext cx="864360" cy="718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" name="Line 15"/>
            <p:cNvSpPr/>
            <p:nvPr/>
          </p:nvSpPr>
          <p:spPr>
            <a:xfrm>
              <a:off x="1797480" y="4149720"/>
              <a:ext cx="9961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" name="Line 16"/>
            <p:cNvSpPr/>
            <p:nvPr/>
          </p:nvSpPr>
          <p:spPr>
            <a:xfrm>
              <a:off x="1731240" y="5300640"/>
              <a:ext cx="1062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Line 17"/>
            <p:cNvSpPr/>
            <p:nvPr/>
          </p:nvSpPr>
          <p:spPr>
            <a:xfrm flipV="1">
              <a:off x="6251760" y="3357360"/>
              <a:ext cx="797040" cy="431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Line 18"/>
            <p:cNvSpPr/>
            <p:nvPr/>
          </p:nvSpPr>
          <p:spPr>
            <a:xfrm>
              <a:off x="6251760" y="4221000"/>
              <a:ext cx="930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" name="Line 19"/>
            <p:cNvSpPr/>
            <p:nvPr/>
          </p:nvSpPr>
          <p:spPr>
            <a:xfrm>
              <a:off x="6251760" y="5300640"/>
              <a:ext cx="9964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" name="Line 20"/>
            <p:cNvSpPr/>
            <p:nvPr/>
          </p:nvSpPr>
          <p:spPr>
            <a:xfrm flipH="1" flipV="1">
              <a:off x="2195640" y="5373360"/>
              <a:ext cx="26676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" name="Line 21"/>
            <p:cNvSpPr/>
            <p:nvPr/>
          </p:nvSpPr>
          <p:spPr>
            <a:xfrm flipV="1">
              <a:off x="6384960" y="5373360"/>
              <a:ext cx="19908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" name="Line 22"/>
            <p:cNvSpPr/>
            <p:nvPr/>
          </p:nvSpPr>
          <p:spPr>
            <a:xfrm>
              <a:off x="5586120" y="3213000"/>
              <a:ext cx="139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" name="Line 23"/>
            <p:cNvSpPr/>
            <p:nvPr/>
          </p:nvSpPr>
          <p:spPr>
            <a:xfrm flipH="1">
              <a:off x="1996560" y="2997360"/>
              <a:ext cx="1195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6551640" y="26028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395280" y="333360"/>
            <a:ext cx="6254640" cy="990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Шаг 2. Составить перечень основных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изнес-процессов организации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формирующих внешние выход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3"/>
          <p:cNvGrpSpPr/>
          <p:nvPr/>
        </p:nvGrpSpPr>
        <p:grpSpPr>
          <a:xfrm>
            <a:off x="1247760" y="2349360"/>
            <a:ext cx="7111800" cy="4032360"/>
            <a:chOff x="1247760" y="2349360"/>
            <a:chExt cx="7111800" cy="4032360"/>
          </a:xfrm>
        </p:grpSpPr>
        <p:sp>
          <p:nvSpPr>
            <p:cNvPr id="205" name="Rectangle 4"/>
            <p:cNvSpPr/>
            <p:nvPr/>
          </p:nvSpPr>
          <p:spPr>
            <a:xfrm>
              <a:off x="2244240" y="2852640"/>
              <a:ext cx="5118840" cy="3529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AutoShape 5"/>
            <p:cNvSpPr/>
            <p:nvPr/>
          </p:nvSpPr>
          <p:spPr>
            <a:xfrm>
              <a:off x="3043080" y="4437000"/>
              <a:ext cx="3921480" cy="576360"/>
            </a:xfrm>
            <a:custGeom>
              <a:avLst/>
              <a:gdLst>
                <a:gd name="textAreaLeft" fmla="*/ 0 w 3921480"/>
                <a:gd name="textAreaRight" fmla="*/ 3921840 w 392148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AutoShape 6"/>
            <p:cNvSpPr/>
            <p:nvPr/>
          </p:nvSpPr>
          <p:spPr>
            <a:xfrm>
              <a:off x="3043080" y="3500280"/>
              <a:ext cx="3921480" cy="565200"/>
            </a:xfrm>
            <a:custGeom>
              <a:avLst/>
              <a:gdLst>
                <a:gd name="textAreaLeft" fmla="*/ 0 w 3921480"/>
                <a:gd name="textAreaRight" fmla="*/ 3921840 w 3921480"/>
                <a:gd name="textAreaTop" fmla="*/ 0 h 565200"/>
                <a:gd name="textAreaBottom" fmla="*/ 565560 h 56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Бизнес-процесс 1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AutoShape 7"/>
            <p:cNvSpPr/>
            <p:nvPr/>
          </p:nvSpPr>
          <p:spPr>
            <a:xfrm>
              <a:off x="3043080" y="5373720"/>
              <a:ext cx="3921480" cy="576360"/>
            </a:xfrm>
            <a:custGeom>
              <a:avLst/>
              <a:gdLst>
                <a:gd name="textAreaLeft" fmla="*/ 0 w 3921480"/>
                <a:gd name="textAreaRight" fmla="*/ 3921840 w 392148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Бизнес-процесс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AutoShape 8"/>
            <p:cNvSpPr/>
            <p:nvPr/>
          </p:nvSpPr>
          <p:spPr>
            <a:xfrm>
              <a:off x="1247760" y="3573360"/>
              <a:ext cx="930240" cy="360360"/>
            </a:xfrm>
            <a:prstGeom prst="rightArrow">
              <a:avLst>
                <a:gd name="adj1" fmla="val 50000"/>
                <a:gd name="adj2" fmla="val 64535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AutoShape 9"/>
            <p:cNvSpPr/>
            <p:nvPr/>
          </p:nvSpPr>
          <p:spPr>
            <a:xfrm>
              <a:off x="1247760" y="4508640"/>
              <a:ext cx="930240" cy="360360"/>
            </a:xfrm>
            <a:prstGeom prst="rightArrow">
              <a:avLst>
                <a:gd name="adj1" fmla="val 50000"/>
                <a:gd name="adj2" fmla="val 64535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AutoShape 10"/>
            <p:cNvSpPr/>
            <p:nvPr/>
          </p:nvSpPr>
          <p:spPr>
            <a:xfrm>
              <a:off x="1247760" y="5445000"/>
              <a:ext cx="930240" cy="360360"/>
            </a:xfrm>
            <a:prstGeom prst="rightArrow">
              <a:avLst>
                <a:gd name="adj1" fmla="val 50000"/>
                <a:gd name="adj2" fmla="val 64535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AutoShape 11"/>
            <p:cNvSpPr/>
            <p:nvPr/>
          </p:nvSpPr>
          <p:spPr>
            <a:xfrm>
              <a:off x="7429320" y="3573360"/>
              <a:ext cx="930240" cy="360360"/>
            </a:xfrm>
            <a:prstGeom prst="rightArrow">
              <a:avLst>
                <a:gd name="adj1" fmla="val 50000"/>
                <a:gd name="adj2" fmla="val 64535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AutoShape 12"/>
            <p:cNvSpPr/>
            <p:nvPr/>
          </p:nvSpPr>
          <p:spPr>
            <a:xfrm>
              <a:off x="7429320" y="4508640"/>
              <a:ext cx="930240" cy="360360"/>
            </a:xfrm>
            <a:prstGeom prst="rightArrow">
              <a:avLst>
                <a:gd name="adj1" fmla="val 50000"/>
                <a:gd name="adj2" fmla="val 64535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AutoShape 13"/>
            <p:cNvSpPr/>
            <p:nvPr/>
          </p:nvSpPr>
          <p:spPr>
            <a:xfrm>
              <a:off x="7429320" y="5445000"/>
              <a:ext cx="930240" cy="360360"/>
            </a:xfrm>
            <a:prstGeom prst="rightArrow">
              <a:avLst>
                <a:gd name="adj1" fmla="val 50000"/>
                <a:gd name="adj2" fmla="val 64535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215" name="AutoShape 14"/>
            <p:cNvCxnSpPr>
              <a:stCxn id="209" idx="0"/>
              <a:endCxn id="206" idx="0"/>
            </p:cNvCxnSpPr>
            <p:nvPr/>
          </p:nvCxnSpPr>
          <p:spPr>
            <a:xfrm>
              <a:off x="2178000" y="3754080"/>
              <a:ext cx="865440" cy="972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6" name="AutoShape 15"/>
            <p:cNvCxnSpPr>
              <a:stCxn id="210" idx="0"/>
              <a:endCxn id="207" idx="0"/>
            </p:cNvCxnSpPr>
            <p:nvPr/>
          </p:nvCxnSpPr>
          <p:spPr>
            <a:xfrm flipV="1">
              <a:off x="2178000" y="3782520"/>
              <a:ext cx="865440" cy="907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7" name="AutoShape 16"/>
            <p:cNvCxnSpPr>
              <a:stCxn id="211" idx="0"/>
              <a:endCxn id="208" idx="0"/>
            </p:cNvCxnSpPr>
            <p:nvPr/>
          </p:nvCxnSpPr>
          <p:spPr>
            <a:xfrm>
              <a:off x="2178000" y="5625720"/>
              <a:ext cx="865440" cy="3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8" name="AutoShape 17"/>
            <p:cNvCxnSpPr>
              <a:stCxn id="207" idx="1"/>
              <a:endCxn id="212" idx="0"/>
            </p:cNvCxnSpPr>
            <p:nvPr/>
          </p:nvCxnSpPr>
          <p:spPr>
            <a:xfrm flipV="1">
              <a:off x="6964560" y="3753720"/>
              <a:ext cx="465120" cy="2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9" name="AutoShape 18"/>
            <p:cNvCxnSpPr>
              <a:stCxn id="206" idx="1"/>
              <a:endCxn id="213" idx="0"/>
            </p:cNvCxnSpPr>
            <p:nvPr/>
          </p:nvCxnSpPr>
          <p:spPr>
            <a:xfrm flipV="1">
              <a:off x="6964560" y="4689000"/>
              <a:ext cx="465120" cy="37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0" name="AutoShape 19"/>
            <p:cNvCxnSpPr>
              <a:stCxn id="208" idx="1"/>
              <a:endCxn id="214" idx="0"/>
            </p:cNvCxnSpPr>
            <p:nvPr/>
          </p:nvCxnSpPr>
          <p:spPr>
            <a:xfrm flipV="1">
              <a:off x="6964560" y="5625360"/>
              <a:ext cx="465120" cy="3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1" name="Text Box 20"/>
            <p:cNvSpPr/>
            <p:nvPr/>
          </p:nvSpPr>
          <p:spPr>
            <a:xfrm>
              <a:off x="3616560" y="4508640"/>
              <a:ext cx="2279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Бизнес-процесс 2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Text Box 21"/>
            <p:cNvSpPr/>
            <p:nvPr/>
          </p:nvSpPr>
          <p:spPr>
            <a:xfrm>
              <a:off x="3707280" y="2349360"/>
              <a:ext cx="1721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Организация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Text Box 22"/>
            <p:cNvSpPr/>
            <p:nvPr/>
          </p:nvSpPr>
          <p:spPr>
            <a:xfrm>
              <a:off x="2969280" y="2997360"/>
              <a:ext cx="350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Основные бизнес-процессы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6372360" y="26028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395280" y="333360"/>
            <a:ext cx="6048360" cy="1582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Шаг 3. Определить внутренни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ходы/выходы каждого процесса и недостающие вспомогательны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изнес-процесс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6" name="Group 3"/>
          <p:cNvGrpSpPr/>
          <p:nvPr/>
        </p:nvGrpSpPr>
        <p:grpSpPr>
          <a:xfrm>
            <a:off x="1247760" y="2430360"/>
            <a:ext cx="6522840" cy="4140360"/>
            <a:chOff x="1247760" y="2430360"/>
            <a:chExt cx="6522840" cy="4140360"/>
          </a:xfrm>
        </p:grpSpPr>
        <p:grpSp>
          <p:nvGrpSpPr>
            <p:cNvPr id="227" name="Group 4"/>
            <p:cNvGrpSpPr/>
            <p:nvPr/>
          </p:nvGrpSpPr>
          <p:grpSpPr>
            <a:xfrm>
              <a:off x="1247760" y="3029040"/>
              <a:ext cx="6522840" cy="3541680"/>
              <a:chOff x="1247760" y="3029040"/>
              <a:chExt cx="6522840" cy="3541680"/>
            </a:xfrm>
          </p:grpSpPr>
          <p:sp>
            <p:nvSpPr>
              <p:cNvPr id="228" name="Rectangle 5"/>
              <p:cNvSpPr/>
              <p:nvPr/>
            </p:nvSpPr>
            <p:spPr>
              <a:xfrm>
                <a:off x="2161800" y="3029040"/>
                <a:ext cx="4695120" cy="35416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" name="AutoShape 6"/>
              <p:cNvSpPr/>
              <p:nvPr/>
            </p:nvSpPr>
            <p:spPr>
              <a:xfrm>
                <a:off x="2894400" y="3601440"/>
                <a:ext cx="3596760" cy="499680"/>
              </a:xfrm>
              <a:custGeom>
                <a:avLst/>
                <a:gdLst>
                  <a:gd name="textAreaLeft" fmla="*/ 0 w 3596760"/>
                  <a:gd name="textAreaRight" fmla="*/ 3597120 w 359676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Бизнес-процесс 1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0" name="AutoShape 7"/>
              <p:cNvSpPr/>
              <p:nvPr/>
            </p:nvSpPr>
            <p:spPr>
              <a:xfrm>
                <a:off x="1247760" y="3666240"/>
                <a:ext cx="853200" cy="318600"/>
              </a:xfrm>
              <a:prstGeom prst="rightArrow">
                <a:avLst>
                  <a:gd name="adj1" fmla="val 50000"/>
                  <a:gd name="adj2" fmla="val 66949"/>
                </a:avLst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" name="AutoShape 8"/>
              <p:cNvSpPr/>
              <p:nvPr/>
            </p:nvSpPr>
            <p:spPr>
              <a:xfrm>
                <a:off x="1247760" y="4492800"/>
                <a:ext cx="853200" cy="318600"/>
              </a:xfrm>
              <a:prstGeom prst="rightArrow">
                <a:avLst>
                  <a:gd name="adj1" fmla="val 50000"/>
                  <a:gd name="adj2" fmla="val 66949"/>
                </a:avLst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" name="AutoShape 9"/>
              <p:cNvSpPr/>
              <p:nvPr/>
            </p:nvSpPr>
            <p:spPr>
              <a:xfrm>
                <a:off x="1247760" y="5321160"/>
                <a:ext cx="853200" cy="318600"/>
              </a:xfrm>
              <a:prstGeom prst="rightArrow">
                <a:avLst>
                  <a:gd name="adj1" fmla="val 50000"/>
                  <a:gd name="adj2" fmla="val 66949"/>
                </a:avLst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3" name="AutoShape 10"/>
              <p:cNvSpPr/>
              <p:nvPr/>
            </p:nvSpPr>
            <p:spPr>
              <a:xfrm>
                <a:off x="6917400" y="3666240"/>
                <a:ext cx="853200" cy="318600"/>
              </a:xfrm>
              <a:prstGeom prst="rightArrow">
                <a:avLst>
                  <a:gd name="adj1" fmla="val 50000"/>
                  <a:gd name="adj2" fmla="val 66949"/>
                </a:avLst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" name="AutoShape 11"/>
              <p:cNvSpPr/>
              <p:nvPr/>
            </p:nvSpPr>
            <p:spPr>
              <a:xfrm>
                <a:off x="6917400" y="4492800"/>
                <a:ext cx="853200" cy="318600"/>
              </a:xfrm>
              <a:prstGeom prst="rightArrow">
                <a:avLst>
                  <a:gd name="adj1" fmla="val 50000"/>
                  <a:gd name="adj2" fmla="val 66949"/>
                </a:avLst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" name="AutoShape 12"/>
              <p:cNvSpPr/>
              <p:nvPr/>
            </p:nvSpPr>
            <p:spPr>
              <a:xfrm>
                <a:off x="6917400" y="5321160"/>
                <a:ext cx="853200" cy="318600"/>
              </a:xfrm>
              <a:prstGeom prst="rightArrow">
                <a:avLst>
                  <a:gd name="adj1" fmla="val 50000"/>
                  <a:gd name="adj2" fmla="val 66949"/>
                </a:avLst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cxnSp>
            <p:nvCxnSpPr>
              <p:cNvPr id="236" name="AutoShape 13"/>
              <p:cNvCxnSpPr>
                <a:stCxn id="230" idx="0"/>
                <a:endCxn id="237" idx="0"/>
              </p:cNvCxnSpPr>
              <p:nvPr/>
            </p:nvCxnSpPr>
            <p:spPr>
              <a:xfrm>
                <a:off x="2100600" y="3826440"/>
                <a:ext cx="793800" cy="8596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38" name="AutoShape 14"/>
              <p:cNvCxnSpPr>
                <a:stCxn id="231" idx="0"/>
                <a:endCxn id="229" idx="0"/>
              </p:cNvCxnSpPr>
              <p:nvPr/>
            </p:nvCxnSpPr>
            <p:spPr>
              <a:xfrm flipV="1">
                <a:off x="2100600" y="3850920"/>
                <a:ext cx="793800" cy="802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39" name="AutoShape 15"/>
              <p:cNvCxnSpPr>
                <a:stCxn id="232" idx="0"/>
                <a:endCxn id="240" idx="0"/>
              </p:cNvCxnSpPr>
              <p:nvPr/>
            </p:nvCxnSpPr>
            <p:spPr>
              <a:xfrm>
                <a:off x="2100600" y="5481000"/>
                <a:ext cx="793800" cy="32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41" name="AutoShape 16"/>
              <p:cNvCxnSpPr>
                <a:stCxn id="229" idx="1"/>
                <a:endCxn id="233" idx="0"/>
              </p:cNvCxnSpPr>
              <p:nvPr/>
            </p:nvCxnSpPr>
            <p:spPr>
              <a:xfrm flipV="1">
                <a:off x="6490800" y="3825720"/>
                <a:ext cx="426600" cy="25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42" name="AutoShape 17"/>
              <p:cNvCxnSpPr>
                <a:stCxn id="237" idx="1"/>
                <a:endCxn id="234" idx="0"/>
              </p:cNvCxnSpPr>
              <p:nvPr/>
            </p:nvCxnSpPr>
            <p:spPr>
              <a:xfrm flipV="1">
                <a:off x="6490800" y="4653000"/>
                <a:ext cx="426600" cy="32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43" name="AutoShape 18"/>
              <p:cNvCxnSpPr>
                <a:stCxn id="240" idx="1"/>
                <a:endCxn id="235" idx="0"/>
              </p:cNvCxnSpPr>
              <p:nvPr/>
            </p:nvCxnSpPr>
            <p:spPr>
              <a:xfrm flipV="1">
                <a:off x="6490800" y="5480640"/>
                <a:ext cx="426600" cy="32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44" name="Text Box 19"/>
              <p:cNvSpPr/>
              <p:nvPr/>
            </p:nvSpPr>
            <p:spPr>
              <a:xfrm>
                <a:off x="3326760" y="4492800"/>
                <a:ext cx="2279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Бизнес-процесс 2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" name="Text Box 20"/>
              <p:cNvSpPr/>
              <p:nvPr/>
            </p:nvSpPr>
            <p:spPr>
              <a:xfrm>
                <a:off x="2682360" y="3155400"/>
                <a:ext cx="3507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Основные бизнес-процессы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" name="AutoShape 21"/>
              <p:cNvSpPr/>
              <p:nvPr/>
            </p:nvSpPr>
            <p:spPr>
              <a:xfrm>
                <a:off x="2954520" y="6060960"/>
                <a:ext cx="3597120" cy="342360"/>
              </a:xfrm>
              <a:custGeom>
                <a:avLst/>
                <a:gdLst>
                  <a:gd name="textAreaLeft" fmla="*/ 0 w 3597120"/>
                  <a:gd name="textAreaRight" fmla="*/ 3597480 w 3597120"/>
                  <a:gd name="textAreaTop" fmla="*/ 0 h 342360"/>
                  <a:gd name="textAreaBottom" fmla="*/ 342360 h 342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Вспомогательный процесс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7" name="Line 22"/>
              <p:cNvSpPr/>
              <p:nvPr/>
            </p:nvSpPr>
            <p:spPr>
              <a:xfrm flipV="1">
                <a:off x="5332680" y="5767200"/>
                <a:ext cx="0" cy="31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" name="Line 23"/>
              <p:cNvSpPr/>
              <p:nvPr/>
            </p:nvSpPr>
            <p:spPr>
              <a:xfrm flipV="1">
                <a:off x="5332680" y="4939200"/>
                <a:ext cx="0" cy="31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" name="Line 24"/>
              <p:cNvSpPr/>
              <p:nvPr/>
            </p:nvSpPr>
            <p:spPr>
              <a:xfrm flipV="1">
                <a:off x="5272200" y="4110840"/>
                <a:ext cx="0" cy="31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0" name="Line 25"/>
              <p:cNvSpPr/>
              <p:nvPr/>
            </p:nvSpPr>
            <p:spPr>
              <a:xfrm flipV="1">
                <a:off x="4356720" y="4939200"/>
                <a:ext cx="0" cy="114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" name="Line 26"/>
              <p:cNvSpPr/>
              <p:nvPr/>
            </p:nvSpPr>
            <p:spPr>
              <a:xfrm>
                <a:off x="4723920" y="4939560"/>
                <a:ext cx="0" cy="108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" name="Line 27"/>
              <p:cNvSpPr/>
              <p:nvPr/>
            </p:nvSpPr>
            <p:spPr>
              <a:xfrm flipV="1">
                <a:off x="3930480" y="4111200"/>
                <a:ext cx="0" cy="197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" name="Line 28"/>
              <p:cNvSpPr/>
              <p:nvPr/>
            </p:nvSpPr>
            <p:spPr>
              <a:xfrm>
                <a:off x="3564720" y="4111200"/>
                <a:ext cx="0" cy="114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4" name="Line 29"/>
              <p:cNvSpPr/>
              <p:nvPr/>
            </p:nvSpPr>
            <p:spPr>
              <a:xfrm>
                <a:off x="3199320" y="4939560"/>
                <a:ext cx="0" cy="108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0" name="AutoShape 30"/>
              <p:cNvSpPr/>
              <p:nvPr/>
            </p:nvSpPr>
            <p:spPr>
              <a:xfrm>
                <a:off x="2894400" y="5258160"/>
                <a:ext cx="3596760" cy="509040"/>
              </a:xfrm>
              <a:custGeom>
                <a:avLst/>
                <a:gdLst>
                  <a:gd name="textAreaLeft" fmla="*/ 0 w 3596760"/>
                  <a:gd name="textAreaRight" fmla="*/ 3597120 w 3596760"/>
                  <a:gd name="textAreaTop" fmla="*/ 0 h 509040"/>
                  <a:gd name="textAreaBottom" fmla="*/ 509040 h 509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Бизнес-процесс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7" name="AutoShape 31"/>
              <p:cNvSpPr/>
              <p:nvPr/>
            </p:nvSpPr>
            <p:spPr>
              <a:xfrm>
                <a:off x="2894400" y="4429800"/>
                <a:ext cx="3596760" cy="509400"/>
              </a:xfrm>
              <a:custGeom>
                <a:avLst/>
                <a:gdLst>
                  <a:gd name="textAreaLeft" fmla="*/ 0 w 3596760"/>
                  <a:gd name="textAreaRight" fmla="*/ 3597120 w 3596760"/>
                  <a:gd name="textAreaTop" fmla="*/ 0 h 509400"/>
                  <a:gd name="textAreaBottom" fmla="*/ 509760 h 509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55" name="Text Box 32"/>
            <p:cNvSpPr/>
            <p:nvPr/>
          </p:nvSpPr>
          <p:spPr>
            <a:xfrm>
              <a:off x="3370680" y="2430360"/>
              <a:ext cx="214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Организация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58560" y="260280"/>
            <a:ext cx="3817800" cy="12556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Организационное проектирование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353440" cy="3473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разработка проектных решений по перспективному устройству бизнес-корпораци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разработка проектных решений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о процессу её преобразования от актуального состояния к перспективному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551640" y="189000"/>
            <a:ext cx="2592360" cy="17413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258920" y="4941720"/>
            <a:ext cx="698508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755640" y="189000"/>
            <a:ext cx="4383000" cy="1297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Шаг 4. Описать каждый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бизнес-процесс в виде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набора функций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8" name="Group 3"/>
          <p:cNvGrpSpPr/>
          <p:nvPr/>
        </p:nvGrpSpPr>
        <p:grpSpPr>
          <a:xfrm>
            <a:off x="1049400" y="2343240"/>
            <a:ext cx="7842240" cy="4516920"/>
            <a:chOff x="1049400" y="2343240"/>
            <a:chExt cx="7842240" cy="4516920"/>
          </a:xfrm>
        </p:grpSpPr>
        <p:sp>
          <p:nvSpPr>
            <p:cNvPr id="259" name="AutoShape 4"/>
            <p:cNvSpPr/>
            <p:nvPr/>
          </p:nvSpPr>
          <p:spPr>
            <a:xfrm>
              <a:off x="1049400" y="2349360"/>
              <a:ext cx="7842240" cy="1584360"/>
            </a:xfrm>
            <a:custGeom>
              <a:avLst/>
              <a:gdLst>
                <a:gd name="textAreaLeft" fmla="*/ 0 w 7842240"/>
                <a:gd name="textAreaRight" fmla="*/ 7842600 w 7842240"/>
                <a:gd name="textAreaTop" fmla="*/ 0 h 1584360"/>
                <a:gd name="textAreaBottom" fmla="*/ 1584720 h 158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>
              <a:off x="1248480" y="2852640"/>
              <a:ext cx="996480" cy="792360"/>
            </a:xfrm>
            <a:prstGeom prst="rect">
              <a:avLst/>
            </a:prstGeom>
            <a:solidFill>
              <a:srgbClr val="d3d5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>
              <a:off x="2511720" y="2852640"/>
              <a:ext cx="996480" cy="792360"/>
            </a:xfrm>
            <a:prstGeom prst="rect">
              <a:avLst/>
            </a:prstGeom>
            <a:solidFill>
              <a:srgbClr val="d3d5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>
              <a:off x="3774600" y="2852640"/>
              <a:ext cx="996480" cy="792360"/>
            </a:xfrm>
            <a:prstGeom prst="rect">
              <a:avLst/>
            </a:prstGeom>
            <a:solidFill>
              <a:srgbClr val="d3d5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>
              <a:off x="5037840" y="2852640"/>
              <a:ext cx="996120" cy="792360"/>
            </a:xfrm>
            <a:prstGeom prst="rect">
              <a:avLst/>
            </a:prstGeom>
            <a:solidFill>
              <a:srgbClr val="d3d5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>
              <a:off x="6299280" y="2852640"/>
              <a:ext cx="996480" cy="792360"/>
            </a:xfrm>
            <a:prstGeom prst="rect">
              <a:avLst/>
            </a:prstGeom>
            <a:solidFill>
              <a:srgbClr val="d3d5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>
              <a:off x="3242880" y="5897520"/>
              <a:ext cx="2729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>
              <a:off x="2378520" y="5897520"/>
              <a:ext cx="864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>
              <a:off x="3242880" y="5532480"/>
              <a:ext cx="2729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>
              <a:off x="2378520" y="5532480"/>
              <a:ext cx="864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>
              <a:off x="3242880" y="5167440"/>
              <a:ext cx="2729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>
              <a:off x="2378520" y="5167440"/>
              <a:ext cx="864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>
              <a:off x="3242880" y="4802040"/>
              <a:ext cx="27295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>
              <a:off x="2378520" y="4802040"/>
              <a:ext cx="864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>
              <a:off x="3242880" y="4437000"/>
              <a:ext cx="2729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>
              <a:off x="2378520" y="4437000"/>
              <a:ext cx="864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5" name="Line 20"/>
            <p:cNvSpPr/>
            <p:nvPr/>
          </p:nvSpPr>
          <p:spPr>
            <a:xfrm>
              <a:off x="2378520" y="4437000"/>
              <a:ext cx="35942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6" name="Line 21"/>
            <p:cNvSpPr/>
            <p:nvPr/>
          </p:nvSpPr>
          <p:spPr>
            <a:xfrm>
              <a:off x="2378520" y="4802040"/>
              <a:ext cx="359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7" name="Line 22"/>
            <p:cNvSpPr/>
            <p:nvPr/>
          </p:nvSpPr>
          <p:spPr>
            <a:xfrm>
              <a:off x="2378520" y="5167440"/>
              <a:ext cx="359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8" name="Line 23"/>
            <p:cNvSpPr/>
            <p:nvPr/>
          </p:nvSpPr>
          <p:spPr>
            <a:xfrm>
              <a:off x="2378520" y="5532480"/>
              <a:ext cx="359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24"/>
            <p:cNvSpPr/>
            <p:nvPr/>
          </p:nvSpPr>
          <p:spPr>
            <a:xfrm>
              <a:off x="2378520" y="5897520"/>
              <a:ext cx="359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25"/>
            <p:cNvSpPr/>
            <p:nvPr/>
          </p:nvSpPr>
          <p:spPr>
            <a:xfrm>
              <a:off x="2378520" y="6262560"/>
              <a:ext cx="35942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26"/>
            <p:cNvSpPr/>
            <p:nvPr/>
          </p:nvSpPr>
          <p:spPr>
            <a:xfrm>
              <a:off x="2378520" y="4437000"/>
              <a:ext cx="0" cy="18255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Line 27"/>
            <p:cNvSpPr/>
            <p:nvPr/>
          </p:nvSpPr>
          <p:spPr>
            <a:xfrm>
              <a:off x="3242880" y="4437000"/>
              <a:ext cx="0" cy="18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3" name="Line 28"/>
            <p:cNvSpPr/>
            <p:nvPr/>
          </p:nvSpPr>
          <p:spPr>
            <a:xfrm>
              <a:off x="5972760" y="4437000"/>
              <a:ext cx="0" cy="18255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284" name="AutoShape 29"/>
            <p:cNvCxnSpPr>
              <a:stCxn id="260" idx="2"/>
              <a:endCxn id="281" idx="0"/>
            </p:cNvCxnSpPr>
            <p:nvPr/>
          </p:nvCxnSpPr>
          <p:spPr>
            <a:xfrm>
              <a:off x="1746720" y="3645000"/>
              <a:ext cx="632160" cy="778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5" name="AutoShape 30"/>
            <p:cNvCxnSpPr/>
            <p:nvPr/>
          </p:nvCxnSpPr>
          <p:spPr>
            <a:xfrm flipH="1">
              <a:off x="5967720" y="3645000"/>
              <a:ext cx="631800" cy="778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AutoShape 31"/>
            <p:cNvCxnSpPr>
              <a:stCxn id="261" idx="2"/>
              <a:endCxn id="282" idx="0"/>
            </p:cNvCxnSpPr>
            <p:nvPr/>
          </p:nvCxnSpPr>
          <p:spPr>
            <a:xfrm>
              <a:off x="3009600" y="3645000"/>
              <a:ext cx="233640" cy="79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AutoShape 32"/>
            <p:cNvCxnSpPr>
              <a:stCxn id="262" idx="2"/>
              <a:endCxn id="273" idx="0"/>
            </p:cNvCxnSpPr>
            <p:nvPr/>
          </p:nvCxnSpPr>
          <p:spPr>
            <a:xfrm>
              <a:off x="4273200" y="3645000"/>
              <a:ext cx="336240" cy="79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8" name="Line 33"/>
            <p:cNvSpPr/>
            <p:nvPr/>
          </p:nvSpPr>
          <p:spPr>
            <a:xfrm flipH="1">
              <a:off x="5169600" y="3645000"/>
              <a:ext cx="33228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9" name="Text Box 34"/>
            <p:cNvSpPr/>
            <p:nvPr/>
          </p:nvSpPr>
          <p:spPr>
            <a:xfrm>
              <a:off x="2680200" y="2343240"/>
              <a:ext cx="206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Бизнес-процесс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0" name="Text Box 35"/>
            <p:cNvSpPr/>
            <p:nvPr/>
          </p:nvSpPr>
          <p:spPr>
            <a:xfrm>
              <a:off x="2784240" y="6375240"/>
              <a:ext cx="2520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1" name="Text Box 36"/>
            <p:cNvSpPr/>
            <p:nvPr/>
          </p:nvSpPr>
          <p:spPr>
            <a:xfrm>
              <a:off x="1934280" y="6461280"/>
              <a:ext cx="450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Перечень функций бизнес-процесса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395280" y="189000"/>
            <a:ext cx="5977080" cy="1152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Шаг 5. Распределить полученные функции по подразделениям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организаци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4" name="Group 3"/>
          <p:cNvGrpSpPr/>
          <p:nvPr/>
        </p:nvGrpSpPr>
        <p:grpSpPr>
          <a:xfrm>
            <a:off x="1013400" y="2706840"/>
            <a:ext cx="7878240" cy="3769200"/>
            <a:chOff x="1013400" y="2706840"/>
            <a:chExt cx="7878240" cy="3769200"/>
          </a:xfrm>
        </p:grpSpPr>
        <p:grpSp>
          <p:nvGrpSpPr>
            <p:cNvPr id="295" name="Group 4"/>
            <p:cNvGrpSpPr/>
            <p:nvPr/>
          </p:nvGrpSpPr>
          <p:grpSpPr>
            <a:xfrm>
              <a:off x="1049400" y="2706840"/>
              <a:ext cx="7842240" cy="3769200"/>
              <a:chOff x="1049400" y="2706840"/>
              <a:chExt cx="7842240" cy="3769200"/>
            </a:xfrm>
          </p:grpSpPr>
          <p:sp>
            <p:nvSpPr>
              <p:cNvPr id="296" name="AutoShape 5"/>
              <p:cNvSpPr/>
              <p:nvPr/>
            </p:nvSpPr>
            <p:spPr>
              <a:xfrm>
                <a:off x="1049400" y="2712600"/>
                <a:ext cx="7842240" cy="1584000"/>
              </a:xfrm>
              <a:custGeom>
                <a:avLst/>
                <a:gdLst>
                  <a:gd name="textAreaLeft" fmla="*/ 0 w 7842240"/>
                  <a:gd name="textAreaRight" fmla="*/ 7842600 w 7842240"/>
                  <a:gd name="textAreaTop" fmla="*/ 0 h 1584000"/>
                  <a:gd name="textAreaBottom" fmla="*/ 1584360 h 1584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7" name="Rectangle 6"/>
              <p:cNvSpPr/>
              <p:nvPr/>
            </p:nvSpPr>
            <p:spPr>
              <a:xfrm>
                <a:off x="1248480" y="3215880"/>
                <a:ext cx="996480" cy="792000"/>
              </a:xfrm>
              <a:prstGeom prst="rect">
                <a:avLst/>
              </a:prstGeom>
              <a:solidFill>
                <a:srgbClr val="d3d5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8" name="Rectangle 7"/>
              <p:cNvSpPr/>
              <p:nvPr/>
            </p:nvSpPr>
            <p:spPr>
              <a:xfrm>
                <a:off x="2511720" y="3215880"/>
                <a:ext cx="996480" cy="792000"/>
              </a:xfrm>
              <a:prstGeom prst="rect">
                <a:avLst/>
              </a:prstGeom>
              <a:solidFill>
                <a:srgbClr val="d3d5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9" name="Rectangle 8"/>
              <p:cNvSpPr/>
              <p:nvPr/>
            </p:nvSpPr>
            <p:spPr>
              <a:xfrm>
                <a:off x="3774600" y="3215880"/>
                <a:ext cx="996480" cy="792000"/>
              </a:xfrm>
              <a:prstGeom prst="rect">
                <a:avLst/>
              </a:prstGeom>
              <a:solidFill>
                <a:srgbClr val="d3d5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0" name="Rectangle 9"/>
              <p:cNvSpPr/>
              <p:nvPr/>
            </p:nvSpPr>
            <p:spPr>
              <a:xfrm>
                <a:off x="5037840" y="3215880"/>
                <a:ext cx="996120" cy="792000"/>
              </a:xfrm>
              <a:prstGeom prst="rect">
                <a:avLst/>
              </a:prstGeom>
              <a:solidFill>
                <a:srgbClr val="d3d5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1" name="Rectangle 10"/>
              <p:cNvSpPr/>
              <p:nvPr/>
            </p:nvSpPr>
            <p:spPr>
              <a:xfrm>
                <a:off x="6299280" y="3215880"/>
                <a:ext cx="996480" cy="792000"/>
              </a:xfrm>
              <a:prstGeom prst="rect">
                <a:avLst/>
              </a:prstGeom>
              <a:solidFill>
                <a:srgbClr val="d3d5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2" name="Text Box 11"/>
              <p:cNvSpPr/>
              <p:nvPr/>
            </p:nvSpPr>
            <p:spPr>
              <a:xfrm>
                <a:off x="2680200" y="2706840"/>
                <a:ext cx="2067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Бизнес-процесс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3" name="Rectangle 12"/>
              <p:cNvSpPr/>
              <p:nvPr/>
            </p:nvSpPr>
            <p:spPr>
              <a:xfrm>
                <a:off x="1353240" y="4781520"/>
                <a:ext cx="2268720" cy="3988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Подразделение 1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4" name="Rectangle 13"/>
              <p:cNvSpPr/>
              <p:nvPr/>
            </p:nvSpPr>
            <p:spPr>
              <a:xfrm>
                <a:off x="3376080" y="5276880"/>
                <a:ext cx="2126160" cy="7038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Подразделение 2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5" name="Rectangle 14"/>
              <p:cNvSpPr/>
              <p:nvPr/>
            </p:nvSpPr>
            <p:spPr>
              <a:xfrm>
                <a:off x="5208120" y="6077160"/>
                <a:ext cx="2268720" cy="3988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Подразделение 3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cxnSp>
            <p:nvCxnSpPr>
              <p:cNvPr id="306" name="AutoShape 15"/>
              <p:cNvCxnSpPr>
                <a:stCxn id="297" idx="2"/>
                <a:endCxn id="303" idx="0"/>
              </p:cNvCxnSpPr>
              <p:nvPr/>
            </p:nvCxnSpPr>
            <p:spPr>
              <a:xfrm>
                <a:off x="1746720" y="4007880"/>
                <a:ext cx="742320" cy="770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07" name="AutoShape 16"/>
              <p:cNvCxnSpPr>
                <a:stCxn id="298" idx="2"/>
                <a:endCxn id="304" idx="0"/>
              </p:cNvCxnSpPr>
              <p:nvPr/>
            </p:nvCxnSpPr>
            <p:spPr>
              <a:xfrm>
                <a:off x="3009600" y="4007880"/>
                <a:ext cx="1430280" cy="1418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08" name="AutoShape 17"/>
              <p:cNvCxnSpPr>
                <a:stCxn id="299" idx="2"/>
                <a:endCxn id="303" idx="0"/>
              </p:cNvCxnSpPr>
              <p:nvPr/>
            </p:nvCxnSpPr>
            <p:spPr>
              <a:xfrm flipH="1">
                <a:off x="2487600" y="4007880"/>
                <a:ext cx="1785240" cy="770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09" name="AutoShape 18"/>
              <p:cNvCxnSpPr>
                <a:stCxn id="300" idx="2"/>
                <a:endCxn id="304" idx="0"/>
              </p:cNvCxnSpPr>
              <p:nvPr/>
            </p:nvCxnSpPr>
            <p:spPr>
              <a:xfrm flipH="1">
                <a:off x="4439160" y="4007880"/>
                <a:ext cx="1096920" cy="1418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10" name="AutoShape 19"/>
              <p:cNvCxnSpPr>
                <a:stCxn id="301" idx="2"/>
                <a:endCxn id="305" idx="0"/>
              </p:cNvCxnSpPr>
              <p:nvPr/>
            </p:nvCxnSpPr>
            <p:spPr>
              <a:xfrm flipH="1">
                <a:off x="6342840" y="4008240"/>
                <a:ext cx="454680" cy="20656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311" name="Text Box 20"/>
            <p:cNvSpPr/>
            <p:nvPr/>
          </p:nvSpPr>
          <p:spPr>
            <a:xfrm>
              <a:off x="1013400" y="6031080"/>
              <a:ext cx="351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одразделения предприятия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6372360" y="26028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324000" y="260280"/>
            <a:ext cx="5543280" cy="1368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Шаг 6. Детально описать каждый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роцесс при помощи выбранной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методики (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DEFO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DEF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3,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DFD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IS VAD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IS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еЕРС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4" name="Group 3"/>
          <p:cNvGrpSpPr/>
          <p:nvPr/>
        </p:nvGrpSpPr>
        <p:grpSpPr>
          <a:xfrm>
            <a:off x="611280" y="2349360"/>
            <a:ext cx="8187480" cy="4248000"/>
            <a:chOff x="611280" y="2349360"/>
            <a:chExt cx="8187480" cy="4248000"/>
          </a:xfrm>
        </p:grpSpPr>
        <p:sp>
          <p:nvSpPr>
            <p:cNvPr id="315" name="AutoShape 4"/>
            <p:cNvSpPr/>
            <p:nvPr/>
          </p:nvSpPr>
          <p:spPr>
            <a:xfrm>
              <a:off x="611280" y="2349360"/>
              <a:ext cx="7841880" cy="1079280"/>
            </a:xfrm>
            <a:custGeom>
              <a:avLst/>
              <a:gdLst>
                <a:gd name="textAreaLeft" fmla="*/ 0 w 7841880"/>
                <a:gd name="textAreaRight" fmla="*/ 7842240 w 7841880"/>
                <a:gd name="textAreaTop" fmla="*/ 0 h 1079280"/>
                <a:gd name="textAreaBottom" fmla="*/ 107964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" name="Rectangle 5"/>
            <p:cNvSpPr/>
            <p:nvPr/>
          </p:nvSpPr>
          <p:spPr>
            <a:xfrm>
              <a:off x="810360" y="2925720"/>
              <a:ext cx="79704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" name="Rectangle 6"/>
            <p:cNvSpPr/>
            <p:nvPr/>
          </p:nvSpPr>
          <p:spPr>
            <a:xfrm>
              <a:off x="1874520" y="2925720"/>
              <a:ext cx="7966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8" name="Rectangle 7"/>
            <p:cNvSpPr/>
            <p:nvPr/>
          </p:nvSpPr>
          <p:spPr>
            <a:xfrm>
              <a:off x="2937960" y="2925720"/>
              <a:ext cx="79704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9" name="Rectangle 8"/>
            <p:cNvSpPr/>
            <p:nvPr/>
          </p:nvSpPr>
          <p:spPr>
            <a:xfrm>
              <a:off x="4000320" y="2925720"/>
              <a:ext cx="79704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0" name="Rectangle 9"/>
            <p:cNvSpPr/>
            <p:nvPr/>
          </p:nvSpPr>
          <p:spPr>
            <a:xfrm>
              <a:off x="5064120" y="2925720"/>
              <a:ext cx="7966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1" name="Text Box 10"/>
            <p:cNvSpPr/>
            <p:nvPr/>
          </p:nvSpPr>
          <p:spPr>
            <a:xfrm>
              <a:off x="2472120" y="2420640"/>
              <a:ext cx="25434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Бизнес-процесс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2" name="AutoShape 11"/>
            <p:cNvSpPr/>
            <p:nvPr/>
          </p:nvSpPr>
          <p:spPr>
            <a:xfrm>
              <a:off x="677160" y="4294080"/>
              <a:ext cx="7842960" cy="2303280"/>
            </a:xfrm>
            <a:custGeom>
              <a:avLst/>
              <a:gdLst>
                <a:gd name="textAreaLeft" fmla="*/ 0 w 7842960"/>
                <a:gd name="textAreaRight" fmla="*/ 7843320 w 7842960"/>
                <a:gd name="textAreaTop" fmla="*/ 0 h 2303280"/>
                <a:gd name="textAreaBottom" fmla="*/ 2303640 h 23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3" name="AutoShape 12"/>
            <p:cNvSpPr/>
            <p:nvPr/>
          </p:nvSpPr>
          <p:spPr>
            <a:xfrm>
              <a:off x="3070080" y="3573360"/>
              <a:ext cx="1328400" cy="576000"/>
            </a:xfrm>
            <a:prstGeom prst="downArrow">
              <a:avLst>
                <a:gd name="adj1" fmla="val 50000"/>
                <a:gd name="adj2" fmla="val 25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4" name="Text Box 13"/>
            <p:cNvSpPr/>
            <p:nvPr/>
          </p:nvSpPr>
          <p:spPr>
            <a:xfrm>
              <a:off x="6475320" y="3501720"/>
              <a:ext cx="2323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Моделирование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бизнес-процессов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5" name="AutoShape 14"/>
            <p:cNvSpPr/>
            <p:nvPr/>
          </p:nvSpPr>
          <p:spPr>
            <a:xfrm>
              <a:off x="810360" y="487008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AutoShape 15"/>
            <p:cNvSpPr/>
            <p:nvPr/>
          </p:nvSpPr>
          <p:spPr>
            <a:xfrm>
              <a:off x="810360" y="594972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7" name="AutoShape 16"/>
            <p:cNvSpPr/>
            <p:nvPr/>
          </p:nvSpPr>
          <p:spPr>
            <a:xfrm>
              <a:off x="2139480" y="594972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8" name="AutoShape 17"/>
            <p:cNvSpPr/>
            <p:nvPr/>
          </p:nvSpPr>
          <p:spPr>
            <a:xfrm>
              <a:off x="2139480" y="522900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AutoShape 18"/>
            <p:cNvSpPr/>
            <p:nvPr/>
          </p:nvSpPr>
          <p:spPr>
            <a:xfrm>
              <a:off x="2139480" y="450972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0" name="AutoShape 19"/>
            <p:cNvSpPr/>
            <p:nvPr/>
          </p:nvSpPr>
          <p:spPr>
            <a:xfrm>
              <a:off x="3667680" y="594972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1" name="AutoShape 20"/>
            <p:cNvSpPr/>
            <p:nvPr/>
          </p:nvSpPr>
          <p:spPr>
            <a:xfrm>
              <a:off x="3667680" y="4797360"/>
              <a:ext cx="930240" cy="43164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2" name="AutoShape 21"/>
            <p:cNvSpPr/>
            <p:nvPr/>
          </p:nvSpPr>
          <p:spPr>
            <a:xfrm>
              <a:off x="5263200" y="594972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AutoShape 22"/>
            <p:cNvSpPr/>
            <p:nvPr/>
          </p:nvSpPr>
          <p:spPr>
            <a:xfrm>
              <a:off x="5263200" y="522900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4" name="AutoShape 23"/>
            <p:cNvSpPr/>
            <p:nvPr/>
          </p:nvSpPr>
          <p:spPr>
            <a:xfrm>
              <a:off x="5263200" y="450972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5" name="AutoShape 24"/>
            <p:cNvSpPr/>
            <p:nvPr/>
          </p:nvSpPr>
          <p:spPr>
            <a:xfrm>
              <a:off x="6725520" y="5157720"/>
              <a:ext cx="930240" cy="43164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336" name="AutoShape 25"/>
            <p:cNvCxnSpPr>
              <a:stCxn id="325" idx="0"/>
              <a:endCxn id="329" idx="0"/>
            </p:cNvCxnSpPr>
            <p:nvPr/>
          </p:nvCxnSpPr>
          <p:spPr>
            <a:xfrm flipV="1">
              <a:off x="1740600" y="4725000"/>
              <a:ext cx="399240" cy="361080"/>
            </a:xfrm>
            <a:prstGeom prst="bentConnector3">
              <a:avLst>
                <a:gd name="adj1" fmla="val 4954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7" name="AutoShape 26"/>
            <p:cNvCxnSpPr>
              <a:stCxn id="325" idx="1"/>
              <a:endCxn id="328" idx="0"/>
            </p:cNvCxnSpPr>
            <p:nvPr/>
          </p:nvCxnSpPr>
          <p:spPr>
            <a:xfrm>
              <a:off x="1740600" y="5085720"/>
              <a:ext cx="399240" cy="359640"/>
            </a:xfrm>
            <a:prstGeom prst="bentConnector3">
              <a:avLst>
                <a:gd name="adj1" fmla="val 4954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8" name="AutoShape 27"/>
            <p:cNvCxnSpPr>
              <a:stCxn id="326" idx="0"/>
              <a:endCxn id="327" idx="0"/>
            </p:cNvCxnSpPr>
            <p:nvPr/>
          </p:nvCxnSpPr>
          <p:spPr>
            <a:xfrm>
              <a:off x="1740600" y="6165360"/>
              <a:ext cx="3992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9" name="AutoShape 28"/>
            <p:cNvCxnSpPr>
              <a:stCxn id="329" idx="1"/>
              <a:endCxn id="331" idx="0"/>
            </p:cNvCxnSpPr>
            <p:nvPr/>
          </p:nvCxnSpPr>
          <p:spPr>
            <a:xfrm>
              <a:off x="3070080" y="4725720"/>
              <a:ext cx="598320" cy="288000"/>
            </a:xfrm>
            <a:prstGeom prst="bentConnector3">
              <a:avLst>
                <a:gd name="adj1" fmla="val 4972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0" name="AutoShape 29"/>
            <p:cNvCxnSpPr>
              <a:stCxn id="327" idx="1"/>
              <a:endCxn id="331" idx="1"/>
            </p:cNvCxnSpPr>
            <p:nvPr/>
          </p:nvCxnSpPr>
          <p:spPr>
            <a:xfrm flipV="1">
              <a:off x="3070080" y="5012640"/>
              <a:ext cx="598320" cy="1153440"/>
            </a:xfrm>
            <a:prstGeom prst="bentConnector3">
              <a:avLst>
                <a:gd name="adj1" fmla="val 4972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1" name="AutoShape 30"/>
            <p:cNvCxnSpPr>
              <a:stCxn id="327" idx="2"/>
              <a:endCxn id="330" idx="0"/>
            </p:cNvCxnSpPr>
            <p:nvPr/>
          </p:nvCxnSpPr>
          <p:spPr>
            <a:xfrm>
              <a:off x="3070080" y="6165360"/>
              <a:ext cx="598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2" name="AutoShape 31"/>
            <p:cNvCxnSpPr>
              <a:stCxn id="328" idx="1"/>
              <a:endCxn id="334" idx="0"/>
            </p:cNvCxnSpPr>
            <p:nvPr/>
          </p:nvCxnSpPr>
          <p:spPr>
            <a:xfrm flipV="1">
              <a:off x="3070080" y="4725360"/>
              <a:ext cx="2193840" cy="720000"/>
            </a:xfrm>
            <a:prstGeom prst="bentConnector3">
              <a:avLst>
                <a:gd name="adj1" fmla="val 84752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3" name="AutoShape 32"/>
            <p:cNvCxnSpPr>
              <a:stCxn id="331" idx="2"/>
              <a:endCxn id="334" idx="1"/>
            </p:cNvCxnSpPr>
            <p:nvPr/>
          </p:nvCxnSpPr>
          <p:spPr>
            <a:xfrm flipV="1">
              <a:off x="4597560" y="4725360"/>
              <a:ext cx="665640" cy="288000"/>
            </a:xfrm>
            <a:prstGeom prst="bentConnector3">
              <a:avLst>
                <a:gd name="adj1" fmla="val 4972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4" name="AutoShape 33"/>
            <p:cNvCxnSpPr>
              <a:stCxn id="330" idx="1"/>
              <a:endCxn id="333" idx="0"/>
            </p:cNvCxnSpPr>
            <p:nvPr/>
          </p:nvCxnSpPr>
          <p:spPr>
            <a:xfrm flipV="1">
              <a:off x="4597560" y="5444640"/>
              <a:ext cx="665640" cy="721440"/>
            </a:xfrm>
            <a:prstGeom prst="bentConnector3">
              <a:avLst>
                <a:gd name="adj1" fmla="val 6163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5" name="AutoShape 34"/>
            <p:cNvCxnSpPr>
              <a:stCxn id="330" idx="2"/>
              <a:endCxn id="332" idx="0"/>
            </p:cNvCxnSpPr>
            <p:nvPr/>
          </p:nvCxnSpPr>
          <p:spPr>
            <a:xfrm>
              <a:off x="4597560" y="6165360"/>
              <a:ext cx="665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6" name="AutoShape 35"/>
            <p:cNvCxnSpPr>
              <a:stCxn id="334" idx="2"/>
              <a:endCxn id="335" idx="0"/>
            </p:cNvCxnSpPr>
            <p:nvPr/>
          </p:nvCxnSpPr>
          <p:spPr>
            <a:xfrm>
              <a:off x="6193440" y="4725360"/>
              <a:ext cx="519120" cy="648360"/>
            </a:xfrm>
            <a:prstGeom prst="bentConnector3">
              <a:avLst>
                <a:gd name="adj1" fmla="val 5107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7" name="Line 36"/>
            <p:cNvSpPr/>
            <p:nvPr/>
          </p:nvSpPr>
          <p:spPr>
            <a:xfrm>
              <a:off x="6193440" y="6165720"/>
              <a:ext cx="232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7656120" y="5373360"/>
              <a:ext cx="86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>
              <a:off x="6193440" y="4725720"/>
              <a:ext cx="232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Line 39"/>
            <p:cNvSpPr/>
            <p:nvPr/>
          </p:nvSpPr>
          <p:spPr>
            <a:xfrm>
              <a:off x="6193440" y="5445000"/>
              <a:ext cx="19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40"/>
            <p:cNvSpPr/>
            <p:nvPr/>
          </p:nvSpPr>
          <p:spPr>
            <a:xfrm>
              <a:off x="6392880" y="544500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Oval 41"/>
            <p:cNvSpPr/>
            <p:nvPr/>
          </p:nvSpPr>
          <p:spPr>
            <a:xfrm>
              <a:off x="744840" y="4437000"/>
              <a:ext cx="2657520" cy="1368360"/>
            </a:xfrm>
            <a:prstGeom prst="ellipse">
              <a:avLst/>
            </a:prstGeom>
            <a:noFill/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Oval 42"/>
            <p:cNvSpPr/>
            <p:nvPr/>
          </p:nvSpPr>
          <p:spPr>
            <a:xfrm>
              <a:off x="611280" y="5805360"/>
              <a:ext cx="4186080" cy="720720"/>
            </a:xfrm>
            <a:prstGeom prst="ellipse">
              <a:avLst/>
            </a:prstGeom>
            <a:noFill/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Oval 43"/>
            <p:cNvSpPr/>
            <p:nvPr/>
          </p:nvSpPr>
          <p:spPr>
            <a:xfrm>
              <a:off x="3402360" y="4365360"/>
              <a:ext cx="2858400" cy="863640"/>
            </a:xfrm>
            <a:prstGeom prst="ellipse">
              <a:avLst/>
            </a:prstGeom>
            <a:noFill/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Oval 44"/>
            <p:cNvSpPr/>
            <p:nvPr/>
          </p:nvSpPr>
          <p:spPr>
            <a:xfrm>
              <a:off x="5130000" y="5086080"/>
              <a:ext cx="1197000" cy="1440000"/>
            </a:xfrm>
            <a:prstGeom prst="ellipse">
              <a:avLst/>
            </a:prstGeom>
            <a:noFill/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356" name="AutoShape 45"/>
            <p:cNvCxnSpPr>
              <a:stCxn id="316" idx="2"/>
              <a:endCxn id="352" idx="1"/>
            </p:cNvCxnSpPr>
            <p:nvPr/>
          </p:nvCxnSpPr>
          <p:spPr>
            <a:xfrm flipH="1">
              <a:off x="1133640" y="3285720"/>
              <a:ext cx="75240" cy="13374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7" name="AutoShape 46"/>
            <p:cNvCxnSpPr>
              <a:stCxn id="317" idx="2"/>
              <a:endCxn id="353" idx="0"/>
            </p:cNvCxnSpPr>
            <p:nvPr/>
          </p:nvCxnSpPr>
          <p:spPr>
            <a:xfrm>
              <a:off x="2272680" y="3286080"/>
              <a:ext cx="432720" cy="25056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8" name="AutoShape 47"/>
            <p:cNvCxnSpPr>
              <a:stCxn id="318" idx="2"/>
              <a:endCxn id="354" idx="1"/>
            </p:cNvCxnSpPr>
            <p:nvPr/>
          </p:nvCxnSpPr>
          <p:spPr>
            <a:xfrm>
              <a:off x="3336120" y="3285720"/>
              <a:ext cx="485640" cy="11923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9" name="AutoShape 48"/>
            <p:cNvCxnSpPr>
              <a:stCxn id="319" idx="2"/>
              <a:endCxn id="355" idx="0"/>
            </p:cNvCxnSpPr>
            <p:nvPr/>
          </p:nvCxnSpPr>
          <p:spPr>
            <a:xfrm>
              <a:off x="4398840" y="3285720"/>
              <a:ext cx="1331280" cy="17866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0" name="AutoShape 49"/>
            <p:cNvCxnSpPr>
              <a:stCxn id="320" idx="2"/>
              <a:endCxn id="335" idx="1"/>
            </p:cNvCxnSpPr>
            <p:nvPr/>
          </p:nvCxnSpPr>
          <p:spPr>
            <a:xfrm>
              <a:off x="5462280" y="3285720"/>
              <a:ext cx="1612440" cy="1857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6300720" y="26028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395280" y="404640"/>
            <a:ext cx="5689440" cy="1872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Шаг 7. Составить регламенты п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ждому бизнес-процессу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формировать матрицы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ветственности по каждому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изнес-процесс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2378160" y="4941720"/>
          <a:ext cx="2660400" cy="1898640"/>
        </p:xfrm>
        <a:graphic>
          <a:graphicData uri="http://schemas.openxmlformats.org/drawingml/2006/table">
            <a:tbl>
              <a:tblPr/>
              <a:tblGrid>
                <a:gridCol w="664920"/>
                <a:gridCol w="398520"/>
                <a:gridCol w="400320"/>
                <a:gridCol w="398160"/>
                <a:gridCol w="398520"/>
                <a:gridCol w="399960"/>
              </a:tblGrid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4" name="Text Box 40"/>
          <p:cNvSpPr/>
          <p:nvPr/>
        </p:nvSpPr>
        <p:spPr>
          <a:xfrm>
            <a:off x="1411920" y="6521400"/>
            <a:ext cx="458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атрица ответственности бизнес-процесс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5" name="Group 41"/>
          <p:cNvGrpSpPr/>
          <p:nvPr/>
        </p:nvGrpSpPr>
        <p:grpSpPr>
          <a:xfrm>
            <a:off x="981000" y="2421000"/>
            <a:ext cx="7845480" cy="2520720"/>
            <a:chOff x="981000" y="2421000"/>
            <a:chExt cx="7845480" cy="2520720"/>
          </a:xfrm>
        </p:grpSpPr>
        <p:sp>
          <p:nvSpPr>
            <p:cNvPr id="366" name="AutoShape 42"/>
            <p:cNvSpPr/>
            <p:nvPr/>
          </p:nvSpPr>
          <p:spPr>
            <a:xfrm>
              <a:off x="981000" y="2421000"/>
              <a:ext cx="7845480" cy="2303280"/>
            </a:xfrm>
            <a:custGeom>
              <a:avLst/>
              <a:gdLst>
                <a:gd name="textAreaLeft" fmla="*/ 0 w 7845480"/>
                <a:gd name="textAreaRight" fmla="*/ 7845840 w 7845480"/>
                <a:gd name="textAreaTop" fmla="*/ 0 h 2303280"/>
                <a:gd name="textAreaBottom" fmla="*/ 2303640 h 23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AutoShape 43"/>
            <p:cNvSpPr/>
            <p:nvPr/>
          </p:nvSpPr>
          <p:spPr>
            <a:xfrm>
              <a:off x="1114200" y="2997360"/>
              <a:ext cx="930600" cy="43164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8" name="AutoShape 44"/>
            <p:cNvSpPr/>
            <p:nvPr/>
          </p:nvSpPr>
          <p:spPr>
            <a:xfrm>
              <a:off x="1114200" y="4076640"/>
              <a:ext cx="930600" cy="43200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9" name="AutoShape 45"/>
            <p:cNvSpPr/>
            <p:nvPr/>
          </p:nvSpPr>
          <p:spPr>
            <a:xfrm>
              <a:off x="2443320" y="4076640"/>
              <a:ext cx="930600" cy="43200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AutoShape 46"/>
            <p:cNvSpPr/>
            <p:nvPr/>
          </p:nvSpPr>
          <p:spPr>
            <a:xfrm>
              <a:off x="2443320" y="3355920"/>
              <a:ext cx="930600" cy="43200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AutoShape 47"/>
            <p:cNvSpPr/>
            <p:nvPr/>
          </p:nvSpPr>
          <p:spPr>
            <a:xfrm>
              <a:off x="2443320" y="2637000"/>
              <a:ext cx="930600" cy="43164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AutoShape 48"/>
            <p:cNvSpPr/>
            <p:nvPr/>
          </p:nvSpPr>
          <p:spPr>
            <a:xfrm>
              <a:off x="3972240" y="4076640"/>
              <a:ext cx="930600" cy="43200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AutoShape 49"/>
            <p:cNvSpPr/>
            <p:nvPr/>
          </p:nvSpPr>
          <p:spPr>
            <a:xfrm>
              <a:off x="3972240" y="2924280"/>
              <a:ext cx="930600" cy="43164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AutoShape 50"/>
            <p:cNvSpPr/>
            <p:nvPr/>
          </p:nvSpPr>
          <p:spPr>
            <a:xfrm>
              <a:off x="5568120" y="3355920"/>
              <a:ext cx="930600" cy="43200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AutoShape 51"/>
            <p:cNvSpPr/>
            <p:nvPr/>
          </p:nvSpPr>
          <p:spPr>
            <a:xfrm>
              <a:off x="5568120" y="2637000"/>
              <a:ext cx="930600" cy="43164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AutoShape 52"/>
            <p:cNvSpPr/>
            <p:nvPr/>
          </p:nvSpPr>
          <p:spPr>
            <a:xfrm>
              <a:off x="7030800" y="3284640"/>
              <a:ext cx="930600" cy="43164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377" name="AutoShape 53"/>
            <p:cNvCxnSpPr>
              <a:stCxn id="367" idx="0"/>
              <a:endCxn id="371" idx="0"/>
            </p:cNvCxnSpPr>
            <p:nvPr/>
          </p:nvCxnSpPr>
          <p:spPr>
            <a:xfrm flipV="1">
              <a:off x="2044800" y="2851920"/>
              <a:ext cx="398880" cy="361080"/>
            </a:xfrm>
            <a:prstGeom prst="bentConnector3">
              <a:avLst>
                <a:gd name="adj1" fmla="val 4959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8" name="AutoShape 54"/>
            <p:cNvCxnSpPr>
              <a:stCxn id="367" idx="1"/>
              <a:endCxn id="370" idx="0"/>
            </p:cNvCxnSpPr>
            <p:nvPr/>
          </p:nvCxnSpPr>
          <p:spPr>
            <a:xfrm>
              <a:off x="2044800" y="3212640"/>
              <a:ext cx="398880" cy="359640"/>
            </a:xfrm>
            <a:prstGeom prst="bentConnector3">
              <a:avLst>
                <a:gd name="adj1" fmla="val 4959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9" name="AutoShape 55"/>
            <p:cNvCxnSpPr>
              <a:stCxn id="368" idx="0"/>
              <a:endCxn id="369" idx="0"/>
            </p:cNvCxnSpPr>
            <p:nvPr/>
          </p:nvCxnSpPr>
          <p:spPr>
            <a:xfrm>
              <a:off x="2044800" y="4292280"/>
              <a:ext cx="3988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0" name="AutoShape 56"/>
            <p:cNvCxnSpPr>
              <a:stCxn id="371" idx="1"/>
              <a:endCxn id="373" idx="0"/>
            </p:cNvCxnSpPr>
            <p:nvPr/>
          </p:nvCxnSpPr>
          <p:spPr>
            <a:xfrm>
              <a:off x="3374280" y="2852640"/>
              <a:ext cx="598320" cy="288000"/>
            </a:xfrm>
            <a:prstGeom prst="bentConnector3">
              <a:avLst>
                <a:gd name="adj1" fmla="val 4972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1" name="AutoShape 57"/>
            <p:cNvCxnSpPr>
              <a:stCxn id="369" idx="1"/>
              <a:endCxn id="373" idx="1"/>
            </p:cNvCxnSpPr>
            <p:nvPr/>
          </p:nvCxnSpPr>
          <p:spPr>
            <a:xfrm flipV="1">
              <a:off x="3374280" y="3139560"/>
              <a:ext cx="598320" cy="1153440"/>
            </a:xfrm>
            <a:prstGeom prst="bentConnector3">
              <a:avLst>
                <a:gd name="adj1" fmla="val 4972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2" name="AutoShape 58"/>
            <p:cNvCxnSpPr>
              <a:stCxn id="369" idx="2"/>
              <a:endCxn id="372" idx="0"/>
            </p:cNvCxnSpPr>
            <p:nvPr/>
          </p:nvCxnSpPr>
          <p:spPr>
            <a:xfrm>
              <a:off x="3374280" y="4292280"/>
              <a:ext cx="598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3" name="AutoShape 59"/>
            <p:cNvCxnSpPr>
              <a:stCxn id="370" idx="1"/>
              <a:endCxn id="375" idx="0"/>
            </p:cNvCxnSpPr>
            <p:nvPr/>
          </p:nvCxnSpPr>
          <p:spPr>
            <a:xfrm flipV="1">
              <a:off x="3374280" y="2852280"/>
              <a:ext cx="2194560" cy="720000"/>
            </a:xfrm>
            <a:prstGeom prst="bentConnector3">
              <a:avLst>
                <a:gd name="adj1" fmla="val 8475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4" name="AutoShape 60"/>
            <p:cNvCxnSpPr>
              <a:stCxn id="373" idx="2"/>
              <a:endCxn id="375" idx="1"/>
            </p:cNvCxnSpPr>
            <p:nvPr/>
          </p:nvCxnSpPr>
          <p:spPr>
            <a:xfrm flipV="1">
              <a:off x="4902840" y="2852280"/>
              <a:ext cx="665640" cy="288000"/>
            </a:xfrm>
            <a:prstGeom prst="bentConnector3">
              <a:avLst>
                <a:gd name="adj1" fmla="val 4978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5" name="AutoShape 61"/>
            <p:cNvCxnSpPr>
              <a:stCxn id="372" idx="1"/>
              <a:endCxn id="374" idx="0"/>
            </p:cNvCxnSpPr>
            <p:nvPr/>
          </p:nvCxnSpPr>
          <p:spPr>
            <a:xfrm flipV="1">
              <a:off x="4902840" y="3571560"/>
              <a:ext cx="665640" cy="721440"/>
            </a:xfrm>
            <a:prstGeom prst="bentConnector3">
              <a:avLst>
                <a:gd name="adj1" fmla="val 6168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6" name="AutoShape 62"/>
            <p:cNvCxnSpPr>
              <a:stCxn id="372" idx="2"/>
              <a:endCxn id="387" idx="0"/>
            </p:cNvCxnSpPr>
            <p:nvPr/>
          </p:nvCxnSpPr>
          <p:spPr>
            <a:xfrm>
              <a:off x="4902840" y="4292280"/>
              <a:ext cx="665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8" name="AutoShape 63"/>
            <p:cNvCxnSpPr>
              <a:stCxn id="375" idx="2"/>
              <a:endCxn id="376" idx="0"/>
            </p:cNvCxnSpPr>
            <p:nvPr/>
          </p:nvCxnSpPr>
          <p:spPr>
            <a:xfrm>
              <a:off x="6498720" y="2852280"/>
              <a:ext cx="532800" cy="648360"/>
            </a:xfrm>
            <a:prstGeom prst="bentConnector3">
              <a:avLst>
                <a:gd name="adj1" fmla="val 4983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9" name="Line 64"/>
            <p:cNvSpPr/>
            <p:nvPr/>
          </p:nvSpPr>
          <p:spPr>
            <a:xfrm>
              <a:off x="6498720" y="4292640"/>
              <a:ext cx="232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Line 65"/>
            <p:cNvSpPr/>
            <p:nvPr/>
          </p:nvSpPr>
          <p:spPr>
            <a:xfrm>
              <a:off x="7961400" y="3500280"/>
              <a:ext cx="86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Line 66"/>
            <p:cNvSpPr/>
            <p:nvPr/>
          </p:nvSpPr>
          <p:spPr>
            <a:xfrm>
              <a:off x="6498720" y="2852640"/>
              <a:ext cx="232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Line 67"/>
            <p:cNvSpPr/>
            <p:nvPr/>
          </p:nvSpPr>
          <p:spPr>
            <a:xfrm>
              <a:off x="6498720" y="3571920"/>
              <a:ext cx="19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Line 68"/>
            <p:cNvSpPr/>
            <p:nvPr/>
          </p:nvSpPr>
          <p:spPr>
            <a:xfrm>
              <a:off x="6698160" y="357192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Line 69"/>
            <p:cNvSpPr/>
            <p:nvPr/>
          </p:nvSpPr>
          <p:spPr>
            <a:xfrm>
              <a:off x="1779480" y="4508640"/>
              <a:ext cx="59760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Line 70"/>
            <p:cNvSpPr/>
            <p:nvPr/>
          </p:nvSpPr>
          <p:spPr>
            <a:xfrm>
              <a:off x="1779480" y="3429000"/>
              <a:ext cx="930600" cy="151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Line 71"/>
            <p:cNvSpPr/>
            <p:nvPr/>
          </p:nvSpPr>
          <p:spPr>
            <a:xfrm>
              <a:off x="2843280" y="4508640"/>
              <a:ext cx="19908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Line 72"/>
            <p:cNvSpPr/>
            <p:nvPr/>
          </p:nvSpPr>
          <p:spPr>
            <a:xfrm>
              <a:off x="2775960" y="3789360"/>
              <a:ext cx="53208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Line 73"/>
            <p:cNvSpPr/>
            <p:nvPr/>
          </p:nvSpPr>
          <p:spPr>
            <a:xfrm>
              <a:off x="2710080" y="3068640"/>
              <a:ext cx="798480" cy="18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Line 74"/>
            <p:cNvSpPr/>
            <p:nvPr/>
          </p:nvSpPr>
          <p:spPr>
            <a:xfrm flipH="1">
              <a:off x="3973320" y="3357720"/>
              <a:ext cx="532080" cy="15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Line 75"/>
            <p:cNvSpPr/>
            <p:nvPr/>
          </p:nvSpPr>
          <p:spPr>
            <a:xfrm flipH="1">
              <a:off x="4505040" y="3068640"/>
              <a:ext cx="1130040" cy="18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Line 76"/>
            <p:cNvSpPr/>
            <p:nvPr/>
          </p:nvSpPr>
          <p:spPr>
            <a:xfrm flipH="1">
              <a:off x="4770720" y="3789360"/>
              <a:ext cx="79704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2" name="Line 77"/>
            <p:cNvSpPr/>
            <p:nvPr/>
          </p:nvSpPr>
          <p:spPr>
            <a:xfrm flipH="1">
              <a:off x="5037840" y="3716280"/>
              <a:ext cx="1992960" cy="12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AutoShape 78"/>
            <p:cNvSpPr/>
            <p:nvPr/>
          </p:nvSpPr>
          <p:spPr>
            <a:xfrm>
              <a:off x="5568120" y="4076640"/>
              <a:ext cx="930600" cy="43200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3" name="Line 79"/>
            <p:cNvSpPr/>
            <p:nvPr/>
          </p:nvSpPr>
          <p:spPr>
            <a:xfrm flipH="1">
              <a:off x="4903920" y="4508640"/>
              <a:ext cx="66384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4" name="Line 80"/>
            <p:cNvSpPr/>
            <p:nvPr/>
          </p:nvSpPr>
          <p:spPr>
            <a:xfrm flipH="1">
              <a:off x="3840120" y="4508640"/>
              <a:ext cx="13320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413856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роектирование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бочего мест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16000" y="2205000"/>
            <a:ext cx="731376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Анализ должности: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сбор информации о содержании должности в контексте её функционирования и о взаимоотношениях с другими должностями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анализ и систематизация собранной информации;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представление проанализированной информации в последовательной и логически связанной форме (создание описания должности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37782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Критерии оценки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олжност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7528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знания и умения (ноу-хау) – уровень требуемых технических, управленческих и прочих специальных знаний, навыков общения, необходимых для успешной работы в должности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решение проблем (problem solving) – степень сложности проблем и свободы принимаемых решений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ответственность (accountability) – уровень решений, принимаемых в процессе работы, и их потенциальное влияние на результаты работы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компании (свобода действий, степень и зона влияния на финансовый результат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327312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тсталая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рганизаци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413" name="Picture 3" descr="org_losing_9signs_6x4_ru"/>
          <p:cNvPicPr/>
          <p:nvPr/>
        </p:nvPicPr>
        <p:blipFill>
          <a:blip r:embed="rId1"/>
          <a:srcRect l="0" t="14047" r="0" b="0"/>
          <a:stretch/>
        </p:blipFill>
        <p:spPr>
          <a:xfrm>
            <a:off x="1619280" y="1700280"/>
            <a:ext cx="6348240" cy="409248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514656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Цели организационного проектировани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8424720" cy="4554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Создать организационную структуру в соответствии с бизнес стратегией компании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Привести к единому знаменателю организационную структуру в управляющей компании и обособленных бизнес-единицах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Оптимизировать бизнес-процессы внутри организации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Распределить полномочия и ответственность между подразделениями и сотрудниками компании («матрица ответственности»)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Унифицировать штатное расписание и создать единую систему  стимулирования во всех бизнес-единицах компании (премии, завязанные на индивидуальные оценочные показатели, и базовые оклады в соответствии с системой грейдов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4895640" cy="10731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Элементы структуры управлени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8137440" cy="4690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Звенья – графическое изображение должности работника, наименование подразделения или выполняемой функции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Связь – графическое изображение траектории взаимодействия работников. Связи принято подразделять на несколько видов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- горизонтальные и вертикальные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- линейные и функциональные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- формальные и неформальные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- прямые и косвенны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Под уровнем управления понимают вертикальное расположение звена относительно высшего для данной организации органа управления или должностного лиц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396072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Организационная структур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280" y="2349360"/>
            <a:ext cx="828036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6666"/>
                </a:solidFill>
                <a:latin typeface="Verdana"/>
              </a:rPr>
              <a:t>Организационная структура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 (англ. Organizational structure) — совокупность способов, посредством которых процесс труда сначала разделяется на отдельные рабочие задачи, а затем достигается координация действий по решению задач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6666"/>
                </a:solidFill>
                <a:latin typeface="Verdana"/>
              </a:rPr>
              <a:t>Организационная структура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 определяет распределение ответственности и полномочий внутри организаци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Оргструктура отображается в виде </a:t>
            </a:r>
            <a:r>
              <a:rPr b="1" lang="ru-RU" sz="2100" spc="-1" strike="noStrike">
                <a:solidFill>
                  <a:srgbClr val="006666"/>
                </a:solidFill>
                <a:latin typeface="Verdana"/>
              </a:rPr>
              <a:t>органиграммы (англ. organigram) — графической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 схемы, элементами которой являются иерархически упорядоченные организационные единицы (подразделения, должностные позиции)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02920" y="333000"/>
            <a:ext cx="482436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Иерархический тип структур управления </a:t>
            </a:r>
            <a:br>
              <a:rPr sz="3200"/>
            </a:br>
            <a:r>
              <a:rPr b="1" i="1" lang="en-US" sz="1200" spc="-1" strike="noStrike">
                <a:solidFill>
                  <a:srgbClr val="006666"/>
                </a:solidFill>
                <a:latin typeface="Arial"/>
              </a:rPr>
              <a:t>М.Вебер концепция рациональной бюрократии</a:t>
            </a:r>
            <a:endParaRPr b="0" lang="en-US" sz="1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0920" y="1989000"/>
            <a:ext cx="8064360" cy="4176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ринцип иерархичности уровней управления, при котором каждый нижестоящий уровень контролируется вышестоящим и подчиняется ему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ринцип соответствия полномочий и ответственности работников управления месту в иерархии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ринцип разделения труда на отдельные функции и специализации работников по выполняемым функциям; принцип формализации и стандартизации деятельности, обеспечивающий однородность выполнения работниками своих обязанностей и скоординированность различных задач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ринцип обезличенности выполнения работниками своих функций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ринцип квалификационного отбора, в соотвествии с которым найм и увольнение с работы производится в строгом соответствии с квалификационными требованиями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597708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Линейная организационная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труктур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Picture 5" descr="iso9000-13"/>
          <p:cNvPicPr/>
          <p:nvPr/>
        </p:nvPicPr>
        <p:blipFill>
          <a:blip r:embed="rId1"/>
          <a:stretch/>
        </p:blipFill>
        <p:spPr>
          <a:xfrm>
            <a:off x="2627280" y="1552680"/>
            <a:ext cx="4762440" cy="53053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372360" y="26028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56880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Характеристики линейной структур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560" y="2133360"/>
            <a:ext cx="8713800" cy="453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Преимущества линейной структуры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четкая система взаимных связей функций и подразделений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четкая система единоначалия - один руководитель сосредотачивает в своих руках руководство всей совокупностью процессов, имеющих общую цель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ясно выраженная ответственность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быстрая реакция исполнительных подразделений на прямые указания вышестоящих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Недостатки линейной структуры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отсутствие звеньев, занимающихся вопросами стратегического планирования; в работе руководителей практически всех уровней оперативные проблемы ("текучка") доминирует над стратегическими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тенденция к волоките и перекладыванию ответственности при решении проблем, требующих участия нескольких подразделений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малая гибкость и приспособляемость к изменению ситуации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критерии эффективности и качества работы подразделений и организации в целом - разные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тенденция к формализации оценки эффективности и качества работы подразделений приводит обычно к возникновению атмосферы страха и разобщенности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большое число "этажей управления" между работниками, выпускающими продукцию, и лицом, принимающим решение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перегрузка управленцев верхнего уровня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повышенная зависимость результатов работы организации от квалификации, личных и деловых качеств высших управленцев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5T17:25:46Z</dcterms:created>
  <dc:creator>Елена</dc:creator>
  <dc:description/>
  <dc:language>en-US</dc:language>
  <cp:lastModifiedBy>Vladimir</cp:lastModifiedBy>
  <dcterms:modified xsi:type="dcterms:W3CDTF">2017-08-17T05:54:58Z</dcterms:modified>
  <cp:revision>21</cp:revision>
  <dc:subject/>
  <dc:title>Слайд 1</dc:title>
</cp:coreProperties>
</file>